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26D-789D-44FA-9DFD-75FF6279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9F32-5300-4C7A-AA7E-2447CF2A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1150-0D04-4CA2-AF76-DFF1D47A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7FB-F310-4CDF-95D0-B6FBCF4F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0CB9-55C7-43EC-9BC6-62BB3C55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A50-B464-418A-851F-303E2525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C56B-DA31-4AAF-86AD-1CA0E961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812-C91B-498C-9BD1-FAF12B74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D8E-9E2C-4EB7-8CBF-F9EFDB8B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5CD5-468A-4F36-970F-CFAC97DC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562-D687-41B6-88EA-2FD1EFED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DE05-4464-42E2-B873-6F513086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49D2-9731-4F3F-B3C3-6380E5B7C7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468" t="2763" r="2874" b="13043"/>
          <a:stretch/>
        </p:blipFill>
        <p:spPr>
          <a:xfrm>
            <a:off x="0" y="765000"/>
            <a:ext cx="7236000" cy="5169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387440"/>
            <a:ext cx="734544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RCICIOS RESUE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504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RCICIO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2060640"/>
            <a:ext cx="734544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o un cuadrado ABCD de lado 3 cm., se pide determinar la trans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= (T4T2T3T2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endo T1=H(Oi,2)     T2=R(Oi,45º)    T3=T(Ai,Ci)   T4=H(Oi, 0,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 O es el centro del cuadrado, AB es el lado del cuadrado; i es subíndice de la última trans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2637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4468" t="2763" r="2874" b="13043"/>
          <a:stretch/>
        </p:blipFill>
        <p:spPr>
          <a:xfrm>
            <a:off x="0" y="907920"/>
            <a:ext cx="7236000" cy="5026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1387440"/>
            <a:ext cx="734544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FORM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RCICIOS PARA DESARROLLAR EN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16000" y="501336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2060640"/>
          <a:ext cx="914400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914400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501336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24000" y="1557360"/>
          <a:ext cx="8280360" cy="29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57360"/>
                    <a:ext cx="828036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531504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3080" y="1197000"/>
          <a:ext cx="8531280" cy="40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197000"/>
                    <a:ext cx="853128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531504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755640" y="1111320"/>
          <a:ext cx="763272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11320"/>
                    <a:ext cx="763272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56023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755640" y="1268280"/>
          <a:ext cx="7632720" cy="43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68280"/>
                    <a:ext cx="763272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16000" y="56023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12720" y="1171440"/>
          <a:ext cx="8207280" cy="420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1171440"/>
                    <a:ext cx="8207280" cy="42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16000" y="56023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4920" y="1224000"/>
          <a:ext cx="889308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224000"/>
                    <a:ext cx="889308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6000" y="5602320"/>
            <a:ext cx="28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so 1: PENS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-36360" y="1052640"/>
          <a:ext cx="910908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1052640"/>
                    <a:ext cx="910908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00000" y="2060640"/>
            <a:ext cx="734544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o un cuadrado ABCD de lado 4 cm., se pide determinar la trans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= (T2 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endo T1=R(Oi,45º)     T2=T(Bi,D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 O es el centro del cuadrado, AB es el lado del cuadrado; i es subíndice de la última trans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8560" y="1504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RCICIO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267984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050920" y="1052640"/>
          <a:ext cx="49690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49690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98560" y="1504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RCICIO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2060640"/>
            <a:ext cx="734544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o un cuadrado ABCD de lado 2 cm., se pide determinar la trans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= (T2 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endo T1=H(A,1,5)     T2=R(A,45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 O es el centro del cuadrado, AB es el lado del cuadrado; i es subíndice de la última trans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267984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5689800" cy="4800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92360" y="1700280"/>
            <a:ext cx="863640" cy="7920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32360" y="4869000"/>
            <a:ext cx="863640" cy="7920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1504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RCICIO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2060640"/>
            <a:ext cx="734544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o un cuadrado ABCD de lado 3 cm., se pide determinar la trans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= (T4 (T3)  T2 (T1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endo T1=H(Bi,2)     T2=R(Bi)    T3=H(Di,-0,5)   T4=R(Bi,-45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 O es el centro del cuadrado, AB es el lado del cuadrado; i es subíndice de la última trans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7082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0560" y="270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270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16000" y="914400"/>
          <a:ext cx="6624720" cy="500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914400"/>
                    <a:ext cx="662472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5048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RCICIO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2060640"/>
            <a:ext cx="734544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o un pentágono ABCDE de lado 4 cm., se pide determinar la trans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= T4((T3)  T2(T1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endo T1=H(Ai,2)     T2=R(Ai)    T3=H(Ai, 0,5)   T4=R(Ai,90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 A es un vértice del pentágono, AB es el lado del pentágono; i es subíndice de la última transform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7640" y="270828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22560" y="27082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270828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54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CLO I.  TEORÍA DE LAS TRANSFORMACION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638028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 R O F ES O R A:  M I R T H A   P A L L A R É 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 Y U D A N T E : E L I S A B E T H   A V A L O S.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609300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19280" y="907920"/>
          <a:ext cx="5400720" cy="50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907920"/>
                    <a:ext cx="5400720" cy="50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13:28:16Z</dcterms:created>
  <dc:creator>Beth</dc:creator>
  <dc:description/>
  <dc:language>en-US</dc:language>
  <cp:lastModifiedBy>benjamin</cp:lastModifiedBy>
  <dcterms:modified xsi:type="dcterms:W3CDTF">2009-04-21T23:49:39Z</dcterms:modified>
  <cp:revision>116</cp:revision>
  <dc:subject/>
  <dc:title>Diapositiva 1</dc:title>
</cp:coreProperties>
</file>