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3F01-3C03-46B4-A4A9-C71B66B1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E11F-ED6A-4AED-A9B5-F1F91945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7DFF-7EF2-43D0-BCE4-51B8B412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157-703A-44CD-B197-8F8612C92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7F88-C0A5-4E01-A56B-8D2746F8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4272-AD64-4CD8-9E30-7F119D92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A23D-F31D-4F49-8FB8-29954C7B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C8AF-B771-453D-A0EE-7CA621DC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2313-1117-445F-9B5E-78DBA999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6C73-3B12-4798-A188-53DBB45E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E556-DAD5-43F3-AB78-596A0D00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866-04B0-4445-B365-1212D615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56D8-6204-471B-BD08-758FFDD2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F162-5321-4B39-BF82-7A6F38B1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92FC-EA90-4DA4-AB53-05654721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211D-4E98-431F-9BC0-582201DD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6272-C95E-42F9-9DAC-77DDECF71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F1B5-32CE-4A67-BEE0-56A219A5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0DD9-A590-4531-8113-CD3EC855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9BEE-4BEC-40A1-9F0F-852FC3AA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1CD-FC52-402B-83D1-814C4308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872D-592F-4248-979C-CE9620482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BE58-B0CB-4266-967B-B1AB0A53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5D71-5FAC-4247-A407-EF1552F6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A6A1-435B-4FEE-80AE-8D7085898CE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0000ff"/>
                </a:gs>
                <a:gs pos="100000">
                  <a:srgbClr val="0000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F726-7424-4F72-9B6A-CF0C45F9060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066680"/>
            <a:ext cx="863748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Derivational Processes involved in an NP</a:t>
            </a:r>
            <a:r>
              <a:rPr b="0" lang="es-MX" sz="4400" spc="-1" strike="noStrike" baseline="-25000">
                <a:solidFill>
                  <a:srgbClr val="ffffff"/>
                </a:solidFill>
                <a:latin typeface="Arial"/>
              </a:rPr>
              <a:t>ing </a:t>
            </a: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/ NP</a:t>
            </a:r>
            <a:r>
              <a:rPr b="0" lang="es-MX" sz="4400" spc="-1" strike="noStrike" baseline="-25000">
                <a:solidFill>
                  <a:srgbClr val="ffffff"/>
                </a:solidFill>
                <a:latin typeface="Arial"/>
              </a:rPr>
              <a:t>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9120" y="3239640"/>
            <a:ext cx="7359480" cy="25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s-MX" sz="4800" spc="-1" strike="noStrike">
                <a:solidFill>
                  <a:srgbClr val="ffffff"/>
                </a:solidFill>
                <a:latin typeface="Times New Roman"/>
              </a:rPr>
              <a:t>TRANSFORMATION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350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Types of Transform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1. Ad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2. Subtraction / Dele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3. Replacement / Substit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4. Movement / Permu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nice-looking’: Adj Phr or NP (or Nominal Complex) ?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8377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s-MX" sz="32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      [ </a:t>
            </a: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 looks nice] </a:t>
            </a: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(synthetic Prop)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44792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s-MX" sz="2600" spc="-1" strike="noStrike">
                <a:solidFill>
                  <a:srgbClr val="ffffff"/>
                </a:solidFill>
                <a:latin typeface="Times New Roman"/>
              </a:rPr>
              <a:t>(Prop 1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4382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s-MX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       [ </a:t>
            </a: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 has nice looks] </a:t>
            </a: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(analytical Prop)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2952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27432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6576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NP/RelCLfinite      [ </a:t>
            </a:r>
            <a:r>
              <a:rPr b="0" lang="es-MX" sz="2600" spc="-1" strike="noStrike">
                <a:solidFill>
                  <a:srgbClr val="ff0033"/>
                </a:solidFill>
                <a:latin typeface="Arial"/>
              </a:rPr>
              <a:t>[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x</a:t>
            </a:r>
            <a:r>
              <a:rPr b="0" lang="es-MX" sz="2600" spc="-1" strike="noStrike">
                <a:solidFill>
                  <a:srgbClr val="ff0033"/>
                </a:solidFill>
                <a:latin typeface="Arial"/>
              </a:rPr>
              <a:t>]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 [THAT] has nice looks]</a:t>
            </a:r>
            <a:r>
              <a:rPr b="0" lang="es-MX" sz="2600" spc="-1" strike="noStrike">
                <a:solidFill>
                  <a:srgbClr val="ff0033"/>
                </a:solidFill>
                <a:latin typeface="Arial"/>
              </a:rPr>
              <a:t> (identifier)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NP/PP      [ 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[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x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]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[WITH]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 nice looks]</a:t>
            </a:r>
            <a:r>
              <a:rPr b="0" lang="es-MX" sz="2600" spc="-1" strike="noStrike">
                <a:solidFill>
                  <a:srgbClr val="ff0033"/>
                </a:solidFill>
                <a:latin typeface="Arial"/>
              </a:rPr>
              <a:t> (identifier)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019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NP/NP</a:t>
            </a:r>
            <a:r>
              <a:rPr b="0" lang="es-MX" sz="3200" spc="-1" strike="noStrike" baseline="-25000">
                <a:solidFill>
                  <a:srgbClr val="ff0033"/>
                </a:solidFill>
                <a:latin typeface="Arial"/>
              </a:rPr>
              <a:t>ing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      [...nice-looking... 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[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x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]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]</a:t>
            </a:r>
            <a:r>
              <a:rPr b="0" lang="es-MX" sz="2600" spc="-1" strike="noStrike">
                <a:solidFill>
                  <a:srgbClr val="ff0033"/>
                </a:solidFill>
                <a:latin typeface="Arial"/>
              </a:rPr>
              <a:t> (identifier)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48640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s-MX" sz="3200" spc="-1" strike="noStrike" baseline="-25000">
                <a:solidFill>
                  <a:srgbClr val="ffffff"/>
                </a:solidFill>
                <a:latin typeface="Arial"/>
              </a:rPr>
              <a:t>                                       descriptor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715000"/>
            <a:ext cx="0" cy="304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8862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670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s-MX" sz="3200" spc="-1" strike="noStrike" baseline="-25000">
                <a:solidFill>
                  <a:srgbClr val="ffffff"/>
                </a:solidFill>
                <a:latin typeface="Arial"/>
              </a:rPr>
              <a:t>synthetic specifier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495680"/>
            <a:ext cx="0" cy="304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1240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Arial"/>
              </a:rPr>
              <a:t>2                                                          </a:t>
            </a:r>
            <a:r>
              <a:rPr b="0" lang="es-MX" sz="3200" spc="-1" strike="noStrike" baseline="-25000">
                <a:solidFill>
                  <a:srgbClr val="ffffff"/>
                </a:solidFill>
                <a:latin typeface="Arial"/>
              </a:rPr>
              <a:t>analytical specifi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3276720"/>
            <a:ext cx="0" cy="380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0574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s-MX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3300"/>
                </a:solidFill>
                <a:latin typeface="Arial"/>
              </a:rPr>
              <a:t>   [HAVE]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2057400"/>
            <a:ext cx="0" cy="304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40384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1814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761760"/>
            <a:ext cx="8761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nice-looking’: Adj or NP (or Nominal Complex)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5238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s-MX" sz="32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      [ [x] looks nice] </a:t>
            </a: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(analytical Prop)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362320"/>
            <a:ext cx="91440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s-MX" sz="2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placement of V [LOOK] by N [LOOK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ddition of basic V [HAVE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ovement of Adj Phr [NICE] to a position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before N [LOOK] in order to make up a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NP (‘nice looks’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514600"/>
            <a:ext cx="0" cy="8380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105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s-MX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       [ [x] has nice looks] </a:t>
            </a: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(synthetic Prop)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1828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548640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5335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s-MX" sz="32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       [ [x] has nice looks] </a:t>
            </a: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(synthetic Prop)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44792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ddition of Cl marker [THAT] as part of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the Pred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6668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NP/RelCLfinite      [ [x] [THAT] has nice looks]</a:t>
            </a:r>
            <a:r>
              <a:rPr b="0" lang="es-MX" sz="2600" spc="-1" strike="noStrike">
                <a:solidFill>
                  <a:srgbClr val="ff0033"/>
                </a:solidFill>
                <a:latin typeface="Arial"/>
              </a:rPr>
              <a:t> (identifier)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812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letion of syntactic VP / Pdtor [HAVE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placement of Cl marker [THAT] b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P marker [WITH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3341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NP/PP      [ [x] [WITH] nice looks]</a:t>
            </a:r>
            <a:r>
              <a:rPr b="0" lang="es-MX" sz="2600" spc="-1" strike="noStrike">
                <a:solidFill>
                  <a:srgbClr val="ff0033"/>
                </a:solidFill>
                <a:latin typeface="Arial"/>
              </a:rPr>
              <a:t> (identifier)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8380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676520"/>
            <a:ext cx="0" cy="3808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666880" y="297180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809880"/>
            <a:ext cx="0" cy="5335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56386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6094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NP/PP      [ [x] 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[WITH]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 nice looks]</a:t>
            </a:r>
            <a:r>
              <a:rPr b="0" lang="es-MX" sz="2600" spc="-1" strike="noStrike">
                <a:solidFill>
                  <a:srgbClr val="ff0033"/>
                </a:solidFill>
                <a:latin typeface="Arial"/>
              </a:rPr>
              <a:t> (identifier)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91440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1295280"/>
            <a:ext cx="8915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placement of the plurality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orpheme [S] of N ‘looks’ by [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ø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Replacement of Prep [WITH] by post-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flexion [ING] (attachment of Post-Flexion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[ING] to N ‘look’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Movement of NP</a:t>
            </a:r>
            <a:r>
              <a:rPr b="0" lang="es-MX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ng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[NICE-LOOKING] to a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osition before [X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800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NP/NP</a:t>
            </a:r>
            <a:r>
              <a:rPr b="0" lang="es-MX" sz="3200" spc="-1" strike="noStrike" baseline="-25000">
                <a:solidFill>
                  <a:srgbClr val="ff0033"/>
                </a:solidFill>
                <a:latin typeface="Arial"/>
              </a:rPr>
              <a:t>ing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      [...nice-looking... [x]] </a:t>
            </a:r>
            <a:r>
              <a:rPr b="0" lang="es-MX" sz="2600" spc="-1" strike="noStrike">
                <a:solidFill>
                  <a:srgbClr val="ff0033"/>
                </a:solidFill>
                <a:latin typeface="Arial"/>
              </a:rPr>
              <a:t>(identifier)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90720" y="1523880"/>
            <a:ext cx="0" cy="83844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51055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NP / NP-</a:t>
            </a:r>
            <a:r>
              <a:rPr b="0" lang="es-MX" sz="4400" spc="-1" strike="noStrike" baseline="-25000">
                <a:solidFill>
                  <a:srgbClr val="ffffff"/>
                </a:solidFill>
                <a:latin typeface="Arial"/>
              </a:rPr>
              <a:t>ed</a:t>
            </a: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 : ‘red-haired’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2133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36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s-MX" sz="36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s-MX" sz="3600" spc="-1" strike="noStrike">
                <a:solidFill>
                  <a:srgbClr val="ff3300"/>
                </a:solidFill>
                <a:latin typeface="Arial"/>
              </a:rPr>
              <a:t>      [ 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es-MX" sz="36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0" lang="es-MX" sz="3600" spc="-1" strike="noStrike">
                <a:solidFill>
                  <a:srgbClr val="ff3300"/>
                </a:solidFill>
                <a:latin typeface="Arial"/>
              </a:rPr>
              <a:t> has red hair] 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(synthetic Prop)</a:t>
            </a: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9718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                                                                analytical specifier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5053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NP/RelCLfinite      [ 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[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x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] </a:t>
            </a:r>
            <a:r>
              <a:rPr b="0" lang="es-MX" sz="3200" spc="-1" strike="noStrike" baseline="30000">
                <a:solidFill>
                  <a:srgbClr val="ff0033"/>
                </a:solidFill>
                <a:latin typeface="Arial"/>
              </a:rPr>
              <a:t>[</a:t>
            </a:r>
            <a:r>
              <a:rPr b="1" lang="es-MX" sz="3200" spc="-1" strike="noStrike" baseline="30000">
                <a:solidFill>
                  <a:srgbClr val="ff0033"/>
                </a:solidFill>
                <a:latin typeface="Arial"/>
              </a:rPr>
              <a:t>THAT</a:t>
            </a:r>
            <a:r>
              <a:rPr b="0" lang="es-MX" sz="3200" spc="-1" strike="noStrike" baseline="30000">
                <a:solidFill>
                  <a:srgbClr val="ff0033"/>
                </a:solidFill>
                <a:latin typeface="Arial"/>
              </a:rPr>
              <a:t>]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 has red hair 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46483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NP/PP      [ 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[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x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]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[WITH] 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red hair]</a:t>
            </a:r>
            <a:r>
              <a:rPr b="0" lang="es-MX" sz="2600" spc="-1" strike="noStrike">
                <a:solidFill>
                  <a:srgbClr val="ff0033"/>
                </a:solidFill>
                <a:latin typeface="Arial"/>
              </a:rPr>
              <a:t> (identifier)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7913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NP/Np</a:t>
            </a:r>
            <a:r>
              <a:rPr b="0" lang="es-MX" sz="3600" spc="-1" strike="noStrike" baseline="-25000">
                <a:solidFill>
                  <a:srgbClr val="ff0033"/>
                </a:solidFill>
                <a:latin typeface="Arial"/>
              </a:rPr>
              <a:t>ed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     [... red-hair[ed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]...[X]]</a:t>
            </a:r>
            <a:r>
              <a:rPr b="0" lang="es-MX" sz="2600" spc="-1" strike="noStrike">
                <a:solidFill>
                  <a:srgbClr val="ff0033"/>
                </a:solidFill>
                <a:latin typeface="Arial"/>
              </a:rPr>
              <a:t> (identifier)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03848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s-MX" sz="3200" spc="-1" strike="noStrike" baseline="-25000">
                <a:solidFill>
                  <a:srgbClr val="ffffff"/>
                </a:solidFill>
                <a:latin typeface="Arial"/>
              </a:rPr>
              <a:t>synthetic specifier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1814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0" lang="es-MX" sz="3200" spc="-1" strike="noStrike" baseline="-25000">
                <a:solidFill>
                  <a:srgbClr val="ffffff"/>
                </a:solidFill>
                <a:latin typeface="Arial"/>
              </a:rPr>
              <a:t>descriptor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25146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3048120"/>
            <a:ext cx="0" cy="30456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3809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120" y="4267080"/>
            <a:ext cx="0" cy="304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388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410080"/>
            <a:ext cx="0" cy="3049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28800" y="6095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304920"/>
            <a:ext cx="7772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NP / NP-</a:t>
            </a:r>
            <a:r>
              <a:rPr b="0" lang="es-MX" sz="4400" spc="-1" strike="noStrike" baseline="-25000">
                <a:solidFill>
                  <a:srgbClr val="ffffff"/>
                </a:solidFill>
                <a:latin typeface="Arial"/>
              </a:rPr>
              <a:t>ed</a:t>
            </a:r>
            <a:r>
              <a:rPr b="0" lang="es-MX" sz="4400" spc="-1" strike="noStrike">
                <a:solidFill>
                  <a:srgbClr val="ffffff"/>
                </a:solidFill>
                <a:latin typeface="Arial"/>
              </a:rPr>
              <a:t> : ‘red-haired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447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0" lang="es-MX" sz="32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      [ </a:t>
            </a: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0" lang="es-MX" sz="3200" spc="-1" strike="noStrike">
                <a:solidFill>
                  <a:srgbClr val="ff3300"/>
                </a:solidFill>
                <a:latin typeface="Arial"/>
              </a:rPr>
              <a:t> has red hair] </a:t>
            </a:r>
            <a:r>
              <a:rPr b="0" lang="es-MX" sz="2800" spc="-1" strike="noStrike">
                <a:solidFill>
                  <a:srgbClr val="ff3300"/>
                </a:solidFill>
                <a:latin typeface="Arial"/>
              </a:rPr>
              <a:t>(synthetic Prop)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18288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20968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ddition / insertion of Cl marker [THAT]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s part of the Predi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362320"/>
            <a:ext cx="0" cy="60948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NP/RelCLfinite      [ 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[X] </a:t>
            </a:r>
            <a:r>
              <a:rPr b="0" lang="es-MX" sz="3200" spc="-1" strike="noStrike" baseline="30000">
                <a:solidFill>
                  <a:srgbClr val="ff0033"/>
                </a:solidFill>
                <a:latin typeface="Arial"/>
              </a:rPr>
              <a:t>[</a:t>
            </a:r>
            <a:r>
              <a:rPr b="1" lang="es-MX" sz="3200" spc="-1" strike="noStrike" baseline="30000">
                <a:solidFill>
                  <a:srgbClr val="ff0033"/>
                </a:solidFill>
                <a:latin typeface="Arial"/>
              </a:rPr>
              <a:t>THAT</a:t>
            </a:r>
            <a:r>
              <a:rPr b="0" lang="es-MX" sz="3200" spc="-1" strike="noStrike" baseline="30000">
                <a:solidFill>
                  <a:srgbClr val="ff0033"/>
                </a:solidFill>
                <a:latin typeface="Arial"/>
              </a:rPr>
              <a:t>]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 has red hair 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9718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8862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placement of Cl marker [THAT] by PP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arker (Prep [WITH]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letion of Syntactic VP / Pdtor [HAS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4864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NP/PP      [ 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[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x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]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[WITH]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 red hair]</a:t>
            </a:r>
            <a:r>
              <a:rPr b="0" lang="es-MX" sz="2600" spc="-1" strike="noStrike">
                <a:solidFill>
                  <a:srgbClr val="ff0033"/>
                </a:solidFill>
                <a:latin typeface="Arial"/>
              </a:rPr>
              <a:t> (identifier)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114800"/>
            <a:ext cx="0" cy="762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6094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NP/PP      [ 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[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x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]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[WITH] 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red hair]</a:t>
            </a:r>
            <a:r>
              <a:rPr b="0" lang="es-MX" sz="2600" spc="-1" strike="noStrike">
                <a:solidFill>
                  <a:srgbClr val="ff0033"/>
                </a:solidFill>
                <a:latin typeface="Arial"/>
              </a:rPr>
              <a:t> (identifier)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5238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s-MX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Replacement of Prep [WITH] by post-flexion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[ED] (attachment of Post-flex [ED] t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N [HAIR]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Movement of NP</a:t>
            </a:r>
            <a:r>
              <a:rPr b="0" lang="es-MX" sz="3200" spc="-1" strike="noStrike" baseline="-25000">
                <a:solidFill>
                  <a:srgbClr val="ffffff"/>
                </a:solidFill>
                <a:latin typeface="Arial"/>
              </a:rPr>
              <a:t>ed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[RED-HAIRED] to a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position before [X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26708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NP/Np</a:t>
            </a:r>
            <a:r>
              <a:rPr b="0" lang="es-MX" sz="3600" spc="-1" strike="noStrike" baseline="-25000">
                <a:solidFill>
                  <a:srgbClr val="ff0033"/>
                </a:solidFill>
                <a:latin typeface="Arial"/>
              </a:rPr>
              <a:t>ed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     [... red-hair</a:t>
            </a:r>
            <a:r>
              <a:rPr b="0" lang="es-MX" sz="2800" spc="-1" strike="noStrike">
                <a:solidFill>
                  <a:srgbClr val="ff0033"/>
                </a:solidFill>
                <a:latin typeface="Arial"/>
              </a:rPr>
              <a:t>[ed]...[X]</a:t>
            </a:r>
            <a:r>
              <a:rPr b="0" lang="es-MX" sz="3200" spc="-1" strike="noStrike">
                <a:solidFill>
                  <a:srgbClr val="ff0033"/>
                </a:solidFill>
                <a:latin typeface="Arial"/>
              </a:rPr>
              <a:t>]</a:t>
            </a:r>
            <a:r>
              <a:rPr b="0" lang="es-MX" sz="2600" spc="-1" strike="noStrike">
                <a:solidFill>
                  <a:srgbClr val="ff0033"/>
                </a:solidFill>
                <a:latin typeface="Arial"/>
              </a:rPr>
              <a:t> (identifier)</a:t>
            </a:r>
            <a:r>
              <a:rPr b="0" lang="es-MX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3880" y="9144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1752480"/>
            <a:ext cx="0" cy="76212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4572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2:59:48Z</dcterms:created>
  <dc:creator>María José</dc:creator>
  <dc:description/>
  <dc:language>en-US</dc:language>
  <cp:lastModifiedBy>FFH163</cp:lastModifiedBy>
  <dcterms:modified xsi:type="dcterms:W3CDTF">2008-08-28T14:02:01Z</dcterms:modified>
  <cp:revision>46</cp:revision>
  <dc:subject/>
  <dc:title>Derivational Process involved in an Np ing/ NP ed</dc:title>
</cp:coreProperties>
</file>