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CDE2-078F-4A1C-858A-C6CC7E8F608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FA3B-0D4A-49BD-AF02-5CF2F0EC544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271C-CF84-49EC-85FA-2A58FB73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B4D3-3D6A-44EE-BC81-B712F28F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9792-D32F-4179-B030-356CA4752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A963-35E8-4017-9397-60F4395B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0F63-05CF-4A82-A873-F14D3381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428D-E7FD-4573-8E6B-CF1C2A98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D55-83CE-41F4-944C-57427277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BC8C-95DA-4627-A8C7-10E07946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F3CB-AAE1-4053-8E58-0D53542E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0BF1-67A1-4AEB-862D-52C89A83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B705-611A-4708-B9AE-29305415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C0F0-DB18-4AA6-9EC2-D0AFE0FB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7661-6122-4EEE-A6B8-6F9187D5D20F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lorenacampos00@hotmail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udería vie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judería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travesía jud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travesía judí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CuadroTexto"/>
          <p:cNvSpPr/>
          <p:nvPr/>
        </p:nvSpPr>
        <p:spPr>
          <a:xfrm>
            <a:off x="357120" y="428760"/>
            <a:ext cx="821556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EFARAD: pensamiento y literatura en la formación de la cultura hispá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Unidad Académica: Centro de Estudios Juda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rofesores: Ana María Tapia, Jaime Moreno y Juana  Lorena Cam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rofesora invitada: Soledad Chá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artes (209) y Jueves (215) de 14:30 a 16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Coordinadora: Juana Lorena Cam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s-C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orenacampos00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fono  9771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lataforma:      www.u-cursos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14200" y="237600"/>
            <a:ext cx="835848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jetivos gener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conocer  Sefarad como parte fundamental en la formación de la cultura hispánica a través de sus aportes filosóficos, lingüísticos y literar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r los factores que permitieron  y/o bloquearon la convivencia multicultural de los judíos en la España medie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xionar en torno a los valores que hoy perduran de la cultura sefard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CuadroTexto"/>
          <p:cNvSpPr/>
          <p:nvPr/>
        </p:nvSpPr>
        <p:spPr>
          <a:xfrm>
            <a:off x="285840" y="428760"/>
            <a:ext cx="8429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jetivos específ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r los distintos aspectos del pensamiento judío que nacen en Sefarad y viven hasta el día de ho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ocer y disfrutar la literatura judeo españ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ender en el contexto judío, la simbiosis de literatura y filosofía/teolo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xionar en torno al concepto de mestizaje cul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500040" y="106200"/>
            <a:ext cx="785808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eni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ódulo I: LOS JUDÍOS Y SU ENTORNO FILOSÓ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construcción del o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puta de Barcel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más de Aqu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ódulo II: JUDÍOS EN 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dimensión de lo juda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tumbres y tradiciones judías en 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encuentro de tres cul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ción al pensamiento mí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ódulo III: LENGUA Y LITERATURA JUDEO ESPAÑ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literatura como representación social de judíos, moros y cristi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etas y teólog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romancero judeo español y su aporte a la lengua españ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farad en la narrativa hispanoamericana contemporán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179280" y="299160"/>
            <a:ext cx="8964720" cy="64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ectura 1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2 de septiembr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ectura 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21 de octubre         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asistencia                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osición Final en PPT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18 /27 nov.                3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7:21:42Z</dcterms:created>
  <dc:creator>Juana Lorena Campos Bustos</dc:creator>
  <dc:description/>
  <dc:language>en-US</dc:language>
  <cp:lastModifiedBy>Juana Lorena Campos Bustos</cp:lastModifiedBy>
  <dcterms:modified xsi:type="dcterms:W3CDTF">2008-08-13T16:14:53Z</dcterms:modified>
  <cp:revision>9</cp:revision>
  <dc:subject/>
  <dc:title>Diapositiva 1</dc:title>
</cp:coreProperties>
</file>