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4D70-6EA7-480C-B043-3DD350BB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BEB7-876B-460A-A0A8-305B7D0DB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639F-B19D-478F-91DF-ABC9E42B2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4745-D407-4F37-B0E4-29B87570E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FFCFB-759A-4014-BDEA-6339BED47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B897-DC1F-4C18-939C-EE2887E12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56FF-9EC6-4C0F-B6A1-43EB2FFC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D521-974B-4A26-A8B7-135C2AB9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FF99F-10A4-4CB0-B909-E4A1B4F2B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B3D8E-660E-465C-BC48-7E06BDEF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588B-3CCF-4456-9972-8C5789D4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EAD9-1612-4644-9090-FB699DDE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433D-57D2-489A-AC0A-A727A446A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8421-4971-46A0-A9F9-C9512646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55D1C-8FE4-4C2C-8C0D-C2195B2D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CEAD7-0229-4FE6-801F-B7DB6FBE3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F4E0-D972-442D-89C9-1A57325A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7992-27F9-4D65-A591-22EC734D1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F20A-224F-4EEC-B417-EBAF68E0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10F3-1EBA-44B6-8B8C-061AE2A0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866C-4124-4304-9B14-3709E63D9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F1D7-E8FB-4DAC-9925-B7EC7C6F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C139-597B-4425-A337-901F57E9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DAF8-A43F-446C-A5A0-7B487741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CFF6-C687-4EB8-8CF7-94095BBF8310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9125D-C989-448F-AD37-42198E2ECEE1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0066"/>
                </a:solidFill>
                <a:latin typeface="Arial"/>
              </a:rPr>
              <a:t>Sociolingüística</a:t>
            </a:r>
            <a:br>
              <a:rPr sz="4800"/>
            </a:br>
            <a:r>
              <a:rPr b="1" lang="es-CL" sz="4800" spc="-1" strike="noStrike">
                <a:solidFill>
                  <a:srgbClr val="330066"/>
                </a:solidFill>
                <a:latin typeface="Arial"/>
              </a:rPr>
              <a:t>Variedad lingüístic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belardo San Martí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Variedad lingüística: lengua, dialecto y actitu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enguas en contacto: el contacto de lenguas y culturas es más frecuent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vergencia / Divergenc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roblemática de la diferenciación entre lengua y dial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ciden concepciones pre-científicas que reflejan las actitudes de los hablan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Variedad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Variedad geográfica (dialect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Variedad social (sociolect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Variedad funcional (estil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Variedad especializada (jerg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erspectiva dinámica de la variación lingüís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Perspectiva dinámic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Repertorio verbal (Fishman): conjunto de variedades que maneja el hablant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ctitudes determinan lo que se considera lengua o dialec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námica social crea las actitudes: prestigio y desprestigio (estigmatización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Inter-influencia entre variedad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500" spc="-1" strike="noStrike">
                <a:solidFill>
                  <a:srgbClr val="330066"/>
                </a:solidFill>
                <a:latin typeface="Arial"/>
              </a:rPr>
              <a:t>Características de las variedades lingüísticas (Stewart)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457200" y="1600200"/>
          <a:ext cx="8229600" cy="5091120"/>
        </p:xfrm>
        <a:graphic>
          <a:graphicData uri="http://schemas.openxmlformats.org/drawingml/2006/table">
            <a:tbl>
              <a:tblPr/>
              <a:tblGrid>
                <a:gridCol w="658800"/>
                <a:gridCol w="719280"/>
                <a:gridCol w="720720"/>
                <a:gridCol w="720720"/>
                <a:gridCol w="3600360"/>
                <a:gridCol w="1809720"/>
              </a:tblGrid>
              <a:tr h="565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acterística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 de varieda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ímbol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m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ásic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ificia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nácul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lect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oll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dgi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Características: Normativid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1. Normatividad y estandarización: codificación y aceptación, por parte de una comunidad de usuarios, de un sistema formal de normas que definen el uso “correcto”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odificación: instituciones (Academias, Universidades, Ministerio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Norma (estándar): variedad codificada (fijada o estabilizad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Monocéntrica/policént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Endonormativa/exonormati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Características: Autonomía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2. Autonomía: propiedad que socialmente hace del sistema lingüístico un sistema único e independiente (no depende de otro para ciertas funciones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existencia de lenguas emparentadas y en situación de diglosia (gallego-españo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ialecto: no autónomo respecto de lengu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Características: Historicid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3. Historicidad: propiedad de un sistema lingüístico que le confiere un desarrollo normal a través del tiemp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Concepto asociado con “antigüedad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itos: “hebraísmo primitiv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rtificial: esperanto y volapü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idgin y criollos (kreole): lengua híbridas (mezcla de lenguas) que surgen en situaciones específicas de intercambi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Características: Vitalidad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4. Vitalidad: utilización del sistema lingüístico por una comunidad de hablantes nativos no aislad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Criollo tiene mayor vitalidad que el pidgin que es efíme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Lengua clásica: no tiene comunidad de hablantes nativos (uso restringido): griego, latín, árabe clásic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Vernacular: variedad que es la lengua materna (hablada) de una comunida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21:30:37Z</dcterms:created>
  <dc:creator>Abelardo San Martin</dc:creator>
  <dc:description/>
  <dc:language>en-US</dc:language>
  <cp:lastModifiedBy>Abelardo San Martin</cp:lastModifiedBy>
  <dcterms:modified xsi:type="dcterms:W3CDTF">2006-08-29T22:27:56Z</dcterms:modified>
  <cp:revision>3</cp:revision>
  <dc:subject/>
  <dc:title>Sociolingüística Variedad lingüística</dc:title>
</cp:coreProperties>
</file>