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A1037-86D6-4C7D-9085-AFD713C6F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52793-3552-4D6F-A889-BC9947E3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443C7-D696-49D4-97E9-DB7ED9925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9FFAE-040A-432C-87D8-E0861D32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A940-1D9F-42A3-BFDE-3E10EA58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A549-BC13-454F-A9DE-81113260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C7BB0-44B4-4153-BE77-FFE82B0F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F4831-05CA-400F-94CA-21CAFFB1C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DFE7-A930-43C0-9276-A153F021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4B890-EBE6-4622-8290-F66AE608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0CD3-0E3D-4595-A8C8-964F976C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40A19-60DC-49F4-A6ED-33EAD1688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46C2-25DE-410F-ABD6-AF9059C3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57B8-FDE5-48E3-9FA1-724FB7CB0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5B71-539B-48F1-82C4-EFC43DAA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934F-0331-43E1-8B91-5F5CD121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9EED-FAD0-42AA-8015-15A7505D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B5731-8543-4844-BF38-5415F38B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CAE71-9077-453B-AD26-FBFFE90E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6264A-0926-4833-9B3C-A4551F95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8B92B7-3754-4A3D-BB59-0D8810CB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26C96-5940-43F3-8317-75B911DD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B2C73-1353-4359-A714-486366A37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6507A-4353-4A14-A4A8-7795C2D2F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395D5-DD2A-4E6B-B81F-8B862DA7F8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D0A7-866C-4A62-B5D8-98C649BBED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ffffff"/>
                </a:solidFill>
                <a:latin typeface="Arial"/>
              </a:rPr>
              <a:t>Hipótesis deficitaria del lenguaje de Basil Bernstein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400" spc="-1" strike="noStrike">
                <a:solidFill>
                  <a:srgbClr val="000000"/>
                </a:solidFill>
                <a:latin typeface="Arial"/>
              </a:rPr>
              <a:t>Abelardo San Martí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Basil Berns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ociólogo britán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ociología del lenguaje aplicada a la edu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vestigación sobre el fracaso escolar de niños de clase obrera en Londres (Inglaterr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fer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1964) “Elaborated and restricted codes: their social origins and some consequences” en Jonh Gumperz y Dell Hymes (eds.)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The Etnography of Communnicatio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trad. esp. (1974) “Códigos amplios y restringidos: sus orígenes sociales y algunas consecuencias”, en Paul Garvin y Yolanda Lastra (eds.)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Antología de estudios de etnolingüística y sociolingüístic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Fundamen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elación entre estructura social, formas de habla y reglas de comporta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ceso de socialización del ni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enguaje  -  Estructura social  -   Hab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posibilidades)  (relaciones)  (selecc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relación social regula las selecciones verbales del hablante y origina códigos o sistemas de habla difer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Origen de los códigos: relación social no inteligencia inn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Noción y tipos de códi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ódigo: sistema de habla de acuerdo con las selecciones (estructura y vocabulario) de los hablan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ipos de código: amplio y restring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riterio: cantidad de opciones (gramaticales y léxicas) determina el grado de predicción de lo que se va a dec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Restringido: menor cantidad de alternativas = mayor predicción (menor planificación verb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Amplio: mayor cantidad de opciones = menor predicción (mayor planificación verba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nal verbal (palabras) / canal extraverbal (entonación, gestos y movimien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ódigo restring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intaxis simple: escasas alternativ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Vocabulario limitado: pocas opciones léx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ponente verbal altamente predec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mponente extraverbal es objeto de actividad perceptiva espe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formación nueva se transmite por canal extraverb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eseos particulares se transmiten por canal extraverb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rientado hacia el e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e subraya el estatus de la relación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ódigo refuerza la forma de relación soc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roducción de significados implícitos (comune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urge en grupos con intereses comunes y expectativas compartidas: comunidades cerradas como cárceles, unidades de combate, subculturas criminales, pandillas de niños y adolescentes, viejos matrimon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Conversación rápida, fluida y abundante: no hay autocorre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ucho sobreentendido: importa más el cómo que lo qué se d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bundancia de muletillas: ¿no es cierto?, ¿verdad?, ¿cachái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ódigo amp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ntaxis compleja: abundancia de altern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ocabulario variado: muchas opciones léx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ficultad para predecir lo que se va a dec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nificación lingüística que permite expresar individualidad personal (mundo interior o expectativas person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o existe mucho sobreentend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ducción de significados explícitos (individu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rientación hacia la persona (no el estat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onente verbal expresa la individualidad de la per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mponente verbal es objeto de actividad perceptiva espe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abla con mayor cantidad de pausas y titubeos  debido a la autocorrecció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nsecuencias so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obrera y clase media tienen acceso a código restringido (se utiliza en contextos de habla más familiares o inform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olo la clase media tiene acceso al código amp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la escuela se utiliza el código amplio = los niños de clase obrera fracasan en la escuela porque no utilizan el código ampl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 acceso a un determinado código moldea la relaciones afectivas y sociales del su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persona que utiliza un código amplio concibe al lenguaje como un conjunto de posibilidades que le permiten comunicar su experiencia 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05:34:49Z</dcterms:created>
  <dc:creator>Abelardo San Martin</dc:creator>
  <dc:description/>
  <dc:language>en-US</dc:language>
  <cp:lastModifiedBy>Abelardo San Martin</cp:lastModifiedBy>
  <dcterms:modified xsi:type="dcterms:W3CDTF">2007-09-26T06:44:28Z</dcterms:modified>
  <cp:revision>3</cp:revision>
  <dc:subject/>
  <dc:title>Hipótesis deficitaria del lenguaje de Basil Bernstein</dc:title>
</cp:coreProperties>
</file>