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4CB56-62B4-4482-A934-16CBA647E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B8A27-5495-4F90-99B8-A4ABD1C9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55B47-A47A-4667-A2CE-C00F49BC0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377FE-472E-4C29-8B14-06CBF009C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31D77-E484-48B2-8C83-8ED059320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9E451-7104-41C1-948C-61FF27BCB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23A42-145F-420D-8945-EEB7AC123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EF755-0D0E-49A5-A8D6-56266EF23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810CD-FBA9-4012-A3B6-D0A4A6C38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1B463-FDD3-4C7E-A1ED-EDB0035A2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B5543-769E-4D50-83E0-88AEB7216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6A6E6-EB23-43BC-8A00-8A22DC7C3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5950-4CB7-48BA-90B6-EDDE6FC5284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RAYMOND WILLIAM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ciología de la Cult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os posturas</a:t>
            </a:r>
            <a:endParaRPr b="0" lang="en-US" sz="3600" spc="-1" strike="noStrike">
              <a:solidFill>
                <a:srgbClr val="000000"/>
              </a:solidFill>
              <a:latin typeface="Arial"/>
            </a:endParaRPr>
          </a:p>
        </p:txBody>
      </p:sp>
      <p:sp>
        <p:nvSpPr>
          <p:cNvPr id="6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a.  posición idealista  (subraya el “espíritu conformador) y    b. posición materialista</a:t>
            </a:r>
            <a:r>
              <a:rPr b="0" lang="es-ES_tradnl" sz="2000" spc="-1" strike="noStrike">
                <a:solidFill>
                  <a:srgbClr val="000000"/>
                </a:solidFill>
                <a:latin typeface="Arial"/>
              </a:rPr>
              <a:t> (esta última refiere a una versión del “espiritu conformador” de todas maneras, pero </a:t>
            </a:r>
            <a:r>
              <a:rPr b="1" lang="es-ES_tradnl" sz="2000" spc="-1" strike="noStrike">
                <a:solidFill>
                  <a:srgbClr val="000000"/>
                </a:solidFill>
                <a:latin typeface="Arial"/>
              </a:rPr>
              <a:t>destaca un “orden social global”, producto directo o indirecto de un orden constituido por otras actividades socia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icaciones metodológicas</a:t>
            </a:r>
            <a:r>
              <a:rPr b="0" lang="es-ES_tradnl" sz="2000" spc="-1" strike="noStrike">
                <a:solidFill>
                  <a:srgbClr val="000000"/>
                </a:solidFill>
                <a:latin typeface="Arial"/>
              </a:rPr>
              <a:t>: La tendencia es a la </a:t>
            </a:r>
            <a:r>
              <a:rPr b="1" lang="es-ES_tradnl" sz="2000" spc="-1" strike="noStrike">
                <a:solidFill>
                  <a:srgbClr val="000000"/>
                </a:solidFill>
                <a:latin typeface="Arial"/>
              </a:rPr>
              <a:t>posición materialista</a:t>
            </a:r>
            <a:r>
              <a:rPr b="0" lang="es-ES_tradnl" sz="2000" spc="-1" strike="noStrike">
                <a:solidFill>
                  <a:srgbClr val="000000"/>
                </a:solidFill>
                <a:latin typeface="Arial"/>
              </a:rPr>
              <a:t> con un matiz: insistencia en  que </a:t>
            </a:r>
            <a:r>
              <a:rPr b="1" lang="es-ES_tradnl" sz="2000" spc="-1" strike="noStrike">
                <a:solidFill>
                  <a:srgbClr val="000000"/>
                </a:solidFill>
                <a:latin typeface="Arial"/>
              </a:rPr>
              <a:t>la “práctica cultural</a:t>
            </a:r>
            <a:r>
              <a:rPr b="0" lang="es-ES_tradnl" sz="2000" spc="-1" strike="noStrike">
                <a:solidFill>
                  <a:srgbClr val="000000"/>
                </a:solidFill>
                <a:latin typeface="Arial"/>
              </a:rPr>
              <a:t>” y </a:t>
            </a:r>
            <a:r>
              <a:rPr b="1" lang="es-ES_tradnl" sz="2000" spc="-1" strike="noStrike">
                <a:solidFill>
                  <a:srgbClr val="000000"/>
                </a:solidFill>
                <a:latin typeface="Arial"/>
              </a:rPr>
              <a:t>la “producción  cultural” no se derivan de un orden social, sino que son, en sí mismas, elementos esenciales en su propia constitució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ro en lugar del “espíritu conformador”, considera la cultura como “sistema significante a través del cual un orden social se comunica, se reproduce, se experimenta y se investiga. 1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 CONTRIBUCIONES DE LA SOCIOLOGIA OBSERVACIONAL</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texto Desarrollo de la PRENSA moderna, Del cine, de la radio y la televisión—</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L PUEBLO A LA MASA</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 LA SOCIEDAD CIVIL A LA SOCIEDAD DEL CONSUMO Y DEL ESPECTACULO</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udio de las instituciones sociales y económicas de la cultura, y las definiciones de sus “productos” </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udio de sus contenidos</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udio de sus efectos</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1 instituciones. </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2 El contenido. Hallazgos “meramente cuantitativos”, p. 18</a:t>
            </a:r>
            <a:endParaRPr b="0" lang="en-US" sz="2000" spc="-1" strike="noStrike">
              <a:solidFill>
                <a:srgbClr val="000000"/>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3 Los efectos. Estudios operacionales que estudian los efectos como indicadores de política interna y de decisiones de marketing: estudio de actitudes en la investigación de mercado, sondeos y encuestas de temas de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49000"/>
            <a:ext cx="8229600" cy="59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TRADICION ALTERNATIVA</a:t>
            </a:r>
            <a:endParaRPr b="0" lang="en-US" sz="2800" spc="-1" strike="noStrike">
              <a:solidFill>
                <a:srgbClr val="000000"/>
              </a:solidFill>
              <a:latin typeface="Arial"/>
            </a:endParaRPr>
          </a:p>
        </p:txBody>
      </p:sp>
      <p:sp>
        <p:nvSpPr>
          <p:cNvPr id="64" name="PlaceHolder 2"/>
          <p:cNvSpPr>
            <a:spLocks noGrp="1"/>
          </p:cNvSpPr>
          <p:nvPr>
            <p:ph/>
          </p:nvPr>
        </p:nvSpPr>
        <p:spPr>
          <a:xfrm>
            <a:off x="457200" y="2276640"/>
            <a:ext cx="8229600" cy="23047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CIONES SOCIALES DEL ART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ERIAL SOCIAL DE LAS OBRAS DE ART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ES SOCIALES EN LAS OBRAS DE A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CIONES SOCIALES DEL ARTE</a:t>
            </a:r>
            <a:endParaRPr b="0" lang="en-US" sz="3200" spc="-1" strike="noStrike">
              <a:solidFill>
                <a:srgbClr val="000000"/>
              </a:solidFill>
              <a:latin typeface="Arial"/>
            </a:endParaRPr>
          </a:p>
        </p:txBody>
      </p:sp>
      <p:sp>
        <p:nvSpPr>
          <p:cNvPr id="66" name="PlaceHolder 2"/>
          <p:cNvSpPr>
            <a:spLocks noGrp="1"/>
          </p:cNvSpPr>
          <p:nvPr>
            <p:ph/>
          </p:nvPr>
        </p:nvSpPr>
        <p:spPr>
          <a:xfrm>
            <a:off x="324000" y="2205000"/>
            <a:ext cx="8229600" cy="194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Antecedentes: bipolaridad fenómeno autotélico y reflej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 Lukács (69), Marcuse (78), Goldmann (6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 Material Social de las obras de ar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1 Código, Canal, Formas Expresivas, Semántica</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8"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Relaciones Sociales en las Obras de Art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º Material social preexistente--- T/Mediación---Obra</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º Ej. Kafka, </a:t>
            </a:r>
            <a:r>
              <a:rPr b="1" i="1" lang="es-ES" sz="1800" spc="-1" strike="noStrike">
                <a:solidFill>
                  <a:srgbClr val="000000"/>
                </a:solidFill>
                <a:latin typeface="Arial"/>
              </a:rPr>
              <a:t>El Proceso,</a:t>
            </a:r>
            <a:r>
              <a:rPr b="1" lang="es-ES" sz="1800" spc="-1" strike="noStrike">
                <a:solidFill>
                  <a:srgbClr val="000000"/>
                </a:solidFill>
                <a:latin typeface="Arial"/>
              </a:rPr>
              <a:t> a) mediación por proyección: un sistema social arbitrario e irracional no se describe directamente sino que se proyecta ..como extraño o ajen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b) como una mediación a través del descubrimiento de una “correlación objetiva”: situación +personajes expresan los sentimientos subjetivos o reales (culpa) de los que proviene el impulso original para la composició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  como mediación en tanto que función de los proceso sociales fundamentales de la conciencia, en la cual ciertas crisis que no pueden aprehenderse directamenta “cristalizan” en ciertas imágenes y formas que iluminan una condición social o pisicologica, no solo la alienación de Kafka sino una alienación gener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49360"/>
            <a:ext cx="8229600" cy="2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Black"/>
              </a:rPr>
              <a:t>iDEOLOGÍA</a:t>
            </a:r>
            <a:endParaRPr b="0" lang="en-US" sz="1800" spc="-1" strike="noStrike">
              <a:solidFill>
                <a:srgbClr val="000000"/>
              </a:solidFill>
              <a:latin typeface="Arial"/>
            </a:endParaRPr>
          </a:p>
        </p:txBody>
      </p:sp>
      <p:sp>
        <p:nvSpPr>
          <p:cNvPr id="7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C</a:t>
            </a:r>
            <a:r>
              <a:rPr b="1" lang="es-ES" sz="2400" spc="-1" strike="noStrike">
                <a:solidFill>
                  <a:srgbClr val="000000"/>
                </a:solidFill>
                <a:latin typeface="Arial"/>
              </a:rPr>
              <a:t>reencias formales y conscientes de un grupo o clase que indica principios grales o posiciones teóricas y/o dogm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 Visión del mundo o perspectiva general  de una clase o grupo, incluye creencias formales y conscientes, también actitudes, hábitos y sentimientos menos conscientes y formul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TA: APLICAR ORDEN IMAGINARIO Y ORDEN SIMBÓLICO, EL DESEO EN LA IDEOLOGÍA, LOS OBSTACULOS O CEGUERAS COGNITIV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Black"/>
              </a:rPr>
              <a:t>iDEOLOGÍA</a:t>
            </a:r>
            <a:endParaRPr b="0" lang="en-US" sz="2000" spc="-1" strike="noStrike">
              <a:solidFill>
                <a:srgbClr val="000000"/>
              </a:solidFill>
              <a:latin typeface="Arial"/>
            </a:endParaRPr>
          </a:p>
        </p:txBody>
      </p:sp>
      <p:sp>
        <p:nvSpPr>
          <p:cNvPr id="7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s físicos y materiales incluídos: a. elementos de ilustración activa, b. tipos de reinvención activa y descubrimiento exploratorio y c) tensión, contradicción o disidenc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s productivos en general: estados y obras dinámicas y re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batir: ideología como “experiencia ilusoria” en contraposición con la “ciencia” (althusser, 70,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5920"/>
            <a:ext cx="822960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EDIOS DE PRODUCCIÓN</a:t>
            </a:r>
            <a:endParaRPr b="0" lang="en-US" sz="2800" spc="-1" strike="noStrike">
              <a:solidFill>
                <a:srgbClr val="000000"/>
              </a:solidFill>
              <a:latin typeface="Arial"/>
            </a:endParaRPr>
          </a:p>
        </p:txBody>
      </p:sp>
      <p:sp>
        <p:nvSpPr>
          <p:cNvPr id="74"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ºExiste una historia social de la producción cultura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º Subestimación de los medios materiales de producción cultura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ºConsidera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laciones entre medios materiales y formas sociales de la cultur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laciones entre estos medios materiales y formas sociales y las formas artísticas específicas que constituyen una producción cultural manifiesta</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arrollo de recursos inherentes</a:t>
            </a:r>
            <a:endParaRPr b="0" lang="en-US" sz="4000" spc="-1" strike="noStrike">
              <a:solidFill>
                <a:srgbClr val="000000"/>
              </a:solidFill>
              <a:latin typeface="Arial"/>
            </a:endParaRPr>
          </a:p>
        </p:txBody>
      </p:sp>
      <p:sp>
        <p:nvSpPr>
          <p:cNvPr id="7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Danza, canto y habla (oralidad, oralitu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istemas de adiestramien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Usos de medios no-human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tilización o transformación de objetos y fuerzas materiales no-humanos implica relaciones sociales más complejas y vari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1 Combinación del uso de objetos externos con uso de recursos físicos; mascaras, disfra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2 Desarrollo de instrumen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3 selección, transformación y producción de objetos separables (arcilla, metales, piedr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8"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Dearrollo de sistemas materiales separables de significación creados para la significación cultural (escritu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5. Desarrollo de complejos sistemas teécnicos de amplificación, propagación y reproducción que posibilitan nuevas formas de presen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04280"/>
            <a:ext cx="8229600" cy="73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o</a:t>
            </a:r>
            <a:endParaRPr b="0" lang="en-US" sz="4000" spc="-1" strike="noStrike">
              <a:solidFill>
                <a:srgbClr val="000000"/>
              </a:solidFill>
              <a:latin typeface="Arial"/>
            </a:endParaRPr>
          </a:p>
        </p:txBody>
      </p:sp>
      <p:sp>
        <p:nvSpPr>
          <p:cNvPr id="8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o de forma de divisón entre “artistas “ y pùblico” se torna jerárqu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critura: adiestramiento, especialización, urbanización, estratif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mplificación, re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roducción  de imág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000" y="475920"/>
            <a:ext cx="821844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ciones sociales entre producción y reproducción social</a:t>
            </a:r>
            <a:endParaRPr b="0" lang="en-US" sz="2800" spc="-1" strike="noStrike">
              <a:solidFill>
                <a:srgbClr val="000000"/>
              </a:solidFill>
              <a:latin typeface="Arial"/>
            </a:endParaRPr>
          </a:p>
        </p:txBody>
      </p:sp>
      <p:sp>
        <p:nvSpPr>
          <p:cNvPr id="8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ciones de patronazgo y de mercado</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imetrías: a. organización de licencias, censura y otras formas de contro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organización del mercado 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laciones desiguales y cambiantes entre una cultura popular heredada y formas nuevas de producción y reproducción estandarizada y cada vez más centr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do y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ltura reproducida y pop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uevas formas de producción cultural, en grupo, nueva división del trabajo, propie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mas altern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8"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rco de los años sesenta y setenta,</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ácticas reales’, prácticas significantes:</a:t>
            </a:r>
            <a:r>
              <a:rPr b="1" i="1" lang="es-ES" sz="1800" spc="-1" strike="noStrike">
                <a:solidFill>
                  <a:srgbClr val="000000"/>
                </a:solidFill>
                <a:latin typeface="Arial"/>
              </a:rPr>
              <a:t> sistema significante realizado</a:t>
            </a:r>
            <a:r>
              <a:rPr b="1" lang="es-ES" sz="1800" spc="-1" strike="noStrike">
                <a:solidFill>
                  <a:srgbClr val="000000"/>
                </a:solidFill>
                <a:latin typeface="Arial"/>
              </a:rPr>
              <a:t>.</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álisis historicista de las configuraciones sociales (que cierto marxismo estructuralista había desechado), que a su vez contemple la cultura como prácticas significantes de producción simbólica y material, condicionadas por procesos institucionales y tecnológicos.</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a práctica cultural no se deriva simplemente de un orden social previo sino que es en sí misma un elemento social: , en lugar de comenzar del engañoso contraste entre lo “material” y lo “cultural”, debemos definir dos áreas de análisis: en primer lugar, las relaciones entre los medios materiales y las formas sociales en las que se utilizan y, en segundo lugar, las relaciones entre estos medios materiales y formas sociales, y las formas (artísticas) específicas que constituyen una producción cultural manifiesta</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niega a la idea de la cultura como una superestructura de una base material y productiva externa a ella: todo en el estudio de las relaciones sociales en las obras de arte, propone modificar o reemplazar la idea del “reflejo”</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Williams se resiste a suscribir ninguna determinación económica de lo simbólico y afirma que estas dimensiones (la económica y la cultural) son “indisolubles elementos de un mismo proceso social-material”.</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ferencia entre técnica y tecnología</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gencias, Instituciones, Canon, Tecnologías, Políticas cultur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stemas Significantes</a:t>
            </a:r>
            <a:endParaRPr b="0" lang="en-US" sz="4400" spc="-1" strike="noStrike">
              <a:solidFill>
                <a:srgbClr val="000000"/>
              </a:solidFill>
              <a:latin typeface="Arial"/>
            </a:endParaRPr>
          </a:p>
        </p:txBody>
      </p:sp>
      <p:sp>
        <p:nvSpPr>
          <p:cNvPr id="5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SIGNIFICANTE Y PRAXIS ESPECÍFICA QUE ABARCA DESDE EL LENGUAJE, LAS ARTS, LA FILOSOFÍA, EL PERIODISMO, LA MODA Y LA PUBLICIDAD 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2" name="PlaceHolder 2"/>
          <p:cNvSpPr>
            <a:spLocks noGrp="1"/>
          </p:cNvSpPr>
          <p:nvPr>
            <p:ph/>
          </p:nvPr>
        </p:nvSpPr>
        <p:spPr>
          <a:xfrm>
            <a:off x="468360" y="836640"/>
            <a:ext cx="8229600" cy="54720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S EECC SON UNA RAMA DE LA Sociología Cultura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és en </a:t>
            </a:r>
            <a:r>
              <a:rPr b="1" lang="es-ES_tradnl" sz="2800" spc="-1" strike="noStrike">
                <a:solidFill>
                  <a:srgbClr val="000000"/>
                </a:solidFill>
                <a:latin typeface="Arial"/>
              </a:rPr>
              <a:t>todos los sistemas significan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á preocupada por la </a:t>
            </a:r>
            <a:r>
              <a:rPr b="1" lang="es-ES_tradnl" sz="2800" spc="-1" strike="noStrike">
                <a:solidFill>
                  <a:srgbClr val="000000"/>
                </a:solidFill>
                <a:latin typeface="Arial"/>
              </a:rPr>
              <a:t>producción y las practicas culturales manifiestas con un “enfoque integ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a:t>
            </a:r>
            <a:r>
              <a:rPr b="1" lang="es-ES_tradnl" sz="2800" spc="-1" strike="noStrike">
                <a:solidFill>
                  <a:srgbClr val="000000"/>
                </a:solidFill>
                <a:latin typeface="Arial"/>
              </a:rPr>
              <a:t>sociología de nuevo tip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4" name="PlaceHolder 2"/>
          <p:cNvSpPr>
            <a:spLocks noGrp="1"/>
          </p:cNvSpPr>
          <p:nvPr>
            <p:ph/>
          </p:nvPr>
        </p:nvSpPr>
        <p:spPr>
          <a:xfrm>
            <a:off x="468360" y="765000"/>
            <a:ext cx="8229600" cy="4957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iNTRODUCC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MPO </a:t>
            </a:r>
            <a:r>
              <a:rPr b="1" i="1" lang="es-ES_tradnl" sz="2400" spc="-1" strike="noStrike">
                <a:solidFill>
                  <a:srgbClr val="000000"/>
                </a:solidFill>
                <a:latin typeface="Arial"/>
              </a:rPr>
              <a:t>TENSIONADO y DISCUTIBLE </a:t>
            </a:r>
            <a:r>
              <a:rPr b="1" lang="es-ES_tradnl" sz="2400" spc="-1" strike="noStrike">
                <a:solidFill>
                  <a:srgbClr val="000000"/>
                </a:solidFill>
                <a:latin typeface="Arial"/>
              </a:rPr>
              <a:t> DE SABERES</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ultura: un campo de temas “menores”:</a:t>
            </a:r>
            <a:r>
              <a:rPr b="0" lang="es-ES_tradnl" sz="2400" spc="-1" strike="noStrike">
                <a:solidFill>
                  <a:srgbClr val="000000"/>
                </a:solidFill>
                <a:latin typeface="Arial"/>
              </a:rPr>
              <a:t> literatura vs. industria; sociología de la familia o delincuencia, sociología de la religión, de la educación y del conocimie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aberes “nuevos”</a:t>
            </a:r>
            <a:r>
              <a:rPr b="0" lang="es-ES_tradnl" sz="2400" spc="-1" strike="noStrike">
                <a:solidFill>
                  <a:srgbClr val="000000"/>
                </a:solidFill>
                <a:latin typeface="Arial"/>
              </a:rPr>
              <a:t>: los medios de comunicación y posteriormente, las “artes”. Estudios    “marginales” o “periféricos” a la sociología “du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formula</a:t>
            </a:r>
            <a:r>
              <a:rPr b="0" lang="es-ES_tradnl" sz="2400" spc="-1" strike="noStrike">
                <a:solidFill>
                  <a:srgbClr val="000000"/>
                </a:solidFill>
                <a:latin typeface="Arial"/>
              </a:rPr>
              <a:t>r, </a:t>
            </a:r>
            <a:r>
              <a:rPr b="1" lang="es-ES_tradnl" sz="2400" spc="-1" strike="noStrike">
                <a:solidFill>
                  <a:srgbClr val="000000"/>
                </a:solidFill>
                <a:latin typeface="Arial"/>
              </a:rPr>
              <a:t>los procesos que conducen a culturas marginales y periféricos, o…como procesos sociales secundarios y derivados.</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mpo “replanteable</a:t>
            </a:r>
            <a:r>
              <a:rPr b="0"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6" name="PlaceHolder 2"/>
          <p:cNvSpPr>
            <a:spLocks noGrp="1"/>
          </p:cNvSpPr>
          <p:nvPr>
            <p:ph/>
          </p:nvPr>
        </p:nvSpPr>
        <p:spPr>
          <a:xfrm>
            <a:off x="468360" y="691920"/>
            <a:ext cx="8229600" cy="5462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larendon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larendon Condensed"/>
              </a:rPr>
              <a:t>II. CULTURA</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1 “A fines del siglo XVIII,</a:t>
            </a:r>
            <a:r>
              <a:rPr b="0" lang="es-ES_tradnl" sz="2000" spc="-1" strike="noStrike">
                <a:solidFill>
                  <a:srgbClr val="000000"/>
                </a:solidFill>
                <a:latin typeface="Arial"/>
              </a:rPr>
              <a:t> designa una “configuración del ´espíritu´que conformaba ´todo el modo de vida´de un </a:t>
            </a:r>
            <a:r>
              <a:rPr b="1" lang="es-ES_tradnl" sz="2000" spc="-1" strike="noStrike">
                <a:solidFill>
                  <a:srgbClr val="000000"/>
                </a:solidFill>
                <a:latin typeface="Arial"/>
              </a:rPr>
              <a:t>pueblo</a:t>
            </a:r>
            <a:r>
              <a:rPr b="0" lang="es-ES_tradnl" sz="2000" spc="-1" strike="noStrike">
                <a:solidFill>
                  <a:srgbClr val="000000"/>
                </a:solidFill>
                <a:latin typeface="Arial"/>
              </a:rPr>
              <a:t> en particul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rder (1784.1791) designa un término plural para distinguirlo de cualquier sentido unilineal de “civilización” a favor de mayor pluralismo</a:t>
            </a:r>
            <a:r>
              <a:rPr b="0" lang="es-ES_tradnl" sz="2000" spc="-1" strike="noStrike">
                <a:solidFill>
                  <a:srgbClr val="000000"/>
                </a:solidFill>
                <a:latin typeface="Arial"/>
              </a:rPr>
              <a:t>. En este sentido, la noción es luego influida por la antropología, para designar una forma de vida completa y diferenciada. 1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2. </a:t>
            </a:r>
            <a:r>
              <a:rPr b="1" lang="es-ES_tradnl" sz="2000" spc="-1" strike="noStrike">
                <a:solidFill>
                  <a:srgbClr val="000000"/>
                </a:solidFill>
                <a:latin typeface="Arial"/>
              </a:rPr>
              <a:t>De la</a:t>
            </a:r>
            <a:r>
              <a:rPr b="0" lang="es-ES_tradnl" sz="2000" spc="-1" strike="noStrike">
                <a:solidFill>
                  <a:srgbClr val="000000"/>
                </a:solidFill>
                <a:latin typeface="Arial"/>
              </a:rPr>
              <a:t> </a:t>
            </a:r>
            <a:r>
              <a:rPr b="1" lang="es-ES_tradnl" sz="2000" spc="-1" strike="noStrike">
                <a:solidFill>
                  <a:srgbClr val="000000"/>
                </a:solidFill>
                <a:latin typeface="Arial"/>
              </a:rPr>
              <a:t>noción de “espíritu conformador”</a:t>
            </a:r>
            <a:r>
              <a:rPr b="0" lang="es-ES_tradnl" sz="2000" spc="-1" strike="noStrike">
                <a:solidFill>
                  <a:srgbClr val="000000"/>
                </a:solidFill>
                <a:latin typeface="Arial"/>
              </a:rPr>
              <a:t> (ideal, religioso o nacional) se pasa a la  moderna, </a:t>
            </a:r>
            <a:r>
              <a:rPr b="1" lang="es-ES_tradnl" sz="2000" spc="-1" strike="noStrike">
                <a:solidFill>
                  <a:srgbClr val="000000"/>
                </a:solidFill>
                <a:latin typeface="Arial"/>
              </a:rPr>
              <a:t>“cultura vivida”,</a:t>
            </a:r>
            <a:r>
              <a:rPr b="0" lang="es-ES_tradnl" sz="2000" spc="-1" strike="noStrike">
                <a:solidFill>
                  <a:srgbClr val="000000"/>
                </a:solidFill>
                <a:latin typeface="Arial"/>
              </a:rPr>
              <a:t> y </a:t>
            </a:r>
            <a:r>
              <a:rPr b="1" lang="es-ES_tradnl" sz="2000" spc="-1" strike="noStrike">
                <a:solidFill>
                  <a:srgbClr val="000000"/>
                </a:solidFill>
                <a:latin typeface="Arial"/>
              </a:rPr>
              <a:t>“determinada</a:t>
            </a:r>
            <a:r>
              <a:rPr b="0" lang="es-ES_tradnl" sz="2000" spc="-1" strike="noStrike">
                <a:solidFill>
                  <a:srgbClr val="000000"/>
                </a:solidFill>
                <a:latin typeface="Arial"/>
              </a:rPr>
              <a:t> por otros procesos sociales, ahora diversamente designados, formas particulares de orden político o económic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 En tanto “</a:t>
            </a:r>
            <a:r>
              <a:rPr b="1" lang="es-ES_tradnl" sz="2000" spc="-1" strike="noStrike">
                <a:solidFill>
                  <a:srgbClr val="000000"/>
                </a:solidFill>
                <a:latin typeface="Arial"/>
              </a:rPr>
              <a:t>cultivo activo de la mente</a:t>
            </a:r>
            <a:r>
              <a:rPr b="0" lang="es-ES_tradnl" sz="2000" spc="-1" strike="noStrike">
                <a:solidFill>
                  <a:srgbClr val="000000"/>
                </a:solidFill>
                <a:latin typeface="Arial"/>
              </a:rPr>
              <a:t>” se distinguen significados como :  1</a:t>
            </a:r>
            <a:r>
              <a:rPr b="1" lang="es-ES_tradnl" sz="2000" spc="-1" strike="noStrike">
                <a:solidFill>
                  <a:srgbClr val="000000"/>
                </a:solidFill>
                <a:latin typeface="Arial"/>
              </a:rPr>
              <a:t>. estado desarrollado de mente (una persona con cultura, una persona culta) hasta 2. procesos de este desarrollo (intereses culturales y actividades culturales); 3. los medios de estos procesos, como  las artes y las obras humanas intelectuales en la cul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0TRAS CIENCIAS CULTURALES Y LA SOCIOLOGIA</a:t>
            </a:r>
            <a:br>
              <a:rPr sz="2400"/>
            </a:br>
            <a:endParaRPr b="0" lang="en-US" sz="2400" spc="-1" strike="noStrike">
              <a:solidFill>
                <a:srgbClr val="000000"/>
              </a:solidFill>
              <a:latin typeface="Arial"/>
            </a:endParaRPr>
          </a:p>
        </p:txBody>
      </p:sp>
      <p:sp>
        <p:nvSpPr>
          <p:cNvPr id="58" name="PlaceHolder 2"/>
          <p:cNvSpPr>
            <a:spLocks noGrp="1"/>
          </p:cNvSpPr>
          <p:nvPr>
            <p:ph/>
          </p:nvPr>
        </p:nvSpPr>
        <p:spPr>
          <a:xfrm>
            <a:off x="468360" y="907920"/>
            <a:ext cx="8229600" cy="540072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co, La nueva ciencia (1725-1744) arguyó que “el mundod e la sociedad civil ha sido a todas luces hecho por los hombres”, p. 14 y “puesto que los hombres lo han hecho pueden albergar esperanzas de conocerlo”.  De ahí la necesidad de “buscar los principios” de la sociedad civil “dentro de las modificaciones de nuestra propia mente humna”, fenómeno modificable en y a través del desarrollo social.  Aspecto central del cual es el lenguaj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rder (1784-1791)-.—la idea de ·”espíritu conformado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lthey (1883), distinguíò ciencias de la cultura de las ciencias naturales, enfatizando que en las primeras, el observador observa procesos en los cuales él mismo participa (puesta en abismo del sujeto cultural). Insistiendo en la necesidad de historiz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l método del Verstehen tiene resonancias en el “retorno del sujeto” (Ibáñez)</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Junto al sujeto, el registro de las leyes de la organización social. Asunto importante para el estudio de las instituciones y de los productos culturales de las instituc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20:48:52Z</dcterms:created>
  <dc:creator>Kemy Oyazun Vaccaro</dc:creator>
  <dc:description/>
  <dc:language>en-US</dc:language>
  <cp:lastModifiedBy>Kemy Oyarzun</cp:lastModifiedBy>
  <dcterms:modified xsi:type="dcterms:W3CDTF">2006-11-23T15:30:10Z</dcterms:modified>
  <cp:revision>15</cp:revision>
  <dc:subject/>
  <dc:title>RAYMOND WILLIAMS </dc:title>
</cp:coreProperties>
</file>