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7407-A88A-4BBC-BBB6-8DA0EFDA8C3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24F9-4BA4-4C94-BD1F-3AAC34CD012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558-11ED-417C-89BB-2C13B90A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CA0-B935-4E09-80AE-A991BFAF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86C-5D52-42BF-B823-F07CEFF8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E36-400F-4AFD-8796-6A09D07A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4FB-B480-4B26-964B-94D089AB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21C-0905-4757-9348-C28F6059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B24-FF83-43D1-A250-DD0093E9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55C-79E3-47F2-9B86-F25C0AD9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247A-6DF5-4187-9D7B-18D36E62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7DF-7A51-4F3F-AEC6-6AAAC235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EF3-2D53-469C-81EB-8F38F4B6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DDBF-8801-4BE5-8573-41B080CD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81D1-EF6F-449C-A1DE-7A328A5517D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lorenacampos00@hotmail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udería vie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judería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travesía jud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travesía judí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1 CuadroTexto"/>
          <p:cNvSpPr/>
          <p:nvPr/>
        </p:nvSpPr>
        <p:spPr>
          <a:xfrm>
            <a:off x="357120" y="428760"/>
            <a:ext cx="82155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SEFARAD: pensamiento y literatura judíos en la formación de la cultura hisp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idad Académica: Centro de Estudios Juda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es: Ximena Cortés, Ana María Tapia y Juana 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fesora invitada: Soledad Chá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rtes  y Viernes de 14:30 a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ordinadora: Juana Loren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orenacampos00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no  97715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lataforma:      www.u-cursos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14200" y="263520"/>
            <a:ext cx="8358480" cy="56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er  Sefarad como parte fundamental en la formación de la cultura hispánica a través de sus aportes filosóficos, lingüísticos y literar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a historia de los judío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factores que permitieron  y/o bloquearon la convivencia multicultural de los judíos en la España medie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 los valores que hoy perduran de la cultura sefard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285840" y="428760"/>
            <a:ext cx="8429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jetiv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r los distintos aspectos del pensamiento judío que nacen en Sefarad y viven hasta el día de ho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y disfrutar la literatura judeo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n el contexto judío, la simbiosis de literatura y filosofía/teolog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lexionar en torno al concepto de mestizaje 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00040" y="133920"/>
            <a:ext cx="7858080" cy="58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n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: LA HISTORIA DE LOS JUDÍOS 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endo el espacio y su cotidiane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 de las re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encuentro de tres cul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una 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: PENSAMIENTO JUDÍO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mensión de lo juda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stumbres y tradiciones judías en Espa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ción al pensamiento m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ódulo III: LENGUA Y LITERATURA JUDEO ESPAÑ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iteratura como representación social de judíos, moros y cristi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etas y teól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romancero judeo español y su aporte a la lengua españo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farad en la narrativa hispanoamericana contemporá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9280" y="328320"/>
            <a:ext cx="896472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18 de agos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5 de septiembre  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asistencia               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posición Final en PPT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10 /17 nov.               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7:21:42Z</dcterms:created>
  <dc:creator>Juana Lorena Campos Bustos</dc:creator>
  <dc:description/>
  <dc:language>en-US</dc:language>
  <cp:lastModifiedBy>Juana Lorena Campos Bustos</cp:lastModifiedBy>
  <dcterms:modified xsi:type="dcterms:W3CDTF">2009-07-20T08:47:51Z</dcterms:modified>
  <cp:revision>15</cp:revision>
  <dc:subject/>
  <dc:title>Diapositiva 1</dc:title>
</cp:coreProperties>
</file>