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694D-5D40-4970-9778-9ACB4FDB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AF5-0679-4AB1-9F86-CBC00DFE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87FA-765B-4EB8-A104-EB0068AD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0C8F-3AEA-4E7F-B692-A8193863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B225-C890-4735-A44A-2DCB0B46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A173-EF4A-45BF-A0E0-38350E3E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2F85-B14C-403A-92FE-DF922A94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9867-AC81-4EDC-B7C1-CABB3CDE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1C2D-3C46-4BD4-BC4F-4CC4168C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4C07-2DC9-47F7-9B10-8F1F62F8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18FD-2E45-4533-92B9-ECA2803D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6A7C-02B8-4E83-B228-E267BFF8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F4A5-62BA-4647-A94A-2C01A4AB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83B2-92FD-45E1-B81F-F768D104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DDB4-8187-42B5-8BF0-1AB862C2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F842-A1A4-4C23-9436-250DAA07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82D7-2B1F-4157-AB5F-DF6B13E2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C5E-4DF2-4267-970B-72B99841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DF35-B071-45A4-8CF2-648B6740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FD3-E16B-4A0D-9CC1-4D585CE3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FF90-B526-4B30-B82F-8E22C2E4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047E-FB4F-4024-BD5B-6EDC8D23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C3D5-5152-4588-A30F-85FBED84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8F8E-4FA6-4E07-9A55-4AB58A24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25CE-F0BF-4349-8900-15ABB5FFABF1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F08A-7E43-4ADB-BDD2-1FF6BAC97D0D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600" spc="-1" strike="noStrike">
                <a:solidFill>
                  <a:srgbClr val="ffffb7"/>
                </a:solidFill>
                <a:latin typeface="Garamond"/>
              </a:rPr>
              <a:t>El judeo-español</a:t>
            </a:r>
            <a:r>
              <a:rPr b="0" lang="es-CL" sz="4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800"/>
            </a:br>
            <a:r>
              <a:rPr b="0" lang="he-IL" sz="4800" spc="-1" strike="noStrike">
                <a:solidFill>
                  <a:srgbClr val="ffffb7"/>
                </a:solidFill>
                <a:latin typeface="Arial Black"/>
                <a:cs typeface="Tahoma"/>
              </a:rPr>
              <a:t>גודיאו-איספאנייול</a:t>
            </a:r>
            <a:r>
              <a:rPr b="1" lang="es-E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b7"/>
                </a:solidFill>
                <a:latin typeface="Garamond"/>
              </a:rPr>
              <a:t>Tránsito del español medieval al español moderno: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Garamond"/>
              </a:rPr>
              <a:t>Con el </a:t>
            </a:r>
            <a:r>
              <a:rPr b="1" i="1" lang="es-ES" sz="4000" spc="-1" strike="noStrike">
                <a:solidFill>
                  <a:srgbClr val="ffffb7"/>
                </a:solidFill>
                <a:latin typeface="Garamond"/>
              </a:rPr>
              <a:t>reajuste fonológico</a:t>
            </a:r>
            <a:r>
              <a:rPr b="1" lang="es-ES" sz="4000" spc="-1" strike="noStrike">
                <a:solidFill>
                  <a:srgbClr val="ffffb7"/>
                </a:solidFill>
                <a:latin typeface="Garamond"/>
              </a:rPr>
              <a:t> (siglos XVI y XVII), aparecen nuevos fonemas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/x/ velar fricativa áfona: &lt; j 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/θ / interdental fricativa áfona: &lt; z 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En el  judeo-español, no se presentan estas consonantes del reajuste fonológico características del español modern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Es decir, se mantienen los sonidos medievales, arcaísmos, dialectalismos e innovacion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b7"/>
                </a:solidFill>
                <a:latin typeface="Garamond"/>
              </a:rPr>
              <a:t>Características del español de los judíos durante la Edad Medi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bido al carácter restringido de la comunidad judía, el español usado por éstos ya tenía algunas peculiaridades en la Edad Med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b7"/>
                </a:solidFill>
                <a:latin typeface="Garamond"/>
              </a:rPr>
              <a:t>1. Fonético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pócope –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nief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niev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b7"/>
                </a:solidFill>
                <a:latin typeface="Garamond"/>
              </a:rPr>
              <a:t>2. Morfología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Garamond"/>
              </a:rPr>
              <a:t>1492:</a:t>
            </a:r>
            <a:br>
              <a:rPr sz="5400"/>
            </a:br>
            <a:r>
              <a:rPr b="1" i="1" lang="es-ES" sz="5400" spc="-1" strike="noStrike">
                <a:solidFill>
                  <a:srgbClr val="ffffb7"/>
                </a:solidFill>
                <a:latin typeface="Garamond"/>
              </a:rPr>
              <a:t>Annus mirabili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Terminación en algunos verbos causativ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igu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(&lt; lat. –ificare)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amuchigu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‘multiplicar’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abivigu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‘vivificar’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aboniguar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‘beneficiar’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fruchigu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‘dar fruto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[-ificare &gt; -ibigar&gt; -ib’gar&gt; iugar&gt; igwar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b7"/>
                </a:solidFill>
                <a:latin typeface="Garamond"/>
              </a:rPr>
              <a:t>3. Léxico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Derivaciones particulares del latí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pienes que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‘a causa de que’, ‘porque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&lt; lat. Pĕnes, ‘en poder de’, ‘en posesión de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prominc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&lt; lat. Propinquus, ‘acercars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lonninc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&lt; longinquus, ‘alejars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Otros us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meld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meditar’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leer libros sagrados’, ‘leer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huesm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&gt; güesmo  ‘olor’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Figura etimológica intensiv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‘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Enfuercen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na uéndida esta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forzamiento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plido a por consieglo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special caso ideológic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Dio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‘Dios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Voces hebre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quinnan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compromiso bajo juramento’ (&lt; quinyá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lgunos occidentalism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Desmazalad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indolente, irresoluto, descuidado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gall.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desmacelad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port.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desmazelad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&lt;macĕll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ffb7"/>
                </a:solidFill>
                <a:latin typeface="Garamond"/>
              </a:rPr>
              <a:t>El ladino y el  judesmo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Judeo-español escrito (producto de las traducciones bíblicas) se diferencia del judeo-español hablado, también conocido como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judesm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/žudezmo/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Descubrimiento de Amé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Expulsión de los moros de Españ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Publicación de la primera gramática románica Nebri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Expulsión de los judíos de Españ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fluencia del judeo-español escrito en el habla se traduce en un lenguaje híbrido, que se ajusta literalmente al texto hebreo en su semántica, fraseología y sintax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Biblia de Constantinopla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(1547),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Biblia de Ferrar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155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te lenguaje artificioso es denominado por las comunidades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ladin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l lenguaje de uso general, hablado,  se ha denominado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judesm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/žudezmo/) por las comuni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b7"/>
                </a:solidFill>
                <a:latin typeface="Garamond"/>
              </a:rPr>
              <a:t>Características del </a:t>
            </a:r>
            <a:br>
              <a:rPr sz="6000"/>
            </a:br>
            <a:r>
              <a:rPr b="1" lang="es-ES" sz="6000" spc="-1" strike="noStrike">
                <a:solidFill>
                  <a:srgbClr val="ffffb7"/>
                </a:solidFill>
                <a:latin typeface="Garamond"/>
              </a:rPr>
              <a:t>judeo-español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u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rcaí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bido a que la diáspora de los judíos hispanos comenzó a raíz de las matanzas de 139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Garamond"/>
              </a:rPr>
              <a:t>1. Fonéticas: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special desarrollo de las sibil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l igual que lo ocurrido con el Español Atlántico, se extendieron las dentales, pero se mantuvo la distinción de sonoridad, algo que no ocurrió en el español centro-norteño y en el español atlánt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En 1547 (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Biblia de Constantinopl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) se atestigua el primer caso de sustitución de apicales por dentales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deçeo,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‘no te ç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ierva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En los Balcanes y Asia Menor quedan restos de la /dz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/ africada medieval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onze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dozen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Se palataliza la /–s/: /moška/, /piškadu/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3165480"/>
            <a:ext cx="8901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Condición del español como lengua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trasplanta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Las sibilantes palatales /š/ y /ž/mantienen su pronunciación palatal medieval sorda: /dišo/ y sonora: /hižo/, /žugar/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b y v: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En Marruecos se pierde la distinción  en favor de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como oclusiva y fricativ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En Los Balcanes y Nueva York se mantiene la distinción en favor de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f– &gt; h– &gt; </a:t>
            </a:r>
            <a:r>
              <a:rPr b="1" lang="es-ES" sz="4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es-ES" sz="4400" spc="-1" strike="noStrike">
                <a:solidFill>
                  <a:srgbClr val="ffffff"/>
                </a:solidFill>
                <a:latin typeface="Garamond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Vacilación en el uso de /f–/: /fazer/, /ferir/ (en los Balcane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spiración en /kehazer/, /hermozu/ (Turquía, Rumania y Bulgari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y la pérdida: /ižo/, /ermozu/ (Marrueco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2. Morfológica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glutinación del imperativo con el pronombre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quitalde, traílde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b7"/>
                </a:solidFill>
                <a:latin typeface="Garamond"/>
              </a:rPr>
              <a:t>3. Sintácticas: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ormas gramaticales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só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estó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vó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dó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vado&gt;va’o&gt;vo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um&gt; su&gt; so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to&gt; 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¿Y qué sucedió en el españo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um, do, sto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ibi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estoy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aquí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)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bi&gt; i’i&gt; i &gt; (so)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Garamond"/>
              </a:rPr>
              <a:t>¿Qué fue del pueblo sefardí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b7"/>
                </a:solidFill>
                <a:latin typeface="Garamond"/>
              </a:rPr>
              <a:t>Otras particularidades sintácticas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En terminaciones como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topás, querés, sos, amá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amad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Como tratamiento de respeto se utiliza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vo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Marruecos) y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él, ey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Orient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4. Léxica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ubsisten palabras que son anticuadas en Españ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gora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vagaroz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lento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mat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apagar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mbez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esp. ant.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bez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)‘enseñar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güerco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(esp. ant.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huerc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) ‘diablo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b7"/>
                </a:solidFill>
                <a:latin typeface="Symbol"/>
                <a:ea typeface="Symbol"/>
              </a:rPr>
              <a:t></a:t>
            </a:r>
            <a:r>
              <a:rPr b="0" lang="es-ES" sz="5400" spc="-1" strike="noStrike">
                <a:solidFill>
                  <a:srgbClr val="ffffb7"/>
                </a:solidFill>
                <a:latin typeface="Garamond"/>
              </a:rPr>
              <a:t> </a:t>
            </a:r>
            <a:r>
              <a:rPr b="0" lang="es-ES" sz="5400" spc="-1" strike="noStrike">
                <a:solidFill>
                  <a:srgbClr val="ffffb7"/>
                </a:solidFill>
                <a:latin typeface="Garamond"/>
              </a:rPr>
              <a:t>Algunos dialectalismos: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ind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aún’ (gallego)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lons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oso’ (aragonés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šamarad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llamarada’ (leonés y portugués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noš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enojar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embirrarse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‘enfurecerse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froñ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funda’ (lusism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Innovaciones de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judeo-españ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El seseo (meridionalism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Se mantiene la  sonoridad en las sibila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Yeísmo (meridionalism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Pérdida /–y– / antecedida o precedida de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kastío, bolsío, amaría, gaína, aí, e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b7"/>
                </a:solidFill>
                <a:latin typeface="Garamond"/>
              </a:rPr>
              <a:t>Prótesis y epéntesis: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/s–[ue]/ &gt; /{e, i}s– {f, h}[ue]/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esfuegr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o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isfuegr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suegra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esfuec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o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isfuec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zueco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esfueñ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o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isfueñ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sueño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Epéntesis de [w] en velares y labi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lagu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lagar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guat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gato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puadre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‘padre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El pueblo sefardí se estableció en diversos puntos del Imperio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Metáte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codrarsi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acordarse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guadr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guardar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bedri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‘verde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Diptong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Vacilación en las diptongacion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rog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ruego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queres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‘quieres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pret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prieto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nalogí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/n–/ &gt; /m–/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mosotros, mos, mueb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alatal nasal pierde su carácter palatal en el judeoespaño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/ni/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niu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puniu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Marruecos, se presenta la total despalatización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nil, menique, panuel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Garamond"/>
              </a:rPr>
              <a:t>El siglo XX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el siglo XX el judeoespañol experimenta un rápido decliv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or un lado, el Holocausto nazi que aniquiló comunidades enteras, como la numerosa comunidad de Salónic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exterminación sistemática de la población judía en los campos de concentración es el acontecimiento histórico más duro que sufren las comunidades sefardíes desde su expulsión de 149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or otro lado, las migraciones causadas por la propia guerra y posteriormente por la creación del Estado de Israel propiciaron el desmembramiento y aculturación de las comunidad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apenas cinco años la lengua Sefardíes perdió al 90% de sus hablant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Turquía, Holanda, norte de Francia, norte de África, la zona balcánica y Estados Unidos (Nueva York) después de la Segunda Guerra Mundi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to significó para el judeo-español dejar de tener un punto de localización reconocible y perder a quienes mejor hubieran podido abrir nuevos caminos hacia la normalización de una lengua: los escritores y creadores literar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l mantenimiento del judeoespañol como signo de identidad judía tenía poco sentido en Israel, donde una lengua considerada más propia de los judíos, el hebreo, había sido resucitada como lengua viv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 Israel se trasladaron la mayor parte de los sefardíes de Marruecos, emigrados masivamente en los años 50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os sefardíes emigrados a países de habla hispana abandonaron rápidamente su lengua en favor del español, y las comunidades de Francia o Estados Unidos lo mantuvieron durante un tiempo, aunque relegándolo cada vez más al ámbito doméstico o de las relaciones soc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l número de hablantes de judeoespañol ronda hoy los 150.000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Iberoamérica hay comunidades donde el ladino y las tradiciones sefardíes han sido parte integral de su historia y cultura, por ejemplo en países como Puerto Rico, Cuba, Bolivia, Brasil, entre otr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Israel se mantiene una revista en judeoespañol,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ki Yerushalayim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"Aquí Jerusalén"), editada por la Autoridad Nasionala del Ladino y una emisión semanal de radio en la emisora Kol Isra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gualmente Radio Exterior de España emite el programa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Bozes de Sefarad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que recientemente cumplió 20 años al ai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s comunidades sefardíes más numerosas fuera de Israel están en Turquía, donde hay unos 15.000 hablantes. Ahí mismo, el número de periódicos y boletines emitidos en judeoespañol sigue siendo significa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048120" y="1133640"/>
            <a:ext cx="304776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Garamond"/>
              </a:rPr>
              <a:t>¿Y qué sucedió con su lengua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b7"/>
                </a:solidFill>
                <a:latin typeface="Garamond"/>
              </a:rPr>
              <a:t>LAS KONSEJAS I LOS </a:t>
            </a:r>
            <a:br>
              <a:rPr sz="4800"/>
            </a:br>
            <a:r>
              <a:rPr b="0" lang="es-ES" sz="4800" spc="-1" strike="noStrike">
                <a:solidFill>
                  <a:srgbClr val="ffffb7"/>
                </a:solidFill>
                <a:latin typeface="Garamond"/>
              </a:rPr>
              <a:t>KUENTOS POPULARES DJUDEO-ESPANYOLE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Ke azian muestros padres en los tiempos ke no avia ni radio ni televizion i ke el uzo de los sefaradis era de pasar la noche adientro de kaza, kon la famiya o kon los vizino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Uno de los divertimientos los mas populares de akeyos tiempos era el de sintir las narasiones de kuentos i konsej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ovre todo en las largas noches de invierno, kuando eskuresia bien presto i toda la famiya estava en kaza, arekojida al deredor del "tandur", del brazero, ke plazer era de eskuchar los kuentos i las konsejas sovre las fantastikas aventuras de prinsipes o kavayeros barraganes, o de mansevos proves ma intelijentes i korajozo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ke kombatiendo kontra dragos i leones, o kontra ichizeras i reyes krueles, riushian siempre a salvar a sus keridos i a yegar a porto a salvo, malgrado todas las difikultades i todos los peligros ke los enfrentav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El español siguió empleándose en las comunidades sefardíes hasta  constituirse en un código inteligible, aunque se presentan diferencias en grupos más pequeñ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4:06:03Z</dcterms:created>
  <dc:creator>.</dc:creator>
  <dc:description/>
  <dc:language>en-US</dc:language>
  <cp:lastModifiedBy>Senen Chavez</cp:lastModifiedBy>
  <dcterms:modified xsi:type="dcterms:W3CDTF">2009-10-23T17:10:45Z</dcterms:modified>
  <cp:revision>6</cp:revision>
  <dc:subject/>
  <dc:title>El judeo-español  </dc:title>
</cp:coreProperties>
</file>