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A42-43F0-41E0-9C6B-39C6A152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694-2423-43C6-88C1-962CCCA2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BE8-9ED7-486D-A457-2917330E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35F-DC0E-4916-86B8-C5CB5047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3B5A-8F2D-4811-93FD-72B6D57F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2BAB-0B49-41FB-95D4-5DD1318B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5FC1-A451-44D4-8830-727507AA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178A-9565-4E2D-96EE-B81C2D97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5AF8-853B-41FD-AFDC-780D477D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F4B2-E0A5-4E63-AA87-1EAAE208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6959-E4B1-4C7E-A7AF-CE447414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CCB-E803-4BA6-BD53-B194586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89CD-719B-43B6-854D-C87C20B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93C8-B704-43FC-BFE0-6803A81A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407C-2979-49B8-9E24-662FCCDE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9312-3669-429B-9C6C-BC90C59B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50A1-BC87-437A-971F-DCA417E5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1DE-B2BC-4E46-A6C1-DE53246E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25A-ED29-439E-91EF-6987F79C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307-3010-4691-AF48-E6E70C9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80F-8DD8-4191-B454-3C939FEA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B7A-9AE4-4E68-ACEC-5FB42AB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AFF-BBD2-4CF0-B683-0226CAE1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47F-66D4-4ABC-BE51-8CD735E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859A-C3D1-4479-BBCE-7F08642B7D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23AC-DEB3-4A16-B2A4-32DA36BEC7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b/Pen&#237;nsula_ib&#233;rica_814.sv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3/Reinos_de_Taifas_en_1037.sv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upload.wikimedia.org/wikipedia/commons/9/9a/M-T-Cicero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upload.wikimedia.org/wikipedia/commons/3/3b/Pompeii-graffiti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aramond"/>
              </a:rPr>
              <a:t>El español y sus oríge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92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Archivo:Península ibérica 814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785880"/>
            <a:ext cx="7619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Archivo:Reinos de Taifas en 1037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66840" y="857160"/>
            <a:ext cx="6610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3118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43182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672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127480" cy="683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28880" y="595008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ema del Mio Cid (siglo X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331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95640" y="836640"/>
            <a:ext cx="49845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204840" y="195120"/>
            <a:ext cx="955368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3238560" cy="4400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3000240" cy="284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Archivo:M-T-Cicer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04640"/>
            <a:ext cx="4248000" cy="570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Pompeii-graffiti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35280" y="5661000"/>
            <a:ext cx="28576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6513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836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18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5600" y="1147680"/>
            <a:ext cx="57528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7:00:57Z</dcterms:created>
  <dc:creator>Yo</dc:creator>
  <dc:description/>
  <dc:language>en-US</dc:language>
  <cp:lastModifiedBy>Senen Chavez</cp:lastModifiedBy>
  <dcterms:modified xsi:type="dcterms:W3CDTF">2010-08-16T14:27:25Z</dcterms:modified>
  <cp:revision>3</cp:revision>
  <dc:subject/>
  <dc:title>Diapositiva 1</dc:title>
</cp:coreProperties>
</file>