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CBB3-41BA-451C-BDD5-B6E89B234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B072-C2F2-45E6-B45F-4CFBDB754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C59E-89D0-4515-A4E7-FF88A1885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630C-BE18-4604-AB92-0310F5787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FE421-ECAE-4DBC-AE99-9697D6675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4B089-056A-495F-8530-43765A61C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297AF-F674-400E-9B8D-43F2899FE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2CEC3-F0B2-486A-9827-DA851916F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9C528-6706-4FD5-B00E-CF00F9603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32FF7-6B98-41E4-91A7-F1C65E48A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FA2FD-191A-46C5-AD36-1BE9DC928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0323-78D5-40D3-953A-8FA8E7067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30C3B-0CE1-4C9D-8482-783D9260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BFFBC-FA5B-4537-9581-288A925A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7255D-5BE6-4BEB-A6CD-095803A0C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6F97C-CA65-43CF-94FC-518378751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27D84-7374-4143-87F8-4A24CD665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D77B-37D8-4D57-BF78-A5150D141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B6DD-D254-43F5-836C-DF73A3F35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1CE4-6231-40B1-B69A-A6262E57D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E172-6877-4D63-B869-3A3F5C25F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5EEC-C597-438D-99E7-C14213F5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6B7D-3576-464C-BB43-75532B539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ED7C-76EB-412C-92BB-E297D7709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D13E8-E079-410C-8B7D-94C169713A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FD68E-808B-4D2B-8F39-DF988ACEAE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Definiciones de psicolingüístic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uillermo So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Definiciones de psicolingüística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Osgood y Sebeok 1954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n un sentido más estricto, la Psicolingüística estudia procesos a través de los cuales las intenciones de los hablantes se transforman en señales según un código aceptado culturalmente y aquellos otros por los que estas señales se transforman en interpretaciones de los oyen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sgood, C.E. y T. Sebeok 1954: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Psycholinguistics: A survey of theory and research problem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403280" y="404640"/>
            <a:ext cx="6807240" cy="49453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562480" y="5587920"/>
            <a:ext cx="468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Dioniso, el dios nacido dos ve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932360" y="6583320"/>
            <a:ext cx="453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Los borrachos o el triunfo de Baco, Velásqu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Definiciones de psicolingüística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lobin 1971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a psicolingüística reúne los fundamentos empíricos de la psicología y de la lingüística para estudiar los procesos mentales que subyacen a la adquisición y el uso del lenguaj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n suma, pues, los psicolingüistas se interesan por el conocimiento y por la capacidad subyacentes que debemos tener para poder utilizar el lenguaje y aprender en la infancia a usar la lengu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lobin, D. 1971: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Introducción a la Psicolingüístic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Buenos Aires: Paidós, 19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Definiciones de psicolingüística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Garman 1990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a psicolingüística, como su nombre lo implica, tiene que ver básicamente con el lenguaje como fenómeno sicológico; y, más característicamente, con el lenguaje en el individuo. Así, se hace cargo de preguntas tales como: ‘¿Cómo logra un oyente reconocer las palabras en el flujo del habla, o en los patrones en la página, y llegar a comprender las oraciones?’ y ‘¿Cómo logra un hablante ir poniendo ideas en formas que puedan expresarse como patrones articulatorios, manuales o de movimiento?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arman, 1990: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sycholinguistic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Cambridge: Cambridge University P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Definiciones de psicolingüística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arroll 1994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a psicolingüística es el estudio de la forma en que los individuos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mprenden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oducen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y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dquieren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el lenguaje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rroll, D., 1994: 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sychology of language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nd edition. Pacific Grove, CA: Brooks/C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06:43:59Z</dcterms:created>
  <dc:creator>Guillermo Soto</dc:creator>
  <dc:description/>
  <dc:language>en-US</dc:language>
  <cp:lastModifiedBy>FFH030</cp:lastModifiedBy>
  <cp:lastPrinted>2004-08-23T22:52:00Z</cp:lastPrinted>
  <dcterms:modified xsi:type="dcterms:W3CDTF">2008-01-30T23:23:51Z</dcterms:modified>
  <cp:revision>11</cp:revision>
  <dc:subject/>
  <dc:title>Definiciones de psicolingüística: Osgood y Sebeok 1954</dc:title>
</cp:coreProperties>
</file>