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1D4-1204-4146-A3CE-24B3A644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D769-F614-461D-B614-83CC851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6DA-65F6-4FCA-8939-FF5016E6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714-E296-44A9-99AF-CA667833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F4F4-BD86-4035-9070-F184A8E0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E9CE-89C2-4B95-AF86-144CF1C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B9D-91AD-464D-AB0E-FC235FB9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A90A-A0C6-45D2-8B95-0189C571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8AE1-CCD1-481E-A61B-A844FF2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BDE3-DDB6-427E-A7F1-50E56DFA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4905-0070-4461-AFCC-234E6B0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5D5-4559-4C46-8A61-140A6D54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2870-3F16-40B1-B0A8-3A624C72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F274-0FFA-4D26-8BE1-6E139A03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D518-6EB5-4690-A910-695FB89A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AF11-11C6-46D2-8020-BFB034D3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2772-D07A-4BCE-B41B-4CB928DF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6D5-F03E-4A07-B07E-9C685A11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884-AE26-4F21-9201-74AF542D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F0B-4FCC-4C74-BB0A-991B995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361-42D0-4881-A49B-FBCE42D9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003-824C-44C6-B056-4D7D98BB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C69-CA4D-4851-986E-FC51893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A26-2C51-4032-9919-D67DE010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693-870B-4790-B625-DBEA0A3A0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B92-A725-4EC5-88D1-93AF60C4D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4300" spc="-1" strike="noStrike">
                <a:solidFill>
                  <a:srgbClr val="003366"/>
                </a:solidFill>
                <a:latin typeface="Palatino Linotype"/>
              </a:rPr>
              <a:t> </a:t>
            </a:r>
            <a:endParaRPr b="0" lang="en-US" sz="4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28800" y="533160"/>
            <a:ext cx="6858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S DE  LA 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.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048120"/>
            <a:ext cx="175284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0720" y="151920"/>
            <a:ext cx="795204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00320" y="3429000"/>
            <a:ext cx="136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g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579840"/>
            <a:ext cx="1962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es tipos de proces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00680" y="2656440"/>
            <a:ext cx="3343320" cy="266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895480"/>
            <a:ext cx="7632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8006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9548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0160" y="1218600"/>
            <a:ext cx="6397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he modularity of mind: An essay on faculty psychology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dor, J. (198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1720" y="18273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ierten la energía física que afecta los receptores sensoriales en representaciones 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438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1720" y="327528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tienen una representación de los estímulos distales a partir de la información dada por los trans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1720" y="45705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gran la información provenientes de distintos módulos. Tareas propiamente intel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5410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subsistemas funcionalment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ceden a un tipo específico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reciben influencia ni de otros módulos ni de los sistema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n en for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om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la concepción modul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ía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matiza tareas, menor costo cog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 responder de manera rápida y eficaz sin evaluar toda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ño neur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uncionamiento autónomo de una parte del sistema no afecta a las re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d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plea información que no se comparte, con el fin de resolver un tipo de t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apsulamiento in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operaciones se llevan a cabo sin recibir influencia de otr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amiento automático (no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cons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ódulos no son conscientes ni accesibles a la introsp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n velocidad, mayor a otr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perficialidad compu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presentaciones de salida de los módulos son caracterizaciones preliminares (incomple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hiben un patrón de desarrollo ontogenético específico, determiando por pautas específicas de maduración biológica. Desarrollo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7120" y="259092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59092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5168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DE LA MEN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2160" y="2666880"/>
            <a:ext cx="133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440" y="2666880"/>
            <a:ext cx="106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34340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42900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342900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quitectura neural f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asientan en sustratos localizados anatómicamente en regiones del cerebro. Constituidos por circuitos y conexiones nerviosas establecidas y relativamente invar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utas de deteri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la distribución anatómica discreta, las alteraciones de los módulos son altamente específicas y selec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luso pueden afectarse componentes aislados del procesamiento de un mó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internamente modul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broca%20wernicke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fasc%20arcuato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ferencia entre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fodoriana y chomskyan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odularidad apunta  la organización de l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 de conocimiento del lengu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stemas centr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mod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gran la información aportada por los distintos mód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n tarea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jación de creencias, razonamiento, in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eas pragmáticas, discurs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520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419640" cy="2543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143000" y="60786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HERTON J S (2002)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Learning and Teaching: Multiple Intelligence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[On-line]: UK: Available: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http://www.dmu.ac.uk/~jamesa/learning/multiple.htm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ccessed: 25 Augus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22512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ww.summerslasvegas.com/ garehime/multipl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4385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9840" y="321300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0"/>
            <a:ext cx="7010280" cy="685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914400"/>
            <a:ext cx="5715000" cy="533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2603520"/>
            <a:ext cx="1839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752480"/>
            <a:ext cx="3657600" cy="381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98108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227520"/>
            <a:ext cx="115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840" y="1141920"/>
            <a:ext cx="13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440" y="2056320"/>
            <a:ext cx="118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5120" y="3275640"/>
            <a:ext cx="156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6094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3623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capacidades cognitivas se aplican en mecanismos que operan sobre la información independientemente de la naturaleza de es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ente como sistema unitario de proces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facultades se organizan funcionalmente en procesos nque se aplican a toda clase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as capacidades inteligentes son habilidades que se adquieren por experiencia, lue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lausible una facultad específica para la adquisición de la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istoria evolutiva es demasiado breve para la existencia de facultad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nt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se adquieren con enorme plastividad, por lo tanto no estarían fijadas en la arquitectura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cognitivas presentan muchas propiedades en común, por tanto habría principios cognitivos nucleares que 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stitución de neustras facultades cogn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fun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6672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314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48320" y="4952880"/>
            <a:ext cx="281916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057400" cy="1986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63480" y="2589840"/>
            <a:ext cx="380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ella está en el cír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2760" y="4342320"/>
            <a:ext cx="31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gura                Fo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552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714280"/>
            <a:ext cx="80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5638680"/>
            <a:ext cx="380880" cy="381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6292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ríticas a la modularid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Bates 1994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distinguirse 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dor confunde los tres en un solo 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6201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 humano es la única especie que puede adquirir lenguaje en form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Y los grandes monos (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p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adquirir léxico e incluso ser cre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ordenar sus emisiones en forma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orden pragmátic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ckerton 1990, Givón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producen oraciones según un comportamiento del tipo “gobernado por reglas”     No 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943600"/>
            <a:ext cx="3049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apacidad de producir y comprender oraciones que obedecen a estructuras jerárquicas es una característica de la especie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seres humanos reconocen estructuras jerarquizadas: FN, FV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4316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ranz Josef Gall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758- 1828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543680"/>
            <a:ext cx="74674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e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Correlación entre variaciones en el carácter y variaciones en señas craneale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El tamaño y la forma del cráneo refleja el tamaño y la forma de porciones subyacentes d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)Las habilidades mentales son innatas y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) El grado de desarrollo relativo de una habilidad innata obedece al tamaño heredado de su órgano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habilidad bien desarrollada se correlacionará con un área prominente del cráneo. El área del cráneo será prueba de la localización funcional de esa habilidad en la porción cerebral correspondiente.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ocalización parece también as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oca, Wernicke: áreas especializadas  en el procesamiento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ños en áreas específicas producen deterioros de lenguaje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7" name="brainareasinvolvedinlanguage" descr=""/>
          <p:cNvPicPr/>
          <p:nvPr/>
        </p:nvPicPr>
        <p:blipFill>
          <a:blip r:embed="rId1"/>
          <a:stretch/>
        </p:blipFill>
        <p:spPr>
          <a:xfrm>
            <a:off x="1676520" y="1355760"/>
            <a:ext cx="669600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9608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700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96380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udios recientes muestran que la conectividad  estaría muy exten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boitiz (1995): Las redes del lenguaje forman parte de redes más extensas y de rica conectividad córtico-cortical entre los lóbulos temporal, parietal y frontal  implicados en la memoria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amasio (1992): Las afasias de Broca propiamente tales implican no sólo daño en Broca tradicional sino también en otras áreas del lóbulo frontal. Daño sólo en Broca generaría afasia mod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1414440"/>
            <a:ext cx="8077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tes (1994) acep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El carácter innato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La localización (relativa) de las áreas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blema : especificidad de domi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ecificidad de domin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habilidades lingüísticas son discontinuas del resto de la 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ipótesis del “órgano men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767240"/>
            <a:ext cx="618984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mor fís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or a la progenie, amor par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ocupación por la progenie desvalida y amor par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hesividad, Amist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ser amigable y establecer contacto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discutir y pe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endencia a destru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re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Tendencia a ocultar. Predispone al individuo a la astucia y  la vive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quisicion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adquir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estim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 de alta opinión sobre uno mismo, amor 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637280"/>
            <a:ext cx="6248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Búsqueda de la aprobación de los otros. Atención a la opinión ajena sobre nos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au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tener cuidado y tomar preca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vidu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Reconocimiento de la existencia de seres individuales. Facilita la integración de muchos elementos en uno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ción de los espacios ocupados por los objetos que nos rod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mprensión de las formas de los obje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 verb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emoria de palab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nguaj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ilología en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o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tualización, recolección y juicio de las relaciones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619640"/>
            <a:ext cx="63244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lodí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cepción mu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y Núm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apacidad de calcular y manejar números y cif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construir 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arar sensaciones y nociones, destacar sus semejanzas, analogías, diferencias, identidad; comprender sus relaciones, armonía y discorda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s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render la razón que subyace tras los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tativeness, Wi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dispone a ver las cosas de modo divert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Vivifica las otras facultades e impone un carácter ideal en es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1405440"/>
            <a:ext cx="6324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volen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power produces mildness and goodness, compassion, and kidness, huma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mita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organ produces a fondness for acting and for dramatic re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allows us to come up with new 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rm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gives constancy and perseverance to the other powers, contributing to maintain theis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faculty of time conceives the duration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entualit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faculty recognizes the activity of every other, and acts in turn upon all of the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habi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instinct that prompts one to select a particular dwelling, often called attachment to ho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15440"/>
            <a:ext cx="6324840" cy="59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erencia, vene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la adoración de Dios, la veneración de los santos, el respeto por las personas y las cos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imiento de justicia y preocupación. Amor por la verdad y el de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z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opes induces a belief in the possibility of whatever the other faculties desire, it inspires optimism about future ev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ravillos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sentiment inspires belief in the true and the false prophet, and aids superstition, but is also essential to the belief in the doctriness of relig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organ provides notions of the dimensions or size of external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o y resist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el conocimiento del peso de los objetos. Util en la manipulación de est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étodo y orden a objetos físicamente relacionados 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6095160"/>
            <a:ext cx="57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fr. Cesare Lombroso (1835-19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2:40:08Z</dcterms:created>
  <dc:creator>Anil Vootkur, PharmD</dc:creator>
  <dc:description/>
  <dc:language>en-US</dc:language>
  <cp:lastModifiedBy>p</cp:lastModifiedBy>
  <cp:lastPrinted>2004-08-23T22:17:49Z</cp:lastPrinted>
  <dcterms:modified xsi:type="dcterms:W3CDTF">2004-08-24T00:49:37Z</dcterms:modified>
  <cp:revision>566</cp:revision>
  <dc:subject/>
  <dc:title>Very Bad Behaviors: Impulsivity and Aggression</dc:title>
</cp:coreProperties>
</file>