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548-511A-4AE7-84CC-70B53AD6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259-41E1-469E-9E8D-B7EE08CA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CE0-CE81-43E5-A714-42E36DEA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243-4CA5-4D90-8544-22EA6BD1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564F-EE2B-4F07-8B2E-0B344417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4C68-EB55-411C-BF77-A2C9FA50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FCB5-78FF-4772-BCF3-3E61C517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1FA8-9CEF-4B3B-97ED-763B3B8A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DA5D-DE4F-458E-A60B-A73B2EC3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010F-B22C-4B4F-A440-CFB164CF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2E34-AB37-4D0F-9CE5-9453B38D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A97-F8A2-4B52-8B4B-AC145115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410F-3286-4C02-83E2-09064C13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5464-5A42-4F19-9901-5696FF55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2ADE-E321-423F-8706-40B2ECEE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BCB0-66F0-4489-9CA3-B7F58213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8588-6EB8-48AF-B93B-7C49BB6C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571-4113-418E-BAF2-B6C07E20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1E8-6CB2-4160-B958-11B3A767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DFC-AD9A-4E8C-9479-E6778FDC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2CE-A5ED-41BE-80C3-28EDEE11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94E-AB6C-4946-ADC3-DB91769A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FB4-9A0C-4256-BEDD-175E811F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1C4-6E7E-4020-9E12-B35D88DD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4241-D0FC-4630-AE1A-B3069AB3D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6841-AD04-4717-A346-8C55445D9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4300" spc="-1" strike="noStrike">
                <a:solidFill>
                  <a:srgbClr val="003366"/>
                </a:solidFill>
                <a:latin typeface="Palatino Linotype"/>
              </a:rPr>
              <a:t> </a:t>
            </a:r>
            <a:endParaRPr b="0" lang="en-US" sz="4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828800" y="533160"/>
            <a:ext cx="68580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RQUITECTURAS DE  LA 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. S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6680" y="3048120"/>
            <a:ext cx="1752840" cy="182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10720" y="151920"/>
            <a:ext cx="7952040" cy="10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00320" y="3429000"/>
            <a:ext cx="13680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gn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579840"/>
            <a:ext cx="1962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es tipos de proces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00680" y="2656440"/>
            <a:ext cx="3343320" cy="266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ducción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entrada (perceptivos o mód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(s) central(es) (procesador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3809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2895480"/>
            <a:ext cx="7632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4800600"/>
            <a:ext cx="609480" cy="139680"/>
          </a:xfrm>
          <a:prstGeom prst="rightArrow">
            <a:avLst>
              <a:gd name="adj1" fmla="val 50000"/>
              <a:gd name="adj2" fmla="val 1090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609480" cy="139680"/>
          </a:xfrm>
          <a:prstGeom prst="rightArrow">
            <a:avLst>
              <a:gd name="adj1" fmla="val 50000"/>
              <a:gd name="adj2" fmla="val 1090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2895480"/>
            <a:ext cx="609480" cy="139680"/>
          </a:xfrm>
          <a:prstGeom prst="rightArrow">
            <a:avLst>
              <a:gd name="adj1" fmla="val 50000"/>
              <a:gd name="adj2" fmla="val 1090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0160" y="1218600"/>
            <a:ext cx="6397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he modularity of mind: An essay on faculty psychology.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dor, J. (198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2038320"/>
            <a:ext cx="33433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ducción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entrada (perceptivos o mód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(s) central(es) (procesador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22096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40384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2038320"/>
            <a:ext cx="3343320" cy="37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ducción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entrada (perceptivos o mód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(s) central(es) (procesador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2096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40384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51720" y="1827360"/>
            <a:ext cx="24922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vierten la energía física que afecta los receptores sensoriales en representaciones 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24382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2038320"/>
            <a:ext cx="3343320" cy="37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ducción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entrada (perceptivos o mód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(s) central(es) (procesador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22096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0384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51720" y="3275280"/>
            <a:ext cx="24922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btienen una representación de los estímulos distales a partir de la información dada por los trans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8862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2038320"/>
            <a:ext cx="3343320" cy="37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ducción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entrada (perceptivos o mód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(s) central(es) (procesador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2096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76520" y="40384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1720" y="4570560"/>
            <a:ext cx="24922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tegran la información provenientes de distintos módulos. Tareas propiamente inteli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54100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subsistemas funcionalmente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utón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ceden a un tipo específico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reciben influencia ni de otros módulos ni de los sistemas cent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n en forma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utomátic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bliga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Ventajas de la concepción modula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conomía cogn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omatiza tareas, menor costo cogn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da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e responder de manera rápida y eficaz sin evaluar toda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año neur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funcionamiento autónomo de una parte del sistema no afecta a las re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dam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pecificidad de domi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emplea información que no se comparte, con el fin de resolver un tipo de t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capsulamiento inf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operaciones se llevan a cabo sin recibir influencia de otr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bligator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cionamiento automático (no voluntar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cons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módulos no son conscientes ni accesibles a la introsp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api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ran velocidad, mayor a otros sistemas cogn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uperficialidad compu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epresentaciones de salida de los módulos son caracterizaciones preliminares (incomple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hiben un patrón de desarrollo ontogenético específico, determiando por pautas específicas de maduración biológica. Desarrollo in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477120" y="2590920"/>
            <a:ext cx="1295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590920"/>
            <a:ext cx="2209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95168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RQUITECTURA DE LA MEN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2160" y="2666880"/>
            <a:ext cx="133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53440" y="2666880"/>
            <a:ext cx="106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426708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iza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434340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ización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429000"/>
            <a:ext cx="381240" cy="838080"/>
          </a:xfrm>
          <a:prstGeom prst="downArrow">
            <a:avLst>
              <a:gd name="adj1" fmla="val 50000"/>
              <a:gd name="adj2" fmla="val 54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342900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rquitectura neural f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asientan en sustratos localizados anatómicamente en regiones del cerebro. Constituidos por circuitos y conexiones nerviosas establecidas y relativamente invari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autas de deteri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da la distribución anatómica discreta, las alteraciones de los módulos son altamente específicas y selectiv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cluso pueden afectarse componentes aislados del procesamiento de un mód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ódulos internamente modular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broca%20wernicke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67057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9" name="fasc%20arcuato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731520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iferencia entre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fodoriana y chomskyan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o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modularidad apunta  la organización de los sistemas cogn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ructura de conocimiento del lengu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istemas centra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mod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gran la información aportada por los distintos mód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arrollan tareas intelig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jación de creencias, razonamiento, in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reas pragmáticas, discurs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Howard Gardner: Inteligencias múltiples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¿ Sistema central modularizado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365200" cy="3143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419640" cy="2543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143000" y="607860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THERTON J S (2002)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Learning and Teaching: Multiple Intelligences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[On-line]: UK: Available: </a:t>
            </a: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http://www.dmu.ac.uk/~jamesa/learning/multiple.htm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Accessed: 25 August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oward Gardner: Inteligencias múltipl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 Sistema central modularizado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622512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www.summerslasvegas.com/ garehime/multipl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543852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2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rquitectura global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79840" y="3213000"/>
            <a:ext cx="184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19320" y="0"/>
            <a:ext cx="7010280" cy="685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914400"/>
            <a:ext cx="5715000" cy="533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2603520"/>
            <a:ext cx="18396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1752480"/>
            <a:ext cx="3657600" cy="3810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98108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227520"/>
            <a:ext cx="1157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38840" y="1141920"/>
            <a:ext cx="13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14440" y="2056320"/>
            <a:ext cx="1185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5120" y="3275640"/>
            <a:ext cx="1567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ns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6094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1600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23623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rquitectura global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capacidades cognitivas se aplican en mecanismos que operan sobre la información independientemente de la naturaleza de esa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mente como sistema unitario de proces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facultades se organizan funcionalmente en procesos nque se aplican a toda clase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rgument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loge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stras capacidades inteligentes son habilidades que se adquieren por experiencia, lue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plausible una facultad específica para la adquisición de la 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historia evolutiva es demasiado breve para la existencia de facultades inde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rgument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ntoge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habilidades se adquieren con enorme plastividad, por lo tanto no estarían fijadas en la arquitectura 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habilidades cognitivas presentan muchas propiedades en común, por tanto habría principios cognitivos nucleares que r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nstitución de neustras facultades cogn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funcio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igura y fon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266724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igura y fon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3148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48320" y="4952880"/>
            <a:ext cx="281916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igura y fon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2057400" cy="1986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263480" y="2589840"/>
            <a:ext cx="380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estrella está en el cír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22760" y="4342320"/>
            <a:ext cx="31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igura                Fo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105520" y="312372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238880" y="312372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714280"/>
            <a:ext cx="806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5638680"/>
            <a:ext cx="380880" cy="38124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igura y fon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46292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ríticas a la modularidad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(Bates 1994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 distinguirse 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PECIFICIDAD DE DOMI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dor confunde los tres en un solo conce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nnatism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6201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er humano es la única especie que puede adquirir lenguaje en forma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Y los grandes monos (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ap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n adquirir léxico e incluso ser cre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n ordenar sus emisiones en forma lin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orden pragmático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ickerton 1990, Givón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producen oraciones según un comportamiento del tipo “gobernado por reglas”     No Sint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5943600"/>
            <a:ext cx="30492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nnatism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201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apacidad de producir y comprender oraciones que obedecen a estructuras jerárquicas es una característica de la especie hu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seres humanos reconocen estructuras jerarquizadas: FN, FV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819520" y="4724280"/>
            <a:ext cx="3143160" cy="15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ranz Josef Gall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1758- 1828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1543680"/>
            <a:ext cx="746748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re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Correlación entre variaciones en el carácter y variaciones en señas craneales ex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) El tamaño y la forma del cráneo refleja el tamaño y la forma de porciones subyacentes del cere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)Las habilidades mentales son innatas y fi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) El grado de desarrollo relativo de una habilidad innata obedece al tamaño heredado de su órgano cer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ue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habilidad bien desarrollada se correlacionará con un área prominente del cráneo. El área del cráneo será prueba de la localización funcional de esa habilidad en la porción cerebral correspondiente.</a:t>
            </a:r>
            <a:r>
              <a:rPr b="0" lang="es-ES_tradnl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201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localización parece también asen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roca, Wernicke: áreas especializadas  en el procesamiento del lengu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años en áreas específicas producen deterioros de lenguaje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7" name="brainareasinvolvedinlanguage" descr=""/>
          <p:cNvPicPr/>
          <p:nvPr/>
        </p:nvPicPr>
        <p:blipFill>
          <a:blip r:embed="rId1"/>
          <a:stretch/>
        </p:blipFill>
        <p:spPr>
          <a:xfrm>
            <a:off x="1676520" y="1355760"/>
            <a:ext cx="669600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96080" cy="51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70009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1963800"/>
            <a:ext cx="80773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udios recientes muestran que la conectividad  estaría muy extend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boitiz (1995): Las redes del lenguaje forman parte de redes más extensas y de rica conectividad córtico-cortical entre los lóbulos temporal, parietal y frontal  implicados en la memoria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amasio (1992): Las afasias de Broca propiamente tales implican no sólo daño en Broca tradicional sino también en otras áreas del lóbulo frontal. Daño sólo en Broca generaría afasia mode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1414440"/>
            <a:ext cx="80773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tes (1994) acep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El carácter innato del lengu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. La localización (relativa) de las áreas del lengu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blema : especificidad de domin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pecificidad de domini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habilidades lingüísticas son discontinuas del resto de la men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ipótesis del “órgano men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renología: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os mentales y facultades mo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1767240"/>
            <a:ext cx="618984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a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mor fís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or a la progenie, amor paren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eocupación por la progenie desvalida y amor par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hesividad, Amist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pensión a ser amigable y establecer contactos soc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ba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pensión a discutir y pel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truc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endencia a destru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re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Tendencia a ocultar. Predispone al individuo a la astucia y  la vive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quisicion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pensión a adquir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utoestim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timiento de alta opinión sobre uno mismo, amor pro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00200" y="3689280"/>
            <a:ext cx="6189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1637280"/>
            <a:ext cx="624816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"/>
              </a:rPr>
              <a:t>9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ba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Búsqueda de la aprobación de los otros. Atención a la opinión ajena sobre nosot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cau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pensión a tener cuidado y tomar preca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dividu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Reconocimiento de la existencia de seres individuales. Facilita la integración de muchos elementos en uno s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c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ncepción de los espacios ocupados por los objetos que nos rode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rm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mprensión de las formas de los obje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moria verb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Memoria de palab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enguaj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Filología en gen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lor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nceptualización, recolección y juicio de las relaciones de co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renología: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os mentales y facultades mo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he Organs of Mental and Moral Facultie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cording to Phrenol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3689280"/>
            <a:ext cx="6189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832200"/>
            <a:ext cx="624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1619640"/>
            <a:ext cx="632448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lodí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cepción mu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y Núme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apacidad de calcular y manejar números y cif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9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ruc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pensión a construir 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par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ermite comparar sensaciones y nociones, destacar sus semejanzas, analogías, diferencias, identidad; comprender sus relaciones, armonía y discordan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s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ermite comprender la razón que subyace tras los proces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tativeness, Wi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edispone a ver las cosas de modo diverti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de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Vivifica las otras facultades e impone un carácter ideal en es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he Organs of Mental and Moral Facultie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cording to Phrenol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3689280"/>
            <a:ext cx="6189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3832200"/>
            <a:ext cx="624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1405440"/>
            <a:ext cx="63244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volenc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is power produces mildness and goodness, compassion, and kidness, huma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mitativenes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is organ produces a fondness for acting and for dramatic repres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6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is faculty allows us to come up with new id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rmenes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is faculty gives constancy and perseverance to the other powers, contributing to maintain theis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e faculty of time conceives the duration phenom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9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entualit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his faculty recognizes the activity of every other, and acts in turn upon all of the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habitivenes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e instinct that prompts one to select a particular dwelling, often called attachment to ho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76520" y="3832200"/>
            <a:ext cx="624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415440"/>
            <a:ext cx="6324840" cy="59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1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verencia, vener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ermite la adoración de Dios, la veneración de los santos, el respeto por las personas y las cosa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i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entimiento de justicia y preocupación. Amor por la verdad y el de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3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eranz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Hopes induces a belief in the possibility of whatever the other faculties desire, it inspires optimism about future ev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ravillos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is sentiment inspires belief in the true and the false prophet, and aids superstition, but is also essential to the belief in the doctriness of religio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mañ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his organ provides notions of the dimensions or size of external ob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6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so y resist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ermite el conocimiento del peso de los objetos. Util en la manipulación de esto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7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de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Método y orden a objetos físicamente relacionados </a:t>
            </a:r>
            <a:r>
              <a:rPr b="0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6095160"/>
            <a:ext cx="57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fr. Cesare Lombroso (1835-19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12:40:08Z</dcterms:created>
  <dc:creator>Anil Vootkur, PharmD</dc:creator>
  <dc:description/>
  <dc:language>en-US</dc:language>
  <cp:lastModifiedBy>p</cp:lastModifiedBy>
  <cp:lastPrinted>2004-08-23T22:17:49Z</cp:lastPrinted>
  <dcterms:modified xsi:type="dcterms:W3CDTF">2004-08-24T00:49:37Z</dcterms:modified>
  <cp:revision>566</cp:revision>
  <dc:subject/>
  <dc:title>Very Bad Behaviors: Impulsivity and Aggression</dc:title>
</cp:coreProperties>
</file>