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97FB-27DC-4262-A8FF-CB14D60D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BFC-249D-4742-AC25-08152D73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CD0-E37A-41A9-A9F7-051DA2D5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2269-A5B9-4D39-81EF-CC71DD0F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FD27-6F1E-4333-A20C-6CB59B41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5C59-35E4-458A-9E6E-5F834AA4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271D-71F8-43CB-A808-E273179D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217B-A43D-4579-A42A-5D3E9BEA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8F1F-A572-4C34-9C4F-3C216503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3CBE-8D35-451A-947F-5DF120B4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F0B0-BEA0-4742-A436-53ED0729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B40-B578-4C1E-8EEC-33D1B782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1E93-E23E-491A-B17E-0E11A099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A4CE-8E06-4EF1-AF53-10C05890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E365-927C-47DA-A5B6-0CD64443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6EAB-9015-4FDA-9871-46D6D8B3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FA24-BDDB-4C75-B30A-C5B12199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EB0B-E5ED-4DE8-9E39-825BA942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F3B9-F871-46AD-9351-990F6873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B64-328B-47D7-8870-302AD314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41C7-DAC3-4EAA-9D30-BC0159EE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DFD0-A0E7-477F-864F-3AA06A99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FB8-6951-453F-9E91-AF213A95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D4FC-261D-4C12-91D8-9DA87D8E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D225-8DB9-42A7-9834-F39719A5A79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20C0-8A7B-4398-9C9B-96C68E37BFC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Estructura del léxico intern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08366"/>
                </a:solidFill>
                <a:latin typeface="Times New Roman"/>
              </a:rPr>
              <a:t>G. Soto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oraleja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l supuesto de economía cognitiva puede estar errado. Puede que las propiedades comúnmente empleadas se almacenen redundantemente en el léxic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modelo asume que todos los ítemes de un mismo nivel de jerarquía son relativamente iguales: “canario” / “avestruz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oblem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iertas instancias de las categorías se reconocen más rápido que otr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mith, Sholen y Rips (1974)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fecto de tipicalidad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La tipicalidad reduce los tiempos de verificación para los enunciados V y los aumenta para los F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(1) Un gorrión es un pájar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(2) Un ñandú es un pájar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(1) Se verifica en menos tiempo que (2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(1) Una ballena es un pez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(2) Un caballo es un pez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(1) Se verifica en más tiempo que (2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Moraleja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Deben considerarse aspectos funcionales de la palabr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alabras se representan en el léxico en una red de relaciones no jerárquic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Red de nodos interconectad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os nodos tienen relaciones de mayor o menor proxim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 distancia se determina por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aracterísticas estructura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aracterísticas funciona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aracterísticas estructur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Relaciones de categorí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aracterísticas funcion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ipicalida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grado de asociación entre concept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mparación con el modelo de redes jerárquicas de Collins y Quillian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n ambos los conceptos están interconectados (vs. Modelos de rasgo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n los modelos de activación extendida se revisa la idea de que todas las relaciones son igua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mparación con el modelo de redes jerárquicas de Collins y Quillian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Para los modelos de activación extendida ciertos nodos son más accesibles que otr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actores facilitadores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frecuencia de us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tipicalida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Compárese con la web Internet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Una red jerárquica de nod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os conceptos son nodos en la r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 red establece relaciones d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2000"/>
                </a:solidFill>
                <a:latin typeface="Times New Roman"/>
              </a:rPr>
              <a:t>categoría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: superordenación y subordinació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2000"/>
                </a:solidFill>
                <a:latin typeface="Times New Roman"/>
              </a:rPr>
              <a:t>propiedad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: características de los ítem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mparación con el modelo de redes jerárquicas de Collins y Quillian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Los modelos de activación extendida modifican el concepto de economía cognitiv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Versión débil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información que se encuentra muy frecuentemente asociada a un concepto se almacena en él aunque sea redundan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24080" y="1828800"/>
            <a:ext cx="2819520" cy="6094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905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conomía cogni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2160" y="2438280"/>
            <a:ext cx="4114080" cy="259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134800" y="2438280"/>
            <a:ext cx="426456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0821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08217"/>
              </a:path>
            </a:pathLst>
          </a:custGeom>
          <a:noFill/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3962520"/>
            <a:ext cx="27432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Versión fuerte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Collins y Quillian  (1972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Inconsistente con datos de Conrad (1972): la frecuencia influy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4038480"/>
            <a:ext cx="274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Versión débil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Collins y Loftus  (1975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Las propiedades no se almacenan en todos los lugares en que se usan. Sólo en los más frecuent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Recuperación de información semántic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Ocurre por un proceso de activación extendid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activación comienza en un nodo y se expande en paralelo por la r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activación se atenúa con la distancia (los conceptos próximos se activan más que los lejanos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Metáfora de las ondas: lanzar una piedra al agua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Factores que inciden en la magnitud de activación del nodo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Intensidad del estímulo inicia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Distancia entre los elementos de la red y el nodo inicia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iempo transcurrido desde la activación del primer nod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proceso de toma de decisiones en tareas de verificación semántica es complicado y depende de las diversas influencias que recibe un único nod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Hay un umbral de activa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3733920"/>
            <a:ext cx="762120" cy="7617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2057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formación categori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38680" y="18288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asgos característicos compartid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4876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formación caracterizador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Ítemes anteri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360" y="2514600"/>
            <a:ext cx="319968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876200" y="2546280"/>
            <a:ext cx="2742840" cy="213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53" y="502"/>
                </a:moveTo>
                <a:arcTo wR="10800" hR="10800" stAng="-4348250" swAng="4348250"/>
                <a:lnTo>
                  <a:pt x="10800" y="10800"/>
                </a:lnTo>
                <a:close/>
              </a:path>
              <a:path fill="none" w="21600" h="21600">
                <a:moveTo>
                  <a:pt x="14053" y="502"/>
                </a:moveTo>
                <a:arcTo wR="10800" hR="10800" stAng="-4348250" swAng="4348250"/>
              </a:path>
            </a:pathLst>
          </a:custGeom>
          <a:noFill/>
          <a:ln w="7632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4116240"/>
            <a:ext cx="274320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38815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388151"/>
              </a:path>
            </a:pathLst>
          </a:custGeom>
          <a:noFill/>
          <a:ln w="7632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 rot="5706600">
            <a:off x="2275920" y="4199400"/>
            <a:ext cx="2590920" cy="255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53" y="502"/>
                </a:moveTo>
                <a:arcTo wR="10800" hR="10800" stAng="-4348250" swAng="4348250"/>
                <a:lnTo>
                  <a:pt x="10800" y="10800"/>
                </a:lnTo>
                <a:close/>
              </a:path>
              <a:path fill="none" w="21600" h="21600">
                <a:moveTo>
                  <a:pt x="14053" y="502"/>
                </a:moveTo>
                <a:arcTo wR="10800" hR="10800" stAng="-4348250" swAng="4348250"/>
              </a:path>
            </a:pathLst>
          </a:custGeom>
          <a:noFill/>
          <a:ln w="7632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entajas del mode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xplica casos como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Verificación de Oraciones del tipo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 bat is a bird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2000"/>
                </a:solidFill>
                <a:latin typeface="Times New Roman"/>
              </a:rPr>
              <a:t>Bat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402000"/>
                </a:solidFill>
                <a:latin typeface="Times New Roman"/>
              </a:rPr>
              <a:t>bird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están  razonablemente cerca porque comparten rasgos característic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información categorial es inconsistente en O por lo que se decide que O es fal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entajas del mode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xplica casos como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efecto de contexto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18) </a:t>
            </a:r>
            <a:r>
              <a:rPr b="0" i="1" lang="es-ES_tradnl" sz="2000" spc="-1" strike="noStrike">
                <a:solidFill>
                  <a:srgbClr val="402000"/>
                </a:solidFill>
                <a:latin typeface="Times New Roman"/>
              </a:rPr>
              <a:t>Robbery is a crime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robo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19) </a:t>
            </a:r>
            <a:r>
              <a:rPr b="0" i="1" lang="es-ES_tradnl" sz="2000" spc="-1" strike="noStrike">
                <a:solidFill>
                  <a:srgbClr val="402000"/>
                </a:solidFill>
                <a:latin typeface="Times New Roman"/>
              </a:rPr>
              <a:t>Murder is a crime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asesinato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20) </a:t>
            </a:r>
            <a:r>
              <a:rPr b="0" i="1" lang="es-ES_tradnl" sz="2000" spc="-1" strike="noStrike">
                <a:solidFill>
                  <a:srgbClr val="402000"/>
                </a:solidFill>
                <a:latin typeface="Times New Roman"/>
              </a:rPr>
              <a:t>Libel is a crime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difamación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19) tiene un efecto de priming más poderoso que (20) sobre (18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Explicación: la semejanza entre </a:t>
            </a:r>
            <a:r>
              <a:rPr b="0" i="1" lang="es-ES_tradnl" sz="2000" spc="-1" strike="noStrike">
                <a:solidFill>
                  <a:srgbClr val="402000"/>
                </a:solidFill>
                <a:latin typeface="Times New Roman"/>
              </a:rPr>
              <a:t>murder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y </a:t>
            </a:r>
            <a:r>
              <a:rPr b="0" i="1" lang="es-ES_tradnl" sz="2000" spc="-1" strike="noStrike">
                <a:solidFill>
                  <a:srgbClr val="402000"/>
                </a:solidFill>
                <a:latin typeface="Times New Roman"/>
              </a:rPr>
              <a:t>robber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lleva a que </a:t>
            </a:r>
            <a:r>
              <a:rPr b="0" i="1" lang="es-ES_tradnl" sz="2000" spc="-1" strike="noStrike">
                <a:solidFill>
                  <a:srgbClr val="402000"/>
                </a:solidFill>
                <a:latin typeface="Times New Roman"/>
              </a:rPr>
              <a:t>murder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reactive</a:t>
            </a:r>
            <a:r>
              <a:rPr b="0" i="1" lang="es-ES_tradnl" sz="2000" spc="-1" strike="noStrike">
                <a:solidFill>
                  <a:srgbClr val="402000"/>
                </a:solidFill>
                <a:latin typeface="Times New Roman"/>
              </a:rPr>
              <a:t> robber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modelo de activación extendida es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más complej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da una visión más completa del conocimiento léxic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permite integrar el significado connotativo (p. ej., la tipicalidad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valuación del mode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Más realista, menos rígido, más complic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conoce diversidad de información en una red semántic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Da cuenta de la complejidad de la decisión semántica: Hay una serie de procedimientos de decisión, no uno sol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conomía cognitiva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La información se almacena en el nodo más alto posible de la r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Las relaciones categoriales se heredan a los nodos más baj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valuación del mode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roblema: el enfoque es menos verifica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llins y Loftus responde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La verificabilidad no es el único criterio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Más importante es si puede o no iluminar otras líneas de investigación en léxico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Cómo se accede a las palabras individual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Cómo el nodo de acceso a las palabras contribuye  a la comprensión del lenguaje en niveles superior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nim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v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3429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ez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nari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5486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vestruz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600200"/>
            <a:ext cx="2133720" cy="13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Tiene pie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Puede movers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Com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Respir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236232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800600" y="1828440"/>
            <a:ext cx="838080" cy="6094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800600" y="2133720"/>
            <a:ext cx="838080" cy="304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2438280"/>
            <a:ext cx="914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2438280"/>
            <a:ext cx="76176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556272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358128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58128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563868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505320" y="2590560"/>
            <a:ext cx="1066680" cy="1066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3200400"/>
            <a:ext cx="213372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Tiene al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Puede vola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Tiene plum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505320" y="3428640"/>
            <a:ext cx="914400" cy="2286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3657600"/>
            <a:ext cx="838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3657600"/>
            <a:ext cx="83808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9680" y="3809520"/>
            <a:ext cx="1143000" cy="17528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5334120"/>
            <a:ext cx="2133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Puede canta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Es amarill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209680" y="5486400"/>
            <a:ext cx="53352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5562720"/>
            <a:ext cx="533520" cy="304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505320" y="3809880"/>
            <a:ext cx="2209680" cy="1828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5181480"/>
            <a:ext cx="213372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Tiene patas larg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Es alt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No puede vola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867280" y="5334120"/>
            <a:ext cx="76212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571500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5715000"/>
            <a:ext cx="60984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876920" y="2590560"/>
            <a:ext cx="2209680" cy="11430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2133720"/>
            <a:ext cx="60195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formación “by default” : los pájaros vuela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e especifican los datos “anómalos”: el avestruz no vuel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Decisión  F o V de O tipo “X es Y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l avestruz es un av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Búsqueda de intersecció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e activan los nodos X, 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e busca información pertinente hasta que X e Y se intersecta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e revisa la relación propuesta con la relación en el léxic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 economía cognitiva + la búsqueda de intersección predic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n pájaro es un anim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n pájaro puede resir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Se procesan en más tiempo que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n animal es un anim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n animal puede respir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ategory-size effec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Sean “Un A es un B” / “Un A tiene un B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Mientras más arriba esté localizado B en la jerarquía, respecto de A, mayor tiempo de reacció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ategory-size effec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ríticas 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rad (1972)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536120" indent="-2192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la frecuencia con que se asocia una propiedad a un concepto determina el tiempo de respuest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536120" indent="-2192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si se controla la frecuencia desaparece el category-size effec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5361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relación pájaro/plumas se verifica más rápidamente que pájaro/comida porque la primera es más frecuen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0:10:48Z</dcterms:created>
  <dc:creator>Filosofia filosofia</dc:creator>
  <dc:description/>
  <dc:language>en-US</dc:language>
  <cp:lastModifiedBy>Filosofia filosofia</cp:lastModifiedBy>
  <dcterms:modified xsi:type="dcterms:W3CDTF">2003-10-30T18:34:48Z</dcterms:modified>
  <cp:revision>43</cp:revision>
  <dc:subject/>
  <dc:title>Estructura del léxico interno</dc:title>
</cp:coreProperties>
</file>