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E31-C4D4-4381-B942-7926606D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35C-0869-426B-9087-83D580E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416-90FA-498C-96AB-4E85C4B6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19D-3BBF-4E32-B18D-B8901B17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6179-5FE0-4B4C-AA94-BA7C5498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3997-1A90-4F13-A40F-2C355286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69D-AC62-47CA-BAAD-302B91C5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FAED-7CC0-4E4C-A1C2-342CC1C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F292-D319-4992-B920-1AEE2E3F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5649-7E21-47BA-8247-1FCE6766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2B7-2A40-48A0-B8A7-F1013D73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9AA-175B-4A1F-91D3-F779ED41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FD10-DF8B-4486-B412-13D7CC6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EB6-6ADD-4092-9ABF-615F017E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E8EC-0838-4A60-BEEE-843BBDD2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8773-532B-4B63-AD39-3C7719CB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9B72-D85D-45BD-A18B-5778102F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6A5-EA1B-4AD0-812A-FD3963D0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E21-8A4E-4288-8086-C1F5D1D7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011-5AAA-46E8-A36F-8B9F1612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C33-4F5B-4290-ABEA-D85890E4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897-F299-4A1E-9F84-BDC17E8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DAC-C9B1-4F24-BE82-817659F4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CCD-5DD4-4859-9992-B90B616E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E969-3AE2-4703-9254-26F7A2B821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C4D5-7C25-4EC0-B4DA-D54F8A5D088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6633"/>
                </a:solidFill>
                <a:latin typeface="Times New Roman"/>
              </a:rPr>
              <a:t>Estructura del léxico intern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a08366"/>
                </a:solidFill>
                <a:latin typeface="Times New Roman"/>
              </a:rPr>
              <a:t>G. Soto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supuesto de economía cognitiva puede estar errado. Puede que las propiedades comúnmente empleadas se almacenen redundantemente en el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asume que todos los ítemes de un mismo nivel de jerarquía son relativamente iguales: “canario” / “avestruz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Problem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iertas instancias de las categorías se reconocen más rápido que otr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Smith, Sholen y Rips (1974)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fecto de tipicalidad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tipicalidad reduce los tiempos de verificación para los enunciados V y los aumenta para los F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 gorrión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ñandú es un pájar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eno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Una ballena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2) Un caballo es un pez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(1) Se verifica en más tiempo que (2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oraleja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eben considerarse aspectos funcionales de la palabr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s palabras se representan en el léxico en una red de relaciones no jerárqu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d de nodos interconecta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nodos tienen relaciones de mayor o menor proxim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distancia se determina por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estructur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Relaciones de categorí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racterísticas funcio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grado de asociación entre concept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ambos los conceptos están interconectados (vs. Modelos de rasgo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n los modelos de activación extendida se revisa la idea de que todas las relaciones son igua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ara los modelos de activación extendida ciertos nodos son más accesibles que ot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Factores facilitador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frecuencia de us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tipicalid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Compárese con la web Interne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Una red jerárquica de nod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os conceptos son nodos en la 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red establece relaciones d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categoría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superordenación y subordina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2000"/>
                </a:solidFill>
                <a:latin typeface="Times New Roman"/>
              </a:rPr>
              <a:t>propiedad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: características de los ítem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omparación con el modelo de redes jerárquicas de Collins y Quillian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os modelos de activación extendida modifican el concepto de economía cognitiv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que se encuentra muy frecuentemente asociada a un concepto se almacena en él aunque sea redunda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124080" y="1828800"/>
            <a:ext cx="2819520" cy="609480"/>
          </a:xfrm>
          <a:prstGeom prst="rect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conomía cogn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2160" y="2438280"/>
            <a:ext cx="4114080" cy="259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134800" y="2438280"/>
            <a:ext cx="426456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0821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08217"/>
              </a:path>
            </a:pathLst>
          </a:custGeom>
          <a:noFill/>
          <a:ln w="572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2743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fuert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Quillian  (1972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Inconsistente con datos de Conrad (1972): la frecuencia influy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038480"/>
            <a:ext cx="274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Versión débil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llins y Loftus  (1975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Las propiedades no se almacenan en todos los lugares en que se usan. Sólo en los más frecuent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Recuperación de información semántic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Ocurre por un proceso de activación extendi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comienza en un nodo y se expande en paralelo por la r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activación se atenúa con la distancia (los conceptos próximos se activan más que los lejano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Metáfora de las ondas: lanzar una piedra al agu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Factores que inciden en la magnitud de activación del n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Intensidad del estímul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istancia entre los elementos de la red y el nodo inicia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Tiempo transcurrido desde la activación del primer nod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proceso de toma de decisiones en tareas de verificación semántica es complicado y depende de las diversas influencias que recibe un único no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Hay un umbral de activa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733920"/>
            <a:ext cx="762120" cy="7617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2057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tegori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38680" y="1828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asgos característicos compartid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876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caracterizador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Ítemes anteri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360" y="2514600"/>
            <a:ext cx="319968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76200" y="2546280"/>
            <a:ext cx="2742840" cy="213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4116240"/>
            <a:ext cx="274320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8815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88151"/>
              </a:path>
            </a:pathLst>
          </a:custGeom>
          <a:noFill/>
          <a:ln w="7632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 rot="5706600">
            <a:off x="2275920" y="4199400"/>
            <a:ext cx="2590920" cy="25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3" y="502"/>
                </a:moveTo>
                <a:arcTo wR="10800" hR="10800" stAng="-4348250" swAng="4348250"/>
                <a:lnTo>
                  <a:pt x="10800" y="10800"/>
                </a:lnTo>
                <a:close/>
              </a:path>
              <a:path fill="none" w="21600" h="21600">
                <a:moveTo>
                  <a:pt x="14053" y="502"/>
                </a:moveTo>
                <a:arcTo wR="10800" hR="10800" stAng="-4348250" swAng="4348250"/>
              </a:path>
            </a:pathLst>
          </a:custGeom>
          <a:noFill/>
          <a:ln w="7632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Verificación de Oraciones del tip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 bat is a bird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at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402000"/>
                </a:solidFill>
                <a:latin typeface="Times New Roman"/>
              </a:rPr>
              <a:t>bird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están  razonablemente cerca porque comparten rasgos característic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información categorial es inconsistente en O por lo que se decide que O es fal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Ventajas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xplica caso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efecto de context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8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rob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asesinat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20)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Libel is a crime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difamació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(19) tiene un efecto de priming más poderoso que (20) sobre (18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Explicación: la semejanza entr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y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lleva a que 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murder 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preactive</a:t>
            </a:r>
            <a:r>
              <a:rPr b="0" i="1" lang="es-ES_tradnl" sz="2000" spc="-1" strike="noStrike">
                <a:solidFill>
                  <a:srgbClr val="402000"/>
                </a:solidFill>
                <a:latin typeface="Times New Roman"/>
              </a:rPr>
              <a:t> robbery</a:t>
            </a: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l modelo de activación extendida 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ás complej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da una visión más completa del conocimiento léxic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permite integrar el significado connotativo (p. ej., la tipicalidad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Más realista, menos rígido, más complic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Reconoce diversidad de información en una red semánt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Da cuenta de la complejidad de la decisión semántica: Hay una serie de procedimientos de decisión, no uno sol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conomía cognitiva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 información se almacena en el nodo más alto posible de la r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Las relaciones categoriales se heredan a los nodos más baj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s de activación extendida</a:t>
            </a:r>
            <a:br>
              <a:rPr sz="3200"/>
            </a:b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(Collins y Loftus)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Evaluación del mode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oblema: el enfoque es menos verificab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llins y Loftus responden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verificabilidad no es el único criteri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Más importante es si puede o no iluminar otras líneas de investigación en léxico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se accede a las palabras individual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ómo el nodo de acceso a las palabras contribuye  a la comprensión del lenguaje en niveles superior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429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e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anari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548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vestruz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600200"/>
            <a:ext cx="213372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i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mover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Co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Respir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800600" y="1828440"/>
            <a:ext cx="838080" cy="6094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2133720"/>
            <a:ext cx="83808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2438280"/>
            <a:ext cx="9144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2438280"/>
            <a:ext cx="761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56272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5812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5638680"/>
            <a:ext cx="228600" cy="22860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505320" y="2590560"/>
            <a:ext cx="1066680" cy="1066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20040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al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lum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3428640"/>
            <a:ext cx="914400" cy="2286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657600"/>
            <a:ext cx="838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3657600"/>
            <a:ext cx="83808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3809520"/>
            <a:ext cx="1143000" cy="17528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5334120"/>
            <a:ext cx="2133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Puede cant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marill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209680" y="5486400"/>
            <a:ext cx="53352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5562720"/>
            <a:ext cx="533520" cy="304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05320" y="3809880"/>
            <a:ext cx="2209680" cy="1828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5181480"/>
            <a:ext cx="2133720" cy="9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Tiene patas larg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Es al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imes New Roman"/>
              </a:rPr>
              <a:t>No puede vola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5334120"/>
            <a:ext cx="762120" cy="3808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5715000"/>
            <a:ext cx="7621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5715000"/>
            <a:ext cx="60984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876920" y="2590560"/>
            <a:ext cx="2209680" cy="1143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2133720"/>
            <a:ext cx="6019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formación “by default” : los pájaros vuel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especifican los datos “anómalos”: el avestruz no vuel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Decisión  F o V de O tipo “X es Y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El avestruz es un ave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Búsqueda de interse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activan los nodos X, 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busca información pertinente hasta que X e Y se intersecta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 revisa la relación propuesta con la relación en el léxic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La economía cognitiva + la búsqueda de intersección predic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pájaro puede res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 procesan en más tiempo que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es un anim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Un animal puede respira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Sean “Un A es un B” / “Un A tiene un B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Mientras más arriba esté localizado B en la jerarquía, respecto de A, mayor tiempo de reacció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2000"/>
                </a:solidFill>
                <a:latin typeface="Times New Roman"/>
              </a:rPr>
              <a:t>Category-size effe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2000"/>
                </a:solidFill>
                <a:latin typeface="Times New Roman"/>
              </a:rPr>
              <a:t>Críticas 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rad (1972):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la frecuencia con que se asocia una propiedad a un concepto determina el tiempo de respues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-2192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2000"/>
                </a:solidFill>
                <a:latin typeface="Times New Roman"/>
              </a:rPr>
              <a:t>si se controla la frecuencia desaparece el category-size eff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La relación pájaro/plumas se verifica más rápidamente que pájaro/comida porque la primera es más frecuen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996633"/>
                </a:solidFill>
                <a:latin typeface="Times New Roman"/>
              </a:rPr>
              <a:t>Modelo de estructuras jerárquicas</a:t>
            </a:r>
            <a:br>
              <a:rPr sz="3200"/>
            </a:br>
            <a:r>
              <a:rPr b="0" lang="es-ES_tradnl" sz="2000" spc="-1" strike="noStrike">
                <a:solidFill>
                  <a:srgbClr val="996633"/>
                </a:solidFill>
                <a:latin typeface="Times New Roman"/>
              </a:rPr>
              <a:t>Collins &amp; Quillian (1969-72) (en Carroll 1994)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0:10:48Z</dcterms:created>
  <dc:creator>Filosofia filosofia</dc:creator>
  <dc:description/>
  <dc:language>en-US</dc:language>
  <cp:lastModifiedBy>Filosofia filosofia</cp:lastModifiedBy>
  <dcterms:modified xsi:type="dcterms:W3CDTF">2003-10-30T18:34:48Z</dcterms:modified>
  <cp:revision>43</cp:revision>
  <dc:subject/>
  <dc:title>Estructura del léxico interno</dc:title>
</cp:coreProperties>
</file>