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79F-3ABA-4A37-B4CD-100FB3D7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832-5154-43E2-884E-6D179350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2FE-9786-431E-8732-EBB125BC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C82-272F-473D-A03C-621D31D8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2578-F01F-4C0C-B8A0-540CDF82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B054-15FB-4F94-9D57-2EFAAF43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C89F-88FD-4CC5-98DB-12456D2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6DD1-44AC-4EAB-BA7E-73004ED2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ABEA-B7D1-4DF8-8066-32BA5FC5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4EB-DF4E-4632-AB4A-10C8975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8B13-EB57-4003-B50F-EE836C58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27C-3818-4375-8E7C-9C1028F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2850-3960-48D7-AA1E-721571E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B71A-B581-4959-B0A4-1D37056A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4010-A509-48E2-895B-69E277A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34E7-7449-4A39-B0A4-45CA7ACB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DD9E-EDD8-492E-8F70-C0E65A4B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655-83C3-4690-9CE0-D7D1C05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9B6-CE3D-4864-907B-EB94F962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F71-3770-4846-85C5-024CDA2F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E69-B694-4ECE-B1CA-12165E14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520-FCA0-4092-B837-BA1F668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43B-E22A-4E1B-9DD2-DD052CA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48F-274A-4A9A-AD1D-84542CFA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F891-903C-4E41-B04D-1B3EEA6CC89E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7A3-C5D8-40BD-8EFB-CEA85EF74305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file:///ejercicios%20de%20estadistica%20de%20la%20calidad.pp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jercicios%20de%20estadistica%20de%20la%20calidad.ppt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628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ff0000"/>
                </a:solidFill>
                <a:uFillTx/>
                <a:latin typeface="Verdana"/>
              </a:rPr>
              <a:t>Curso de control de calidad</a:t>
            </a:r>
            <a:r>
              <a:rPr b="1" i="1" lang="es-ES" sz="40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Ejercicios de estadístic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3b812f"/>
                </a:solidFill>
                <a:uFillTx/>
                <a:latin typeface="Times New Roman"/>
              </a:rPr>
              <a:t>de la 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5480" y="181080"/>
            <a:ext cx="576324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UNIVERSIDAD DE CHI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DEPARTAMENTO DE INGENIERÍA DE LA MADER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636912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  <a:ea typeface="Arial"/>
              </a:rPr>
              <a:t>30 Agosto del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04640"/>
            <a:ext cx="7775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6633"/>
                </a:solidFill>
                <a:latin typeface="Arial"/>
              </a:rPr>
              <a:t>EJERCICIOS DE INTERVALO DE CONFIANZA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137440" cy="1897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78483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1767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960720" cy="1076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715176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2421000"/>
            <a:ext cx="8324640" cy="590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042920" y="3284640"/>
            <a:ext cx="705816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11280" y="4653000"/>
            <a:ext cx="82454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268280"/>
            <a:ext cx="8175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99"/>
                </a:solidFill>
                <a:latin typeface="Trebuchet MS"/>
              </a:rPr>
              <a:t>Ejercicio de Histogra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958680"/>
            <a:ext cx="8496000" cy="134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492280"/>
            <a:ext cx="669636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6633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4608360" cy="1465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756144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8064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3456000" cy="3292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5267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45021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1:13:32Z</dcterms:created>
  <dc:creator>Francisco Rojo Callejas</dc:creator>
  <dc:description/>
  <dc:language>en-US</dc:language>
  <cp:lastModifiedBy>Rubén</cp:lastModifiedBy>
  <dcterms:modified xsi:type="dcterms:W3CDTF">2007-08-29T23:28:17Z</dcterms:modified>
  <cp:revision>30</cp:revision>
  <dc:subject/>
  <dc:title>Muestreo para la inspección por atributos</dc:title>
</cp:coreProperties>
</file>