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909BE-E9E2-4206-8DF9-12D5B6F98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0D6B4-5244-4687-9979-DD5E5F143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9D51A-AB41-4AB4-8A97-C94E1D3A1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4D29D-1F3F-4CE9-A9AE-06AD415D1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05F81-3C2C-44BA-B606-D0EA65D65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84985-1D45-4C1E-A152-7597278AB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EAABE-E1F5-4233-BD4F-460BAF527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77AA8-89BF-477B-9F8E-3A92D45D1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7B4CD-1E31-465F-8998-5B0178AAD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60D2E-E207-493F-A8F7-F7843D8E5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7C76F-1D62-4AAC-95CE-8E0A91551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B4BA8-33E8-47F7-9811-63183ACE4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BD030-001B-4385-867F-F746383ABB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Tratamientos Transitori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Tratamientos Transitori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stemas silviculturales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a analizados se pueden aplicar por primera vez para cambiar la condición de bosque nativo sin manejo a bosque nativo manejado, de composición y estructura acorde con los objetivos de manej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 cabo de la primera rotación bajo manejo, adquieren el carácter de permanen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Tratamientos Transitori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aplican 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clusivamente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n primera rotación para efectuar cambios profundos en la estructura y/o composición del bosque, cuando ésta(s) no cumple(n) con los objetivos del manej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Tratamientos Transitori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vers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form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riquecimie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7T19:50:19Z</dcterms:created>
  <dc:creator>Administrador</dc:creator>
  <dc:description/>
  <dc:language>en-US</dc:language>
  <cp:lastModifiedBy>Administrador</cp:lastModifiedBy>
  <dcterms:modified xsi:type="dcterms:W3CDTF">2007-08-27T19:56:12Z</dcterms:modified>
  <cp:revision>2</cp:revision>
  <dc:subject/>
  <dc:title>Tratamientos Transitorios</dc:title>
</cp:coreProperties>
</file>