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267-17CD-4BFD-828C-E52BC404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BDF-3A5B-4609-8FA6-D3EF7A2B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E21-F6AA-4111-91B4-C70D4496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AC6-853E-42B8-BE45-5744F9DB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86CF-4D20-421F-B04C-1056DB79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934B-E688-4D5C-A114-06D589EF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1DE0-DB7D-433D-A0A1-7BFC9CB8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87D0-ADA9-4D81-A158-42FF79A9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2318-253E-4D3F-89B4-6830B6E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6BD3-BB9A-4CD4-81F0-680ACE4E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2612-55C5-4616-B73C-BFE6332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DB3-000D-4430-9895-5D2522F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33D1-6829-4867-ACFA-3B13A6A1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146F-5A87-409C-8534-C50D132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B3F8-D605-4086-A005-943DB6C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2403-9873-48E5-A266-98C6CA70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E6F8-9CA1-421C-96B1-0D433DDE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D5E-3D1B-408A-AD5D-8E69EF56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FEB-A43A-43EC-AEDD-96B85FAD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CEF9-DB4F-4314-8631-FDC24F4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EBE-37EF-447C-9E67-AF9AC2D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90B-3FC7-422C-9CE0-F1B6084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1C6-EEA4-4841-89E6-1F0572E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91A-8494-4137-A2EF-532A446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CD95-5A8B-44C9-B3FA-244FEE40C0BA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BB7B-7FB6-447B-B0D0-EB00A738ABB4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ODA DE ÁRBOLES URBANOS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Concepto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ván Grez 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onio Vita 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form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realiza mediante una combinación de poda de raleo de ramas y poda de rebaje de las remanent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480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mantenimien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antener en el tiempo la forma obtenida a través de la poda de form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Se realizan cada dos a cuatro año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oda Eucalyptus camaldulen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8720" y="1557360"/>
            <a:ext cx="3632040" cy="504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881600" y="1557360"/>
            <a:ext cx="3630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s excepcion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orresponden a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podas severas que tienen por objetivo reducir el volumen de la copa de los árbo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ienen carácter excepcion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Árboles que presentan una parte completa sec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vejecid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uy débi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stropead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nsidad de la po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expresa en el % de la biomasa aérea extraí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iminación de biomasa foliar vigorosa ocasiona pérdida en crecimiento general del ejempl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 obstante, brotes remanentes se desarrollan con mayor vig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quilibrar ambos efect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Qué es la po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rta selectiva de parte de un árbol con un propósito defini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árboles urban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atamiento más comú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natural en formaciones boscos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natural en árboles urbanos: poco efectiva por menor densid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tivo poda árboles urban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jorar estructura del ejempl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mentar vig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gurid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jorar estructura del ejemp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nes estéticos: silueta con hojas/caduco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mentar transparencia de la cop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jorar las características naturales de los árbo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stimular la producción flor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tener formas y siluetas artificiales, destinadas a complementar formaciones urbana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quilibrar estructura aérea/radicular: equilibrar demanda del sistema aéreo a la oferta de las raíc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crementar vig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delgazamiento de la copa para mejorar la ventilación, iluminación y reducir problemas de enfermedad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oción de ramas que se rozan o se entrecruza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traer ramas rotas o dañada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over ramas enfermas o infestadas de insect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mover ramas que podrían ca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rimir las que obstruyen la visibilidad en calles o entradas de vehículos, semáforos, señaliz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cuperar árboles que han sido dañados por vient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iminar hojas secas y racimos frutales en palmera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primir ramas que interfieren con líneas de servicio públ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ir copas con altura suficiente para el paso de peatones y/o vehícul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ipos de po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de form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 de manteni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das excepciona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da de form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tivo general: que el ejemplar adquiera una forma y densidad de copa adecuad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 propósito es conducir el árbol para tener una estructura de ramas principales fuertes y bien distribuid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 realiza durante los primeros añ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9:06:49Z</dcterms:created>
  <dc:creator>Universidad de Chile</dc:creator>
  <dc:description/>
  <dc:language>en-US</dc:language>
  <cp:lastModifiedBy>Universidad de Chile</cp:lastModifiedBy>
  <dcterms:modified xsi:type="dcterms:W3CDTF">2009-05-27T20:36:05Z</dcterms:modified>
  <cp:revision>14</cp:revision>
  <dc:subject/>
  <dc:title>Conceptos y técnicas de poda de árboles urbanos </dc:title>
</cp:coreProperties>
</file>