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A4F-DA70-4D2D-AFA2-0C1E0950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4B7-DE3F-4CBD-8DF2-192E1693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0AA-3185-4FBA-A406-2B0AA902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F6F-97CA-4136-BB5A-4D314F21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CA0FD-4D58-404C-ADAD-2FC250FD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1C5CE-33D4-4BE9-A928-C3E6F2DE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C8A8B-DABD-4A09-98A5-DC9D0CC3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4B77D-5519-412E-9E5E-CDABA6A7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590D7-44C8-4A83-A3B0-25FDB820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2C79A-9CD7-4288-AF0B-B32DFBEC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607FF-B753-4EF3-97AB-DAA20E0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147-811D-47AE-BD6F-0616B2C7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2C0E8-BBFF-4879-A301-604ACC3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8F4F1-E5AD-40B5-9365-E1DB874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1C1F7-9050-4670-B082-0679F6D7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91F4D-7C47-4C82-AAA8-BD12E65B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0AE28-7E08-44AB-8313-6AE4922A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62A-41D4-4E60-8584-2E4835A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7F0-A3E9-4C88-9112-8B66F64B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C76-BA95-4483-893B-91C74D79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B6F-2BD5-45D5-868D-83179288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B83-2326-410A-88D4-CC8D9F6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546-435A-4542-99AC-DC4B8EBD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444-DA9F-4751-A7E5-7BF9CEB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6FFB-0DE8-49AB-B06C-BA0C858AF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CC1E-8FDE-4BE5-91F7-BF3DE0685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PERIODISMO POLÍ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átedra: Prof. Sergio Ca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GV: Comunistas proscri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ª. Guerra Mund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fere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 con el fascismo ni con el capital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que a la URSS: EL PC se ali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PC expulsado del gb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 de Defensa de la de la Democracia (194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C propicia revolución arm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OBLEMAS SOCIA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igración del campo a la ciu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isis del salit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scasez de viviendas en las ciu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alubr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sant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amb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gin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pero del pueb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952: elecci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ro Enrique Alfonso, rad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uro Matte, derec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vador Allende, izquier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Ibáñez, pequeños grupo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mayoría absoluta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O QUE VIENE: 195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 visualizan 3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idad socialista-comun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DC emerge al cen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berales-conserv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de 1958  Hasta 197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plazan a radic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recha monolí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e va el caudillo carismá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essand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dependiente a la derec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opción de los tecnóc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ierno opa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e crisis econó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unicipales de 196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DC 1ª. Fuer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rrota de la Dere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l Naranjazo de Curic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erfila los DC y la izquierda para la presidencial de 196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C y FR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derecha se vuelca a Fr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a Revolución en Libertad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unfo de Eduardo Frei Monta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 oposición al comu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unfo de la Revolución cub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yectos políticos glob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orma Agr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 de sindicalización campes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ción popular: juntas de veci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0 mil casas x añ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fragio universal: Analfabetos y ci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enovación de la derecha: P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les+conserv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izquierda d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Partid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itación en el cam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os, huelgas, re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echos hum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Voto+fus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65: Nace el M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 y Libert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naz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piración cub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osición armada a cambios estructu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l. Viaux: ¿equipamientos, sueld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a crisis DC: El MAPU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uerra F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drigo Ambros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íticas al gobie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ción marx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EL MODELO ECONÓM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risis del 29: AL al descubie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erre de los mercados europ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ización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portación materias prim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ortación productos manufactur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sarrollo hacia afuera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crecimiento NO estabilida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ienes industriales, mineros y agrícol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LLENDE: 1ª. Mayoría relati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o P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antías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noviembre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ierno de la Unidad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tuto de Garant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e asume en el Congreso P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tas, comunistas, radicales, independi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ITLER AL PO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naza a la UR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te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a estrategia: Los “frentes populare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ianzas con fuerzas burguesas, antifascis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C+PR= 3 Pdtes. Radic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o modelo desarrol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STADO: MOTOR DE LA INDUSTRIALIZ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rategia técnico econó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stituyen import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jora nivel de vi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ja la cesant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as Indust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va el consumo inter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nomía de mercados exter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L ESTADO:ROL EMPRESARI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pliación de crédi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ción para regul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ulación de pre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s mix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ific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rucción de fundicion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joramiento de cami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entes, tún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939: AGUIRRE CER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r radical al p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ernar es edu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crea la CORF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es termo, hidroeléctr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pección petró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ON TINTO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ofesor y abog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studió en U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s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inistro de JLS (191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Radical:diputado y sen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erremoto y exilio españ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1941 muere: Cardenal Caro,lo des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Pedro Aguirre Cerda"/>
          <p:cNvPicPr/>
          <p:nvPr/>
        </p:nvPicPr>
        <p:blipFill>
          <a:blip r:embed="rId2"/>
          <a:stretch/>
        </p:blipFill>
        <p:spPr>
          <a:xfrm>
            <a:off x="5619600" y="3009960"/>
            <a:ext cx="30560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ÉCADA DEL 40: Juan A Rí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ile dependiente d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titución del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Guerra Mund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lta inf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stanciosos préstam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ducción iniciativa parlamen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dependencia contralo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uptura con el Eje (Alemania, Italia, Jap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946: Gabriel González Vide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 Ser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ra. Base antár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a la EN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organización sind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mig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muje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.Media, Técnica, 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tos hornos de Huachipato y Concep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 petróleo en manos de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dic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e media + fue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mbramiento (1935:vot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erte impul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11:38Z</dcterms:created>
  <dc:creator>*</dc:creator>
  <dc:description/>
  <dc:language>en-US</dc:language>
  <cp:lastModifiedBy>*</cp:lastModifiedBy>
  <dcterms:modified xsi:type="dcterms:W3CDTF">2009-04-06T13:37:21Z</dcterms:modified>
  <cp:revision>2</cp:revision>
  <dc:subject/>
  <dc:title>PERIODISMO POLÍTICO</dc:title>
</cp:coreProperties>
</file>