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3C8-C378-4539-9CA0-81CA7FC7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8DC-0580-485B-911E-A363DE45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C0D-9679-4FED-BB25-07211165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714-70A8-405F-A861-4690169A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7344-A5BC-44B2-B895-6836CE74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9566-FF52-4696-BD2E-B0358CF0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83AF-C282-4FFE-8E9D-4807FB19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3295-788D-4A09-880C-B98BDC47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0A1E-0D76-49CB-B70C-9DF65F59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E5FF-35CB-4AA3-9AE9-017DE1DE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1E5E-0C79-4722-BEDF-44D773B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D93-323A-4386-88B9-BF0DAEFC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4F44-6ED1-4CE2-B764-8BB45AF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E66D-9407-4927-BFD5-2A098944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9F42-922D-4892-BC71-F7516002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A8B3-7B89-423F-8395-91AAA9BB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7F6E-ECAE-48F2-B902-167FC848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C31-BB69-46D4-8E06-E8167C59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3FF-A313-4CC9-BA74-7B89326E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E6D-B715-4C17-93D2-62A9C93E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9D6-5087-480B-A0D8-AC1D530E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CF4-E13D-4455-85C6-D44A887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2BE-A8A4-4303-84D4-FF8F361B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838-D83E-4AE1-B419-275A852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90C1-C9DB-4A10-9580-102C54F369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4FE6-32FA-49F3-A88F-AD01BB186C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Monarqu&#237;a" TargetMode="External"/><Relationship Id="rId2" Type="http://schemas.openxmlformats.org/officeDocument/2006/relationships/hyperlink" Target="http://es.wikipedia.org/wiki/Aristocracia" TargetMode="External"/><Relationship Id="rId3" Type="http://schemas.openxmlformats.org/officeDocument/2006/relationships/hyperlink" Target="http://es.wikipedia.org/wiki/Democracia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Tiran&#237;a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Verdana"/>
              </a:rPr>
              <a:t>¿Qué es la polític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berto Bobb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ist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bierno de los mejo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se asimila a la democraci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biduría, intelig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queza, lina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em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 no hay comida cuando se tiene hambre, si no hay medicamentos cuando se está enfermo, si hay ignorancia y no se respetan los derechos elementales de las personas, la democracia es una cáscara vacía, aunque los ciudadanos voten y tengan Parlamento. (Nelson Mandel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cl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chedumb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t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ión demagóg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ociones irraciona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eneración de la democra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ligarqu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biernan muy pocas perso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 degenerada y negativa de la Arist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grupo minoritario de personas, pertenecientes a una misma clase social, generalmente con gran poder e influencia que dirige y controla una colectividad o institución”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unción de la polític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denar o prohib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isl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tención de recurs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tribución de recurs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qui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tener, defender, ampliar, reforz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at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stornar el poder esta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sentido del PODER</a:t>
            </a:r>
            <a:br>
              <a:rPr sz="44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Aristóte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pater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despó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polí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hij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patr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gobern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del gobernante=corrupció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pología moderna del po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económ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ideológ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polí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esión y bienes y medios de p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le fija precio a la fuerza de trabajo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piedad de los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ss med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gl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ol del Gbno.Congres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opolio de la fuerz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fines de la POLI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s políticos pertenecen a un determinado grupo 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 clase dominante de ese grupo 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acentos de la POLI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poca de lucha 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mpos de Pa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pendencia de una potencia extranj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dad del Est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ordia, paz orden públ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enestar,prosperid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pendencia nacion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IN mínimo de la POLÍ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den público en relaciones inter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ensa de la Integridad Nac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ciones del Estado con otros Es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lí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iuda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udada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úbl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ristóteles: Política</a:t>
            </a:r>
            <a:br>
              <a:rPr sz="44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384 a.C.  322 a.C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stad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urale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s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stado de Derecho</a:t>
            </a:r>
            <a:br>
              <a:rPr sz="4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nvención de Montevideo 193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 estado como persona de Derecho Internacional debe reunir los siguientes requisito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 Población permanent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. Territorio determinad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I. Gobiern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V. Capacidad de entrar en relaciones con los demás Estado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oría clásica de gobier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 seis formas de gobierno Aristóteles tomó en cuenta dos factores primordiales, quién gobierna y cómo gobierna. En base al criterio de quién gobierna, distinguió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 una sola persona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onarquí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n pocas personas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aristocrac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n muchas:         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democrac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e lo puro a lo impur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radación de la monarquía es l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raní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radación de la aristocracia es 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Verdana"/>
              </a:rPr>
              <a:t>oligarquí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corrupción de la democracia oclocraci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e lo mejor a lo pe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Monarqu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rist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Dem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Ocl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Oligarqu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Tiraní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iran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 tirano ocupa el poder por la fuer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o abusivo y cruel del poder usurp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ra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por derech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agogia populism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éspo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átra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ct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narqu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bierno de uno s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talic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arca o R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dicación, derrocamiento, destronamien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redit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ptación del monar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0:02:24Z</dcterms:created>
  <dc:creator>*</dc:creator>
  <dc:description/>
  <dc:language>en-US</dc:language>
  <cp:lastModifiedBy>*</cp:lastModifiedBy>
  <dcterms:modified xsi:type="dcterms:W3CDTF">2009-04-13T12:36:06Z</dcterms:modified>
  <cp:revision>4</cp:revision>
  <dc:subject/>
  <dc:title>¿Qué es la política?</dc:title>
</cp:coreProperties>
</file>