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2D87-F29E-4192-B727-7C07195AA2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58C5E5E-3C80-4EEA-8FE5-A777029BF886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931C925-66AB-44F6-AF11-86631A293FDA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925-1D69-42EA-A63E-2EBF8CE9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C4C-4949-462D-B79B-5094F4B4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080B-28A4-49EC-8245-96D09AFD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0BE-1F2C-4175-BFCC-7D326375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9D6-A869-4A33-8CCA-C3252B86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D0E-2537-49CC-82E9-E4F42591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41B3-19D3-4BF2-A8A1-A442A93F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A38-2152-4D0C-AA64-716CE41E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DD4-AF78-4F19-BA4C-C7E16F05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1DB-1BC9-497F-B609-62E64122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A05-0691-4959-8504-6A384C8D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990A-8F9A-448D-8696-E000D7A6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BA72-6416-4A53-8BEF-C93A039B6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40000" y="4653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ituto de Estudios Inter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dad de C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25210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DIPLOMA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Estrategia Internacional y Política Comer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50920" y="404640"/>
            <a:ext cx="8641800" cy="2807280"/>
            <a:chOff x="250920" y="404640"/>
            <a:chExt cx="8641800" cy="2807280"/>
          </a:xfrm>
        </p:grpSpPr>
        <p:cxnSp>
          <p:nvCxnSpPr>
            <p:cNvPr id="97" name="_s220164"/>
            <p:cNvCxnSpPr>
              <a:stCxn id="98" idx="0"/>
              <a:endCxn id="99" idx="2"/>
            </p:cNvCxnSpPr>
            <p:nvPr/>
          </p:nvCxnSpPr>
          <p:spPr>
            <a:xfrm flipH="1" flipV="1" rot="5400000">
              <a:off x="3149280" y="736200"/>
              <a:ext cx="561600" cy="2143440"/>
            </a:xfrm>
            <a:prstGeom prst="bentConnector3">
              <a:avLst>
                <a:gd name="adj1" fmla="val 20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220165"/>
            <p:cNvCxnSpPr>
              <a:stCxn id="101" idx="0"/>
              <a:endCxn id="99" idx="2"/>
            </p:cNvCxnSpPr>
            <p:nvPr/>
          </p:nvCxnSpPr>
          <p:spPr>
            <a:xfrm flipH="1" flipV="1" rot="5400000">
              <a:off x="3886920" y="1473840"/>
              <a:ext cx="561600" cy="668160"/>
            </a:xfrm>
            <a:prstGeom prst="bentConnector3">
              <a:avLst>
                <a:gd name="adj1" fmla="val 20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220166"/>
            <p:cNvCxnSpPr>
              <a:stCxn id="103" idx="0"/>
              <a:endCxn id="99" idx="2"/>
            </p:cNvCxnSpPr>
            <p:nvPr/>
          </p:nvCxnSpPr>
          <p:spPr>
            <a:xfrm flipV="1" rot="16200000">
              <a:off x="4624920" y="1403280"/>
              <a:ext cx="561600" cy="808560"/>
            </a:xfrm>
            <a:prstGeom prst="bentConnector3">
              <a:avLst>
                <a:gd name="adj1" fmla="val 20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220167"/>
            <p:cNvCxnSpPr>
              <a:stCxn id="105" idx="0"/>
              <a:endCxn id="99" idx="2"/>
            </p:cNvCxnSpPr>
            <p:nvPr/>
          </p:nvCxnSpPr>
          <p:spPr>
            <a:xfrm flipV="1" rot="16200000">
              <a:off x="6100200" y="-72000"/>
              <a:ext cx="561600" cy="3759480"/>
            </a:xfrm>
            <a:prstGeom prst="bentConnector3">
              <a:avLst>
                <a:gd name="adj1" fmla="val 20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220168"/>
            <p:cNvCxnSpPr>
              <a:stCxn id="107" idx="0"/>
              <a:endCxn id="99" idx="2"/>
            </p:cNvCxnSpPr>
            <p:nvPr/>
          </p:nvCxnSpPr>
          <p:spPr>
            <a:xfrm flipV="1" rot="16200000">
              <a:off x="5362560" y="665640"/>
              <a:ext cx="561600" cy="2283840"/>
            </a:xfrm>
            <a:prstGeom prst="bentConnector3">
              <a:avLst>
                <a:gd name="adj1" fmla="val 20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20169"/>
            <p:cNvCxnSpPr>
              <a:stCxn id="109" idx="0"/>
              <a:endCxn id="99" idx="2"/>
            </p:cNvCxnSpPr>
            <p:nvPr/>
          </p:nvCxnSpPr>
          <p:spPr>
            <a:xfrm flipH="1" flipV="1" rot="5400000">
              <a:off x="2411640" y="-360"/>
              <a:ext cx="561600" cy="3616200"/>
            </a:xfrm>
            <a:prstGeom prst="bentConnector3">
              <a:avLst>
                <a:gd name="adj1" fmla="val 20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9" name="_s220170"/>
            <p:cNvSpPr/>
            <p:nvPr/>
          </p:nvSpPr>
          <p:spPr>
            <a:xfrm>
              <a:off x="3105000" y="404640"/>
              <a:ext cx="2791440" cy="112284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IMPORTACI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20171"/>
            <p:cNvSpPr/>
            <p:nvPr/>
          </p:nvSpPr>
          <p:spPr>
            <a:xfrm>
              <a:off x="250920" y="2089080"/>
              <a:ext cx="1264680" cy="1122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CONTING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20172"/>
            <p:cNvSpPr/>
            <p:nvPr/>
          </p:nvSpPr>
          <p:spPr>
            <a:xfrm>
              <a:off x="6152760" y="2089080"/>
              <a:ext cx="1264680" cy="1122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NORMAS</a:t>
              </a:r>
              <a:r>
                <a:rPr b="0" lang="es-ES_tradnl" sz="11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TECN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20173"/>
            <p:cNvSpPr/>
            <p:nvPr/>
          </p:nvSpPr>
          <p:spPr>
            <a:xfrm>
              <a:off x="7628040" y="2089080"/>
              <a:ext cx="1264680" cy="1122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MONOPOL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20174"/>
            <p:cNvSpPr/>
            <p:nvPr/>
          </p:nvSpPr>
          <p:spPr>
            <a:xfrm>
              <a:off x="4677120" y="2089080"/>
              <a:ext cx="1264680" cy="1122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CONTRO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ADMINISTR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20175"/>
            <p:cNvSpPr/>
            <p:nvPr/>
          </p:nvSpPr>
          <p:spPr>
            <a:xfrm>
              <a:off x="3201840" y="2089080"/>
              <a:ext cx="1264680" cy="112284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LIC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20176"/>
            <p:cNvSpPr/>
            <p:nvPr/>
          </p:nvSpPr>
          <p:spPr>
            <a:xfrm>
              <a:off x="1726200" y="2089080"/>
              <a:ext cx="1264680" cy="1122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IMPUE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DISCRIMIN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TO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79280" y="3413160"/>
            <a:ext cx="8964360" cy="3440520"/>
            <a:chOff x="179280" y="3413160"/>
            <a:chExt cx="8964360" cy="3440520"/>
          </a:xfrm>
        </p:grpSpPr>
        <p:cxnSp>
          <p:nvCxnSpPr>
            <p:cNvPr id="111" name="_s220179"/>
            <p:cNvCxnSpPr>
              <a:stCxn id="112" idx="0"/>
              <a:endCxn id="113" idx="2"/>
            </p:cNvCxnSpPr>
            <p:nvPr/>
          </p:nvCxnSpPr>
          <p:spPr>
            <a:xfrm flipH="1" flipV="1" rot="5400000">
              <a:off x="3116160" y="4038120"/>
              <a:ext cx="688680" cy="2190240"/>
            </a:xfrm>
            <a:prstGeom prst="bentConnector3">
              <a:avLst>
                <a:gd name="adj1" fmla="val 219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20180"/>
            <p:cNvCxnSpPr>
              <a:stCxn id="115" idx="0"/>
              <a:endCxn id="113" idx="2"/>
            </p:cNvCxnSpPr>
            <p:nvPr/>
          </p:nvCxnSpPr>
          <p:spPr>
            <a:xfrm flipH="1" flipV="1" rot="5400000">
              <a:off x="3882240" y="4804200"/>
              <a:ext cx="688680" cy="657720"/>
            </a:xfrm>
            <a:prstGeom prst="bentConnector3">
              <a:avLst>
                <a:gd name="adj1" fmla="val 219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20181"/>
            <p:cNvCxnSpPr>
              <a:stCxn id="117" idx="0"/>
              <a:endCxn id="113" idx="2"/>
            </p:cNvCxnSpPr>
            <p:nvPr/>
          </p:nvCxnSpPr>
          <p:spPr>
            <a:xfrm flipV="1" rot="16200000">
              <a:off x="4646160" y="4696920"/>
              <a:ext cx="688680" cy="871920"/>
            </a:xfrm>
            <a:prstGeom prst="bentConnector3">
              <a:avLst>
                <a:gd name="adj1" fmla="val 219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20182"/>
            <p:cNvCxnSpPr>
              <a:stCxn id="119" idx="0"/>
              <a:endCxn id="113" idx="2"/>
            </p:cNvCxnSpPr>
            <p:nvPr/>
          </p:nvCxnSpPr>
          <p:spPr>
            <a:xfrm flipV="1" rot="16200000">
              <a:off x="6176520" y="3166560"/>
              <a:ext cx="688680" cy="3933000"/>
            </a:xfrm>
            <a:prstGeom prst="bentConnector3">
              <a:avLst>
                <a:gd name="adj1" fmla="val 219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220183"/>
            <p:cNvCxnSpPr>
              <a:stCxn id="121" idx="0"/>
              <a:endCxn id="113" idx="2"/>
            </p:cNvCxnSpPr>
            <p:nvPr/>
          </p:nvCxnSpPr>
          <p:spPr>
            <a:xfrm flipV="1" rot="16200000">
              <a:off x="5412240" y="3930840"/>
              <a:ext cx="688680" cy="2404080"/>
            </a:xfrm>
            <a:prstGeom prst="bentConnector3">
              <a:avLst>
                <a:gd name="adj1" fmla="val 219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20184"/>
            <p:cNvCxnSpPr>
              <a:stCxn id="123" idx="0"/>
              <a:endCxn id="113" idx="2"/>
            </p:cNvCxnSpPr>
            <p:nvPr/>
          </p:nvCxnSpPr>
          <p:spPr>
            <a:xfrm flipH="1" flipV="1" rot="5400000">
              <a:off x="2351520" y="3273480"/>
              <a:ext cx="688680" cy="3719160"/>
            </a:xfrm>
            <a:prstGeom prst="bentConnector3">
              <a:avLst>
                <a:gd name="adj1" fmla="val 219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220185"/>
            <p:cNvSpPr/>
            <p:nvPr/>
          </p:nvSpPr>
          <p:spPr>
            <a:xfrm>
              <a:off x="3108240" y="3413160"/>
              <a:ext cx="2895480" cy="1376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XPORTACI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20186"/>
            <p:cNvSpPr/>
            <p:nvPr/>
          </p:nvSpPr>
          <p:spPr>
            <a:xfrm>
              <a:off x="179280" y="5477400"/>
              <a:ext cx="1311840" cy="1376280"/>
            </a:xfrm>
            <a:custGeom>
              <a:avLst/>
              <a:gdLst>
                <a:gd name="textAreaLeft" fmla="*/ 63720 w 1311840"/>
                <a:gd name="textAreaRight" fmla="*/ 1248120 w 1311840"/>
                <a:gd name="textAreaTop" fmla="*/ 63720 h 1376280"/>
                <a:gd name="textAreaBottom" fmla="*/ 1312560 h 1376280"/>
              </a:gdLst>
              <a:ahLst/>
              <a:rect l="textAreaLeft" t="textAreaTop" r="textAreaRight" b="textAreaBottom"/>
              <a:pathLst>
                <a:path w="21600" h="22661">
                  <a:moveTo>
                    <a:pt x="3600" y="0"/>
                  </a:moveTo>
                  <a:arcTo wR="3600" hR="3600" stAng="16200000" swAng="-5400000"/>
                  <a:lnTo>
                    <a:pt x="0" y="19061"/>
                  </a:lnTo>
                  <a:arcTo wR="3600" hR="3600" stAng="10800000" swAng="-5400000"/>
                  <a:lnTo>
                    <a:pt x="18000" y="22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TRAMI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20187"/>
            <p:cNvSpPr/>
            <p:nvPr/>
          </p:nvSpPr>
          <p:spPr>
            <a:xfrm>
              <a:off x="6301440" y="5477400"/>
              <a:ext cx="1311840" cy="1376280"/>
            </a:xfrm>
            <a:custGeom>
              <a:avLst/>
              <a:gdLst>
                <a:gd name="textAreaLeft" fmla="*/ 63720 w 1311840"/>
                <a:gd name="textAreaRight" fmla="*/ 1248120 w 1311840"/>
                <a:gd name="textAreaTop" fmla="*/ 63720 h 1376280"/>
                <a:gd name="textAreaBottom" fmla="*/ 1312560 h 1376280"/>
              </a:gdLst>
              <a:ahLst/>
              <a:rect l="textAreaLeft" t="textAreaTop" r="textAreaRight" b="textAreaBottom"/>
              <a:pathLst>
                <a:path w="21600" h="22661">
                  <a:moveTo>
                    <a:pt x="3600" y="0"/>
                  </a:moveTo>
                  <a:arcTo wR="3600" hR="3600" stAng="16200000" swAng="-5400000"/>
                  <a:lnTo>
                    <a:pt x="0" y="19061"/>
                  </a:lnTo>
                  <a:arcTo wR="3600" hR="3600" stAng="10800000" swAng="-5400000"/>
                  <a:lnTo>
                    <a:pt x="18000" y="22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SUBVEN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20188"/>
            <p:cNvSpPr/>
            <p:nvPr/>
          </p:nvSpPr>
          <p:spPr>
            <a:xfrm>
              <a:off x="7831800" y="5477400"/>
              <a:ext cx="1311840" cy="1376280"/>
            </a:xfrm>
            <a:custGeom>
              <a:avLst/>
              <a:gdLst>
                <a:gd name="textAreaLeft" fmla="*/ 63720 w 1311840"/>
                <a:gd name="textAreaRight" fmla="*/ 1248120 w 1311840"/>
                <a:gd name="textAreaTop" fmla="*/ 63720 h 1376280"/>
                <a:gd name="textAreaBottom" fmla="*/ 1312560 h 1376280"/>
              </a:gdLst>
              <a:ahLst/>
              <a:rect l="textAreaLeft" t="textAreaTop" r="textAreaRight" b="textAreaBottom"/>
              <a:pathLst>
                <a:path w="21600" h="22661">
                  <a:moveTo>
                    <a:pt x="3600" y="0"/>
                  </a:moveTo>
                  <a:arcTo wR="3600" hR="3600" stAng="16200000" swAng="-5400000"/>
                  <a:lnTo>
                    <a:pt x="0" y="19061"/>
                  </a:lnTo>
                  <a:arcTo wR="3600" hR="3600" stAng="10800000" swAng="-5400000"/>
                  <a:lnTo>
                    <a:pt x="18000" y="22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CREDI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20189"/>
            <p:cNvSpPr/>
            <p:nvPr/>
          </p:nvSpPr>
          <p:spPr>
            <a:xfrm>
              <a:off x="4770720" y="5477400"/>
              <a:ext cx="1311840" cy="1376280"/>
            </a:xfrm>
            <a:custGeom>
              <a:avLst/>
              <a:gdLst>
                <a:gd name="textAreaLeft" fmla="*/ 63720 w 1311840"/>
                <a:gd name="textAreaRight" fmla="*/ 1248120 w 1311840"/>
                <a:gd name="textAreaTop" fmla="*/ 63720 h 1376280"/>
                <a:gd name="textAreaBottom" fmla="*/ 1312560 h 1376280"/>
              </a:gdLst>
              <a:ahLst/>
              <a:rect l="textAreaLeft" t="textAreaTop" r="textAreaRight" b="textAreaBottom"/>
              <a:pathLst>
                <a:path w="21600" h="22661">
                  <a:moveTo>
                    <a:pt x="3600" y="0"/>
                  </a:moveTo>
                  <a:arcTo wR="3600" hR="3600" stAng="16200000" swAng="-5400000"/>
                  <a:lnTo>
                    <a:pt x="0" y="19061"/>
                  </a:lnTo>
                  <a:arcTo wR="3600" hR="3600" stAng="10800000" swAng="-5400000"/>
                  <a:lnTo>
                    <a:pt x="18000" y="22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PROMO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N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FINANCIE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20190"/>
            <p:cNvSpPr/>
            <p:nvPr/>
          </p:nvSpPr>
          <p:spPr>
            <a:xfrm>
              <a:off x="3240360" y="5477400"/>
              <a:ext cx="1311840" cy="1376280"/>
            </a:xfrm>
            <a:custGeom>
              <a:avLst/>
              <a:gdLst>
                <a:gd name="textAreaLeft" fmla="*/ 63720 w 1311840"/>
                <a:gd name="textAreaRight" fmla="*/ 1248120 w 1311840"/>
                <a:gd name="textAreaTop" fmla="*/ 63720 h 1376280"/>
                <a:gd name="textAreaBottom" fmla="*/ 1312560 h 1376280"/>
              </a:gdLst>
              <a:ahLst/>
              <a:rect l="textAreaLeft" t="textAreaTop" r="textAreaRight" b="textAreaBottom"/>
              <a:pathLst>
                <a:path w="21600" h="22661">
                  <a:moveTo>
                    <a:pt x="3600" y="0"/>
                  </a:moveTo>
                  <a:arcTo wR="3600" hR="3600" stAng="16200000" swAng="-5400000"/>
                  <a:lnTo>
                    <a:pt x="0" y="19061"/>
                  </a:lnTo>
                  <a:arcTo wR="3600" hR="3600" stAng="10800000" swAng="-5400000"/>
                  <a:lnTo>
                    <a:pt x="18000" y="22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LIC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20191"/>
            <p:cNvSpPr/>
            <p:nvPr/>
          </p:nvSpPr>
          <p:spPr>
            <a:xfrm>
              <a:off x="1709640" y="5477400"/>
              <a:ext cx="1311840" cy="1376280"/>
            </a:xfrm>
            <a:custGeom>
              <a:avLst/>
              <a:gdLst>
                <a:gd name="textAreaLeft" fmla="*/ 63720 w 1311840"/>
                <a:gd name="textAreaRight" fmla="*/ 1248120 w 1311840"/>
                <a:gd name="textAreaTop" fmla="*/ 63720 h 1376280"/>
                <a:gd name="textAreaBottom" fmla="*/ 1312560 h 1376280"/>
              </a:gdLst>
              <a:ahLst/>
              <a:rect l="textAreaLeft" t="textAreaTop" r="textAreaRight" b="textAreaBottom"/>
              <a:pathLst>
                <a:path w="21600" h="22661">
                  <a:moveTo>
                    <a:pt x="3600" y="0"/>
                  </a:moveTo>
                  <a:arcTo wR="3600" hR="3600" stAng="16200000" swAng="-5400000"/>
                  <a:lnTo>
                    <a:pt x="0" y="19061"/>
                  </a:lnTo>
                  <a:arcTo wR="3600" hR="3600" stAng="10800000" swAng="-5400000"/>
                  <a:lnTo>
                    <a:pt x="18000" y="22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IMPUE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DISCRIMIN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TO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RANKING O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enco de las diferentes políticas comerciales ordenado de acuerdo a la conveniencia de su aplicación (menor distorsió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ibre comer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ranc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quisitos de contenido lo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4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in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quisitos de balanza de pa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tricciones voluntarias a la expor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7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bvenciones a la expor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ARANCE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orma más antigua y más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uente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uente de proteccion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aplican en forma diferenci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sto de monitoreo y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ustitución por otras barr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érd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restas y progres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ARANC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00000" y="1628640"/>
          <a:ext cx="7210080" cy="4492440"/>
        </p:xfrm>
        <a:graphic>
          <a:graphicData uri="http://schemas.openxmlformats.org/drawingml/2006/table">
            <a:tbl>
              <a:tblPr/>
              <a:tblGrid>
                <a:gridCol w="3607920"/>
                <a:gridCol w="3602160"/>
              </a:tblGrid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Tipo de derec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Ad </a:t>
                      </a:r>
                      <a:r>
                        <a:rPr b="0" i="1" lang="es-CR" sz="2800" spc="-1" strike="noStrike">
                          <a:solidFill>
                            <a:srgbClr val="99cc00"/>
                          </a:solidFill>
                          <a:latin typeface="Times New Roman"/>
                        </a:rPr>
                        <a:t>valor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es-CR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Específ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5 por K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Compue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% + $2 por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Mix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% o $2 por Kg, el que sea más al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“</a:t>
                      </a:r>
                      <a:r>
                        <a:rPr b="0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Técnico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.3% + EA MAX 18.7% + AD S/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-27000"/>
          <a:ext cx="9144000" cy="7593120"/>
        </p:xfrm>
        <a:graphic>
          <a:graphicData uri="http://schemas.openxmlformats.org/drawingml/2006/table">
            <a:tbl>
              <a:tblPr/>
              <a:tblGrid>
                <a:gridCol w="2287440"/>
                <a:gridCol w="2287800"/>
                <a:gridCol w="2281320"/>
                <a:gridCol w="228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lected Tariffs in the US 200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TS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FN/NTR Tar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ecial Tar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04.10.2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04.10.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04.10.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uliflower, Brocco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% (June 5-Oct 2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% (Other, not reduced in siz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% (Cut or sliced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A,CA,CL,E, IL,J,JO,MX,S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A,CA,CL,E, IL,J,JO,MX) 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5% (S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A,CA,CL,E, IL,J,JO,MX) 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.2% (S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MFN: 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5.40.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5.40.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5.40.8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pe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9¢/kg (Aug-Se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5¢/kg (Oc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¢/kg (Nov-Jul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CA,D,E,IL, J,JO,MX,SG)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6¢/kg (C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CA,D,E,IL, J,JO,MX,SG)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1¢/kg (C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CA,D,E,IL, J,JO,MX)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2¢/kg (CL,S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MFN: 3.3¢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6.10.2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6.10.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6.10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pes, fr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.13/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Feb 15-Mar 3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Apr 1-Jun 3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.80/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any other tim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A+,CA,CL,D,E, IL,J,JO,MX,S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MFN: $8.83/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UBSIDIOS A LA EXPOR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jo o ad-val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sidios permitidos y prohib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256536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UOTAS A LA IMPOR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40766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mitación a la ca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rogas cuota c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otas cantidad y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otas arancel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do no recibe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229600" cy="18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IGENCIA CONTENIDO NACIONAL DE CONTENIDO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ÉXICO Y E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500280"/>
            <a:ext cx="820728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RRERAS NO ARANCEL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Comercio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LITICA 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Incentivos estraté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Industria na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recimiento y la calidad de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os arancele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impuestos sobre los productos importado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ontingentes a la importación, cuotas, restricciones cuantitativa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límite a la cantidad que puede ser impor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Barreras no arancelaria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: incluye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rocedimientos aduaneros complejos y costoso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(en definitiva, disuasorios);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ormas de calidad y sanitarias muy estricta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para poder introducir un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5805360"/>
            <a:ext cx="1584360" cy="936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5587920"/>
            <a:ext cx="1584360" cy="936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5661000"/>
            <a:ext cx="2016000" cy="936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ULT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MULTILATERAL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4321080" cy="568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l único escenario para abordar temas sisté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Los tres pilares agríco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ntidumping y otras discipl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glas multilaterales favorecen a economías pequeñ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cuerdos multilaterales favorecen creación de comercio y reducen los costos de administración de acuer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OMC, única instancia multilateral que ha conseguido desafiar y hasta modificar algunas políticas de las economías más gra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e prestigia su mecanismo de solución de controvers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3840" y="1601280"/>
            <a:ext cx="4249800" cy="525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Lentitud en las negociaciones (10 a 12 añ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lazos largos para abordar temas de interés ped, incluyendo desgravación en sensibles del N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ducida cobertura y profundidad en temas que interesan a ped (agricultura, pesca, textiles, 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usencia de temas nuevos o compromisos limitados en aspectos que interesan a la competitiv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eneficios no son exclu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operar por consenso, promedia hacia los menos apertur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BATE TL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789200"/>
            <a:ext cx="4038840" cy="506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cen el bienestar, al desvíar comer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aghetti bowl effect y costos de transacción elevados, por disparidad de re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ce compromiso con negociaciones multilat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MC-plus en temas del norte, reduce el espacio en O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reduce autonomía en políticas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esgo de politización del comer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3280" y="836280"/>
            <a:ext cx="4500720" cy="4886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jas tarifas NMF y red de acuerdos generan creación de comer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 apertura amplia, reglas tienden a ser similares o pueden regionaliza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a sido el caso en la región; al contr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es automático que lo acordado en TLc’s se apoye con entusiasmo en O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esgo existe y hay que saber administr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6 Marcador de número de diapositiva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0F18-1500-4982-B6E9-D0231BBB2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 Marcador de pie de página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SVALDO RO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6920" y="260280"/>
            <a:ext cx="3889440" cy="36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CROECONO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00720" y="260280"/>
            <a:ext cx="4248000" cy="381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27280" y="2492280"/>
            <a:ext cx="4176720" cy="374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6210360"/>
            <a:ext cx="7704360" cy="647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916360" y="907920"/>
            <a:ext cx="2089080" cy="19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484280"/>
            <a:ext cx="1439640" cy="115272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1413000"/>
            <a:ext cx="1440000" cy="1152360"/>
          </a:xfrm>
          <a:prstGeom prst="rect">
            <a:avLst/>
          </a:prstGeom>
          <a:solidFill>
            <a:srgbClr val="99cc00">
              <a:alpha val="4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5640" y="836640"/>
            <a:ext cx="2089080" cy="1944720"/>
          </a:xfrm>
          <a:prstGeom prst="ellipse">
            <a:avLst/>
          </a:prstGeom>
          <a:solidFill>
            <a:srgbClr val="99cc00">
              <a:alpha val="4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148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1700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1916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2131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198900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227640" y="1989000"/>
            <a:ext cx="1006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2852640"/>
            <a:ext cx="0" cy="1081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547640" y="2781360"/>
            <a:ext cx="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459640" y="278100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12000" y="278136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4005360"/>
            <a:ext cx="2881440" cy="19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INT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22920" y="3860640"/>
            <a:ext cx="3457440" cy="1944720"/>
          </a:xfrm>
          <a:prstGeom prst="ellipse">
            <a:avLst/>
          </a:prstGeom>
          <a:solidFill>
            <a:srgbClr val="99cc00">
              <a:alpha val="4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INT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141720"/>
            <a:ext cx="88200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81040" y="90792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NTO-GAN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320" y="3830760"/>
            <a:ext cx="21117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246240"/>
            <a:ext cx="597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NA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ZONES PARA NEGOCI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hile es una economía chica, mercado interno insu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Reglas estables y permanentes. Estabilidad y previsibilidad jurí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jorar las condiciones de acceso 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pertura de mercados de bienes, servicios , inversiones y personas de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nsparencia de normas, leyes y regla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llo de calidad y abaratamiento recurs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Fortalecer el desarrollo expor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acilitación del Comercio: Aduanas, Estándares, Movilidad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Rebaja de aranceles a bienes importados reduce costos en insumos y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stimula el cambio tecno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Favorece a los consumidores con una oferta más vari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canismo claro y expedito para la solución de dif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forzar la reforma 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Comercio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nsenso en la aper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eoría de la ventaja absoluta: cada país se especializa en todo aquello que obtiene o produce de una manera más eficiente que el resto del mundo: (A.Smi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eoría de la ventaja relativa: cada país se especializará en aquello que produzca de manera más eficiente entre las distintas alternativas de producción que tenga. (D.Ricardo).(H-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uevas Teorías:  rendimientos constantes, economías a escala, competencia perfecta y dumping. Multinacionales,  la tecnología y la movilidad de factores. Comercio intraindustrial (Krugm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432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LITICA COMER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Incentivos estraté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Industria na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recimiento y la calidad de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os arance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impuestos sobre los productos importad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ntingentes a la importación, cuotas, restricciones cuantitativ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límite a la cantidad que puede ser impor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arreras no arancelari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incluye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rocedimientos aduaneros complejos y costos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en definitiva, disuasorios)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normas de calidad y sanitarias muy estrict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ara poder introducir un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5805360"/>
            <a:ext cx="1584360" cy="936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08360" y="5587920"/>
            <a:ext cx="1584360" cy="936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5661000"/>
            <a:ext cx="2016000" cy="936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ULT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La nueva política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4560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urgen nuevas tem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rabajo; medio ambiente; seguridad; trazabilidad sanitaria; inocuidad alimentaria; trazabilidad del carbono; cambio climático; certificaciones; buenas prácticas; 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Objetivos múlt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mpetitividad-innovación-sust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nternacionalización de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adenas globales de v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ambio cli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foque integrado de políticas (desafío institu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mento productivo; Innovación y difusión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racción de 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R.HH (educación y capacit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líticas ambi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ianza público-privad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BSERVATORIO EMPRESARIAL PARA EL CAMBIO CLIMA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6165720"/>
            <a:ext cx="4752720" cy="69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DIAPOSITIVA  DE  PROF. OSVALDO RO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La Política Comer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581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quella que un gobierno instrumenta mediante la intervención y la regulación que va destinada a modificar la interacción estratégica que se produce en determinados sectores entre empresas nacionales y extranjeras en el ámbito intern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tricción de acceso de bienes y servicios al interior de un paí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ducción de la brecha entre  precios domésticos y l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quilibrio externo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nstrucción de poder esta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Razones de economía política 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stímulo monetario (superávit comercial expande la oferta de dinero, ceteris parib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stímulo de demanda agreg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5013360"/>
            <a:ext cx="605016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EBATE ECONÓ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639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TERVENCION DEL GOBI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rácter distorsionador de las polí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rcado se autoreg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11280" y="1599840"/>
            <a:ext cx="4932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INTERVENCION DEL GOBI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eable como estabilizador de los desequilib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492360" y="2205000"/>
            <a:ext cx="2376720" cy="21607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ERVICIO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2131920"/>
            <a:ext cx="2736720" cy="21607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I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CCESO A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1989000"/>
            <a:ext cx="2376360" cy="21607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P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NTELE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4076640"/>
            <a:ext cx="1441440" cy="11527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3860640"/>
            <a:ext cx="1584360" cy="151308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SCIP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ME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68280"/>
            <a:ext cx="9144000" cy="4824720"/>
          </a:xfrm>
          <a:prstGeom prst="ellipse">
            <a:avLst/>
          </a:prstGeom>
          <a:noFill/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3640" y="620640"/>
            <a:ext cx="4032360" cy="936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 SOLU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OVERS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5805360"/>
            <a:ext cx="1729080" cy="1052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B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59640" y="5661000"/>
            <a:ext cx="1728720" cy="1052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GR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6920" y="1197000"/>
            <a:ext cx="1727280" cy="1295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2638440"/>
            <a:ext cx="1727280" cy="1295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4149720"/>
            <a:ext cx="1727280" cy="1295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ULT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19640" y="1484280"/>
            <a:ext cx="3889080" cy="433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HILE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4437000"/>
            <a:ext cx="4465440" cy="433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HILE O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2421000"/>
            <a:ext cx="4824360" cy="158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CE, TLC, ACUERDOS COOPER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HILE 90, APERTURA CONCER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PEC, MERCOSUR, CAN, UNAS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27280" y="17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59280" y="4581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60280"/>
            <a:ext cx="9144000" cy="640872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333360"/>
            <a:ext cx="201600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EGOCI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77080" y="260280"/>
            <a:ext cx="201600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OS N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093000"/>
            <a:ext cx="388764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STITU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or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50920" y="0"/>
            <a:ext cx="8892000" cy="6667560"/>
            <a:chOff x="250920" y="0"/>
            <a:chExt cx="8892000" cy="6667560"/>
          </a:xfrm>
        </p:grpSpPr>
        <p:cxnSp>
          <p:nvCxnSpPr>
            <p:cNvPr id="86" name="_s218116"/>
            <p:cNvCxnSpPr>
              <a:stCxn id="87" idx="0"/>
              <a:endCxn id="88" idx="2"/>
            </p:cNvCxnSpPr>
            <p:nvPr/>
          </p:nvCxnSpPr>
          <p:spPr>
            <a:xfrm flipV="1">
              <a:off x="7090920" y="4166640"/>
              <a:ext cx="5760" cy="834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18117"/>
            <p:cNvCxnSpPr>
              <a:stCxn id="90" idx="0"/>
              <a:endCxn id="91" idx="2"/>
            </p:cNvCxnSpPr>
            <p:nvPr/>
          </p:nvCxnSpPr>
          <p:spPr>
            <a:xfrm flipV="1">
              <a:off x="2302920" y="4166640"/>
              <a:ext cx="5760" cy="834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18118"/>
            <p:cNvCxnSpPr>
              <a:stCxn id="88" idx="0"/>
              <a:endCxn id="93" idx="2"/>
            </p:cNvCxnSpPr>
            <p:nvPr/>
          </p:nvCxnSpPr>
          <p:spPr>
            <a:xfrm flipV="1" rot="16200000">
              <a:off x="5477040" y="885960"/>
              <a:ext cx="834120" cy="2394000"/>
            </a:xfrm>
            <a:prstGeom prst="bentConnector3">
              <a:avLst>
                <a:gd name="adj1" fmla="val 164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18119"/>
            <p:cNvCxnSpPr>
              <a:stCxn id="91" idx="0"/>
              <a:endCxn id="93" idx="2"/>
            </p:cNvCxnSpPr>
            <p:nvPr/>
          </p:nvCxnSpPr>
          <p:spPr>
            <a:xfrm flipH="1" flipV="1" rot="5400000">
              <a:off x="3082680" y="885960"/>
              <a:ext cx="834120" cy="2394720"/>
            </a:xfrm>
            <a:prstGeom prst="bentConnector3">
              <a:avLst>
                <a:gd name="adj1" fmla="val 164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3" name="_s218120"/>
            <p:cNvSpPr/>
            <p:nvPr/>
          </p:nvSpPr>
          <p:spPr>
            <a:xfrm>
              <a:off x="2645280" y="0"/>
              <a:ext cx="4104000" cy="1666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INSTRUMENT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Prec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Cantida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Globales o sectoria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18121"/>
            <p:cNvSpPr/>
            <p:nvPr/>
          </p:nvSpPr>
          <p:spPr>
            <a:xfrm>
              <a:off x="250920" y="2500200"/>
              <a:ext cx="4104000" cy="1666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Afectar exportaciones 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importacion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18122"/>
            <p:cNvSpPr/>
            <p:nvPr/>
          </p:nvSpPr>
          <p:spPr>
            <a:xfrm>
              <a:off x="5038920" y="2500200"/>
              <a:ext cx="4104000" cy="1666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AL INTERIOR D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PAI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18123"/>
            <p:cNvSpPr/>
            <p:nvPr/>
          </p:nvSpPr>
          <p:spPr>
            <a:xfrm>
              <a:off x="250920" y="5000760"/>
              <a:ext cx="4104000" cy="1666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Barreras arancelar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Barreras no arancelar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18124"/>
            <p:cNvSpPr/>
            <p:nvPr/>
          </p:nvSpPr>
          <p:spPr>
            <a:xfrm>
              <a:off x="5038920" y="5000760"/>
              <a:ext cx="4104000" cy="1666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ubsidios produ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Impuestos al consu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977760" y="2565360"/>
            <a:ext cx="26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FRONT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0:21:02Z</dcterms:created>
  <dc:creator>Doris</dc:creator>
  <dc:description/>
  <dc:language>en-US</dc:language>
  <cp:lastModifiedBy>Doris</cp:lastModifiedBy>
  <dcterms:modified xsi:type="dcterms:W3CDTF">2009-07-25T14:13:38Z</dcterms:modified>
  <cp:revision>12</cp:revision>
  <dc:subject/>
  <dc:title>NEGOCIACIONES ECONOMICAS INTERNACIONALES</dc:title>
</cp:coreProperties>
</file>