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  <p:sldId id="288" r:id="rId61"/>
    <p:sldId id="289" r:id="rId62"/>
    <p:sldId id="290" r:id="rId63"/>
    <p:sldId id="291" r:id="rId64"/>
    <p:sldId id="292" r:id="rId65"/>
    <p:sldId id="293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slide" Target="slides/slide33.xml"/><Relationship Id="rId62" Type="http://schemas.openxmlformats.org/officeDocument/2006/relationships/slide" Target="slides/slide34.xml"/><Relationship Id="rId63" Type="http://schemas.openxmlformats.org/officeDocument/2006/relationships/slide" Target="slides/slide35.xml"/><Relationship Id="rId64" Type="http://schemas.openxmlformats.org/officeDocument/2006/relationships/slide" Target="slides/slide36.xml"/><Relationship Id="rId65" Type="http://schemas.openxmlformats.org/officeDocument/2006/relationships/slide" Target="slides/slide37.xml"/><Relationship Id="rId66" Type="http://schemas.openxmlformats.org/officeDocument/2006/relationships/slide" Target="slides/slide3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554A-10E5-4C7E-8595-BBDFF057F3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8185-9721-456B-A74E-92D27832B4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3A8-768F-48A1-A24E-CDDE561847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9240-3733-4B3A-AD1C-6CBE743BA4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4C95-777D-4C51-81F3-73A60C4414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B0B3-A9CA-4BED-8B72-352031AF43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02AF-CC9C-4ACB-BCE8-846DB65E5C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5CAA-0FC8-4B75-9982-287B6FF5C0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BEBE-B5A0-4746-8612-527250B2C2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67B7-3A63-4BAD-B530-3937AD8C6E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A58C-EF03-49BC-A853-59D327973B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231F-84AF-4121-969B-DDD330DBA7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C968-8644-471E-8678-7AA79BB6B7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7B20-3BF4-4869-B62B-ECA34B4C22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300-6815-4B5C-8EDB-339FB7232D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0811-F019-4D4D-A1D5-AA1C4B8D6E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4DEA-486F-43F6-9965-D657D66BF7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61D6-BA00-474D-9031-66E6585762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D336-F4BE-4064-8CB7-5FBDDA29E8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4"/>
          <p:cNvSpPr/>
          <p:nvPr/>
        </p:nvSpPr>
        <p:spPr>
          <a:xfrm>
            <a:off x="3429000" y="42908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564F-7427-45A5-83D5-5D6256298C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23A8-FF4E-447E-A248-869F95D6D1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9EDF-0D6E-4F05-B8FB-E46A363FF2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9C2E-1588-400F-891D-504BBFD84E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4"/>
          <p:cNvSpPr/>
          <p:nvPr/>
        </p:nvSpPr>
        <p:spPr>
          <a:xfrm>
            <a:off x="3429000" y="43322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B3FE-0252-4EE8-9CDA-CCDA23C1BE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2654280" y="679320"/>
            <a:ext cx="1700280" cy="127476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2222280"/>
            <a:ext cx="502920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F12B-E291-4DE6-9725-FB563B0DC6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7571-B21B-40C7-AF9A-5360C2B072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6250-997C-4462-AB73-DE4A2F0516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071D-8ED7-4C81-A585-6A1B9CC424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C16-73DF-4A42-80AE-02952E94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362-1796-461C-8153-FDFB34EF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26A34-5096-48AB-9209-80AA55C5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2C9E2-200C-4E69-A890-4173482A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48E1D-8D94-4773-952C-6ADE8075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4C2C6-B5B2-4FFA-9001-1B2C46B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A49C1-9B10-46F5-8E28-7643B2DE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8B47E-781A-4059-92F0-5CF8A9AE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E9C6A-A4F8-4061-8FFA-D55D86EA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3FECC-B64A-4298-9180-405DA293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2DB82-FBD0-4F34-A5E4-E9B4524F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52962-CB92-4438-AF8B-FF462FC0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7C7-B250-4ADE-A048-34DBF800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98B0F-4887-4504-9067-23FF1D7A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936E3-E885-4D72-80E7-6E5E90D4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18C21-DCB9-4B5E-B234-50455470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A58A9-A6C5-40CE-91C5-498E7724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CE7A6-5474-4426-9B67-F6A8EA54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D85AB-E10C-41BB-BB08-A74AE5C3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8A2FD-9BAB-4F01-B7A2-04E1B19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496E6-4C77-4890-97DC-E3FB5D0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78B1C-834E-403A-B098-892EB8AB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3C4B5-32CE-4355-9DFD-FA57C035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25D-C27C-4AAA-A7DB-6BC2D131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80240-E222-457B-BE4D-E861CB37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EDAC7-396E-4113-B5CE-001C5AB1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0FC4-942C-437C-A654-0701557D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EAAA9-FC4E-4DB1-926D-0BEA7BBC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955BB-ADDD-46E6-B03D-9BAE4842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62758-9A99-488F-A27C-9F262643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CC36C-4797-4CEB-9195-5B3D0399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93D12-D2F9-4569-86B5-478B6C3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C770B-8FC6-4D75-A41C-555EC997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9F311-26E4-4EB1-A749-A42A5DA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4AD0-5B9A-4098-8F07-70DDF1EC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B7F1A-AD8D-4672-A0E1-06CF8FCC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FFAFC-1ED5-4A8A-9BDE-C1AFA192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67C49-2BF0-461A-88EE-C0FFDDCE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BD95A-C467-4984-A821-8C25EC89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C4EFE-B28C-4DC5-960B-9BC5D978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89EC4-3181-4EB9-A9B2-F2A4F26A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212BB-9140-4FDE-ACA5-5570BFA7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11356-2CCB-4852-8005-288387CD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E3B44-240C-4FC0-A718-DD381772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B9248-2542-4084-B40F-DFC1D8D1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73B9-0663-4C10-9F3E-C10CFA41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7ED5C-B2FC-4256-9663-38E3F31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E02F6-DB91-41B8-812C-729EA56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BB24A-19BC-4676-B4A4-484E0A34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D0643-1833-4820-8FC0-44FAB3D5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C80F3-0FA9-417B-B46E-D369AAC2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CD475-17F8-491B-9A3E-183AEA36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CF063-6607-4385-AB8F-73ABF9F6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A313A-1714-4268-A401-2C1369B9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9825C-4A39-4623-8DEE-F2BED54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446A5-E45A-4DAD-B41D-B268126D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55D7-AB0F-4EF7-BDC6-FFFA723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33ED3-81D9-42F3-9602-F2C93635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5136C-C392-4DD0-AA75-194A3DAB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3F4AC-C54D-4FA4-A082-0CC6FFF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5ECAA-4670-4C06-8682-0B5647D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76357-F1C4-4F9D-A1D9-5A6576B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B51F6-CFA2-4CDA-AF23-38F212F2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5F0DC-231B-4D3A-9365-E5D84DA1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E18C1-648E-4F39-B032-243A48F5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BF391-16DC-4025-91F7-689FB2A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2FBDE-1A74-4171-98C6-E2E08D95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1746-65EC-44C5-A34C-06D3ABEC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C3FFD-FC1C-4269-B4C2-A4D11218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58370-E077-4EFF-9EDE-6B18A32F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401A5-AB7C-499A-92B2-CEE57022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B9614-7754-459B-B6BB-D409E1A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63309-AF99-4B01-AE20-67CA2B6E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49FA5-1A4F-4A34-BEF2-C4D3C9E7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BE527-0846-40C7-92B3-A52934DF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849F6-1E4A-444D-86B9-BDEA1D49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C7BD6-1466-42B1-9D39-AF69AC6E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AE14B-95D7-4A44-975B-7A56864D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8E3B-D997-493E-A2FE-1E821859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CB4B4-42F8-4B72-B36C-092A4058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9F7FD-8B8E-48C2-AA00-97B228EB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A2232-0650-40A8-AA76-6F6D49F7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6A3C0-5461-4E00-9C3B-99F5538D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F2A0E-F3FC-4DC5-AFA8-0D36D7E8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88F20-3EB5-4C05-8576-A33B430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26173-F752-41ED-88CE-A4F628D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89CD7-6B90-445E-9915-357FC1D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5438A-72F2-47BF-A06E-93DD5F8D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4CE6F-78FE-4C3D-BB51-D1CEE083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A25C-3F18-4033-9779-DED299CB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B779E-43B2-47D4-B08B-9D62D157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02F26-BE1B-4395-8750-56E24A0B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1A65A-6540-45B7-AE1B-39A7574D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CB95E-F2D4-43FF-BB8C-1DE44FCE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9A8D7-A262-4C97-AF22-ACFE3691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90226-8A1C-4151-9864-BF5CC22A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FE174-A131-4CA1-9659-F636661B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F45EC-0004-4F13-9EF9-29B778F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62805-5DB3-4916-A99D-0F29F3B9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D8D48-173F-4EF5-8AE1-0167DCBD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49BC-B45B-49D5-A833-5FABD9A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614AD-D8E3-4B4B-99B1-64861D1F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99D97-B103-4214-A7C9-BCEA2C59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46074-B73A-40A8-AA05-A0960FB3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DC4A2-B96C-4275-AFAA-F6FA459E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A8849-EF15-4A5A-B2C2-0BBC1E85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46589-5B9D-4D74-8D77-7BC5C600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6038A-9F5B-421B-A515-555F67B7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D0906-9EB3-421B-A894-5B45B574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1F88C-0616-4F5C-9A00-4449F9F5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6029A-EB8A-4613-A3A1-DDF9C133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F4B-91ED-4C3A-AF17-D5F39829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F10C-D2D3-4008-8BC3-ADB18FB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19D6A-A98C-4236-B9AD-7EB55975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E76F5-07D0-45F0-8E79-876815AC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1437C-0D51-4CCB-872D-68362EF8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96D07-2039-4574-B64B-1055E214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5952F-9A6E-4AE2-9A7A-49B922AF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BDDAB-6AE9-4814-9BFE-445F9760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676F1-A54B-430F-AA22-939CEAE2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B3D7E-05EE-4BF7-B7B7-17EEFB12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EBA17D-82BB-48C4-B19F-1CE1D7A1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5D8CAB-BDBD-431B-A205-A431A132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A18E-0894-403B-B6FE-A7CE8405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A0007-B48D-4F2C-8545-661D1996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12409-DA46-4054-B437-C57DD89C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7AC892-D0B4-4BE2-9966-4AECDECB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D8F32-EDD2-4834-BF04-E2E33CB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7E16CE-31D2-4FC0-9E74-83160781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38C04-87A4-4547-A797-B003CA70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E998B-68B3-47F2-9BB7-81CF1C07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CD433-43CB-4448-913F-ADA19CC2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D81A7-F73C-478C-A8A9-040C1EA4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ADD067-4C6F-4A6D-AABD-A4EBC8DB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D028-7397-47B1-AAD3-2AB46259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56F69-5529-45D5-9618-F23E1820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314C67-374F-47E7-BF69-A0400265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CD9491-3672-4A5B-A43C-83749A46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0EBEBB-0142-473C-9A78-9FF834A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9A935-4E36-4B58-A991-ABDDCA53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C649B-AC31-469B-A4BA-4FA55FD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92980-327A-400B-B678-C1624C38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D94BE-14E3-4183-AD12-B2401166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61278-FB73-4775-B17E-193980BC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89398-93E2-44B7-A0F9-EF9ABB01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4930-D46E-4EC6-B52F-9DB0513C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8B3E6-324D-41F1-A00B-67BBC8C9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A1B204-52BD-4B6A-95C7-9D08E8DD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0BC943-BEFE-4C05-A0C2-7449DA67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A5AAB-55F8-4956-B54E-ED766033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86D13-B8A4-4600-8E37-D0FE1CAF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C515F-F4E0-414A-8BE0-63B457E1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B839CA-DA85-448B-84D1-44B27032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3B08F-505E-43BB-A656-593C3DBE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8453E-7738-43C6-ADDA-8E75E862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959EF9-8996-4657-AA10-367C6E6B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AE06-B7A0-41AE-A2FD-90E3E4A1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EBDB7-30E7-49F8-9E90-735072FE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C97364-F706-49EE-AAF5-E19FC08B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FAE12D-4623-4202-B319-B30CED6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683388-E22D-43E7-8122-AD7E4280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ADBBC8-EA7E-4599-AB4B-BDD0B70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B406C-1910-4098-B3DC-9201202F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2ACDFE-4465-40FF-BE80-81F892BC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7FEDC5-23CC-450F-BB33-B4D9A509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C8F8D-9DE1-4ED9-99D7-2F8541AC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47BF3-EEE0-465E-9CDF-9F828A3E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4A637-1E34-49D9-8AA8-FB5846E4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C396B0-2238-48AB-B7F8-631732B9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C8203A-0194-45B2-820C-116453CD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61066-8450-4739-B296-8E4F1F82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6C7850-F9D4-412F-805F-BCA5ABD0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0AFADB-5252-4646-B002-DE71E556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36EAC8-7F23-4229-BCA8-CD96934E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022156-05B4-47B7-8D97-07B6D926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BA60C1-5D0A-4A10-8F95-28A11EFC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E8AEDB-96AA-4625-AF09-641BFBF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E57B3F-2975-443F-BCE8-F505CD4B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9FA7-664E-495A-B393-D3637D3D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D8F253-4BAD-40BD-BB0A-5CD7A8CF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655CC5-1149-42E9-9D30-6F0CF730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35B933-1CA0-41D7-9310-84AAFF62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6BFAA8-36B7-4765-8FD4-57AD625B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974267-656E-44A5-B8BA-B761D9DD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EE6AA3-AD6C-48C0-AAC0-8C5D9271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29D7A0-F5A8-434B-978B-A1A331B4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3C7DBC-1B02-4A09-9020-C26FCA4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AAAB4A-8829-42FA-8498-B17D304F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01BF4F-E1AB-4703-B7D1-B4EBC7C6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06E9-41A5-405F-8D42-9BB5A509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3DB53-39B8-4942-AB45-ED45486E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63451A-8DAD-4950-92CA-139E4697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7ED936-F495-4F4C-9B4E-B308285F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D0905F-34D4-49A8-96D6-94CC03DB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DBCB7-3DDB-4BF2-83BB-D0E1724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15A46E-6821-48E9-B0F7-C6A76C8C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80FCDF-B4D9-4179-929A-5A516432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784DE7-02A6-4638-80BA-F8B1A078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E71E1B-F499-45DD-B14F-9FF3E015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507A5E-840F-4B53-93EE-7C802F2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6760-80A2-4FB1-A0E9-83721855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4AE5B-5F79-4F53-96AB-B99A6409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A49509-48EA-4DD4-800E-256806CA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12B94A-1CDD-40DC-A1E4-B19810C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BCF79E-4714-4D59-9AC3-0B9FF3DE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FC7D1F-649E-49EF-BC01-FE40EEC5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BD5D23-937B-4600-8D18-B1675CDA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AE386F-F0E2-4DE6-A19C-EB972119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287DC5-2073-4E47-B486-38FE4456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8EB1A3-F0FB-4F45-AFC5-B7F747B8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32D725-2E64-41C7-8493-AB4D36E1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AEA6-3643-410B-954C-F399D178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D91359-3182-44E7-A409-09C70DC7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641A4F-8880-4B1C-B848-7827E279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36CDA6-510B-42EF-A222-FC714FD5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54445A-C8EA-4C1C-8F50-8154C935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7F32B1-29FA-4117-AEB1-BAEB367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3BD97F-C275-463C-958D-C8D05BE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C083CA-9E09-4316-A006-22410185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78AF16-6802-4A00-8E2D-FEC92853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59082F-A2FE-4729-9B18-7EF1EB6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86252D-BF18-481F-BDF3-6868E070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0D9-0231-4C67-BCFD-3ADBB18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6B20-00ED-406D-8E5B-81AEB4EE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859268-807C-4E81-A262-7A9D25BF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56027F-9D36-493E-9864-2B75721A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3318A6-6DF8-4360-8E74-7BBE7E79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474637-5D2A-4E16-9EFB-03972FD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8B62B5-647F-4421-ABE8-F3C4F4BB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7A26F0-3092-464C-9ED5-E06CDA9F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67589B-AC80-4F55-A09D-7DBE1651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603B93-BD20-44E4-BD06-9DD8617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9742CA-FD86-40D9-8209-4CCB3E4F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9B866E-E6E0-4C2A-B415-CC74A4BB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8C479-E0A6-41EC-BF64-07DEA49F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12D511-2B9C-4402-A15F-5AD16C70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600195-5457-477C-9AF0-00BFB51C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087024-B5AD-4E1A-B4B6-08374489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C359-8437-43F3-A7B8-A9CD8E92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D67B-14FC-4E55-87DC-A9C8D2E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E7F1-B65A-4876-B15A-47D7C1D2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E2A7-D0C6-46B2-8AB9-949BAA7B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9804-D205-455E-8223-CB6E2B1D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38B6-B110-4440-90EF-798F517C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4633-96B0-4B7C-B754-CF2FE84A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10902-4C51-4AA5-88C6-276CE033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C93-F821-4555-9EDD-3B2461B8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948D-4354-4C7A-92F8-1D0F06B8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D01F4-C2BD-4644-9087-BF3282D9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E7650-2582-45E7-A304-B9E07FEB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60ABE-2E12-419F-8321-1A1A319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907C-AE79-4226-BB15-C89E119F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8AAA-1D71-4B2F-AC73-11A476E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BD85-ED8B-4D4E-B464-99E734E3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2F065-26CC-4630-B34C-B6801C6F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7D24B-A32C-4CF1-AC46-454CE390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296BA-8072-4998-B1CF-A9BDB2E2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AA8-BC3C-4767-BB18-07C352A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5090-3B45-43DB-9AB2-34CD9B98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60425-2A43-43E0-A363-007FC157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84758-6466-482A-BEB0-17CA922F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E4819-2676-4A67-A663-A2E63A50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2A57D-26AF-4CF5-9EB3-7BBD590B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4678-484D-459A-9A90-978953AE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99AB3-CD63-4AC7-9CD9-B1A007B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CEAF-004B-4DDD-822B-E6C686B4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E655-7C49-4F30-91DA-221AB262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9F2B3-4E93-4E84-9C78-D56C0871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045-17AC-4EF0-A281-77AC0223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58285-EF56-4BED-9F76-6A4FB772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3AC90-1B86-4266-BD3E-4D2FCEF9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AC5A-13A4-461F-AE57-D3D27225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98DBA-88EA-4767-9F3F-B628489E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F80B-157E-4803-8040-6A75A72E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7F2E-6988-4FE8-95BB-39AB5AD4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72640-BAFC-4FF8-A489-1997B84F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74478-A8E5-4328-B8CB-98F2C3C1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8A16-8C51-4C07-80F3-B5EE6593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1ADA1-0AAF-49F4-90E0-75410D8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B53-ED20-416A-A9C8-ECDDAB2F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381EE-0E6B-49EE-9FF0-262D093D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65C3F-2FBF-42B2-A9B6-3F7543F8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83165-5E12-40CC-A2A7-C8D0E6AC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AA9C-E949-4A94-BC33-3A175514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A60CD-EC23-4FE9-AADC-FF40A576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37AFE-0899-4BD9-B0DF-96BB7405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2B28B-E09C-4901-B14F-3B3D9D3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B05A-9394-4FCE-930A-3592AEF5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3C1E-028E-44D7-B621-64BD1FA4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1038C-71B4-4C47-906F-C867AF7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8F4-91DD-4910-9812-363EF4ED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FDD37-5C7C-4334-9F5E-1927FE1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88036-4458-4DAA-ACFC-1B7693B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6BB4-4476-4683-AD76-826C7872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2DEFC-7804-4586-A3FE-7D35EF27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19FC3-55B0-41B0-8FBA-F3307600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62F2A-EA4A-405F-BBDD-A8A7773A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1D894-5505-44EA-98F8-CADBC724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E67CE-770A-4A75-A047-47B9741F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C3585-1BBE-45D0-A675-C4301CCE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8168-1FC9-4F08-AA7F-E83B2978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BDF-42DC-4EF5-B67D-99C1DF7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E9FEF-3583-4E78-A43B-E3D6CC06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CDB89-7A19-4608-95A8-9720FBC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D0B6-1736-46A7-BA8C-986807A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357CC-7D30-4BFA-A7F6-F9FA4B83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65C2-77FE-468A-A0EC-5BF07482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55C89-FFCA-4A2E-BDB8-D94459A5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C2E88-B40A-4FAE-AFF7-126F71AE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5F477-1F0B-4DA5-84BF-724A1E29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D5365-22F4-41C7-896D-3B246967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4DF14-7129-4CDE-98B1-2DDC2E1E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64A2-ECED-4794-B8FA-5D0ED69D3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 rot="16200000">
            <a:off x="-518760" y="5394240"/>
            <a:ext cx="12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WTO - OMC 200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B90E-C2B6-4884-9B7E-15B35FA82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0D3D-8607-4BE9-BE76-B6EDA885F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DA8A-D6DD-4A28-905F-0CCCB890E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B16F-F313-448E-A51B-CFF8A985F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A1B5-AE56-43F7-ADEC-4FFBFAEAD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642A-244B-439A-AE1D-D1F245134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0697-B0DD-48BD-83E9-B5AF46B41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781F-7F6B-4B16-96B9-6624068B9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5032-1AF6-4D80-8BDA-F332AC34B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E520-A51C-4E9A-A8D8-B0B2CBAD5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3163-C865-4CD4-9F06-530C43574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 rot="16200000">
            <a:off x="-442800" y="5317920"/>
            <a:ext cx="128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WTO - OMC 200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26F3-098C-4248-A087-F7A98A4EE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6AEE-5C4C-434F-AF63-19FDBCCAA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54E4-F973-4177-8217-6A053165F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99E6-E166-4871-A40D-2D986F9F9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C9E3-B140-42DC-B2FA-6B206598B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F734-5F9D-44F6-A1E4-4FF179000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D957-F136-4A65-8FC5-84EA8BE36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AE62-858D-4B88-A3ED-D75C5EB9F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8865-4477-47C9-A755-0C59F588E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9A8D-4C45-434E-82A7-3E40FDACF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950B-7420-4196-B65D-FB5116875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3789-0738-4871-815D-CF6ED1512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E05-70D8-491D-ADBD-6E0895CA6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D89D-AA16-4153-96EB-9B6142DF5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97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97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97.xml"/><Relationship Id="rId1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slideLayout" Target="../slideLayouts/slideLayout97.xml"/><Relationship Id="rId3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1500120" y="50004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ploma en Estrategia Internaciona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 Política Comer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6" name="Object 4"/>
          <p:cNvGraphicFramePr/>
          <p:nvPr/>
        </p:nvGraphicFramePr>
        <p:xfrm>
          <a:off x="6786720" y="2857680"/>
          <a:ext cx="201456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6720" y="2857680"/>
                    <a:ext cx="20145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Rectangle 5"/>
          <p:cNvSpPr/>
          <p:nvPr/>
        </p:nvSpPr>
        <p:spPr>
          <a:xfrm>
            <a:off x="0" y="185724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Principios Básicos del Sistema del GATT/OMC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4214880" y="62118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Instituto de Formación y Cooperación Técnica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TO – OMC. 2005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Picture 6" descr="logo estrategia 09.jpg"/>
          <p:cNvPicPr/>
          <p:nvPr/>
        </p:nvPicPr>
        <p:blipFill>
          <a:blip r:embed="rId3"/>
          <a:stretch/>
        </p:blipFill>
        <p:spPr>
          <a:xfrm>
            <a:off x="285840" y="214200"/>
            <a:ext cx="1179360" cy="1576440"/>
          </a:xfrm>
          <a:prstGeom prst="rect">
            <a:avLst/>
          </a:prstGeom>
          <a:ln w="0">
            <a:noFill/>
          </a:ln>
        </p:spPr>
      </p:pic>
      <p:sp>
        <p:nvSpPr>
          <p:cNvPr id="1081" name="TextBox 7"/>
          <p:cNvSpPr/>
          <p:nvPr/>
        </p:nvSpPr>
        <p:spPr>
          <a:xfrm>
            <a:off x="571680" y="4214880"/>
            <a:ext cx="6357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orotea López 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5 de julio de 200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2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b2b2b2"/>
                </a:solidFill>
                <a:latin typeface="Arial"/>
              </a:rPr>
              <a:t>OMC: Normas y disciplinas comerci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8" name="Group 5"/>
          <p:cNvGrpSpPr/>
          <p:nvPr/>
        </p:nvGrpSpPr>
        <p:grpSpPr>
          <a:xfrm>
            <a:off x="533520" y="2743200"/>
            <a:ext cx="1284120" cy="1828800"/>
            <a:chOff x="533520" y="2743200"/>
            <a:chExt cx="1284120" cy="1828800"/>
          </a:xfrm>
        </p:grpSpPr>
        <p:sp>
          <p:nvSpPr>
            <p:cNvPr id="1379" name="AutoShape 6"/>
            <p:cNvSpPr/>
            <p:nvPr/>
          </p:nvSpPr>
          <p:spPr>
            <a:xfrm>
              <a:off x="5335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Text Box 7"/>
            <p:cNvSpPr/>
            <p:nvPr/>
          </p:nvSpPr>
          <p:spPr>
            <a:xfrm>
              <a:off x="685800" y="2879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1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Text Box 8"/>
            <p:cNvSpPr/>
            <p:nvPr/>
          </p:nvSpPr>
          <p:spPr>
            <a:xfrm>
              <a:off x="609840" y="3276720"/>
              <a:ext cx="11430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cuerdos Multilaterales sobre el Comercio de Mercancí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Group 9"/>
          <p:cNvGrpSpPr/>
          <p:nvPr/>
        </p:nvGrpSpPr>
        <p:grpSpPr>
          <a:xfrm>
            <a:off x="1905120" y="2743200"/>
            <a:ext cx="1284120" cy="1828800"/>
            <a:chOff x="1905120" y="2743200"/>
            <a:chExt cx="1284120" cy="1828800"/>
          </a:xfrm>
        </p:grpSpPr>
        <p:sp>
          <p:nvSpPr>
            <p:cNvPr id="1383" name="AutoShape 10"/>
            <p:cNvSpPr/>
            <p:nvPr/>
          </p:nvSpPr>
          <p:spPr>
            <a:xfrm>
              <a:off x="19051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Text Box 11"/>
            <p:cNvSpPr/>
            <p:nvPr/>
          </p:nvSpPr>
          <p:spPr>
            <a:xfrm>
              <a:off x="2057400" y="2879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1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Text Box 12"/>
            <p:cNvSpPr/>
            <p:nvPr/>
          </p:nvSpPr>
          <p:spPr>
            <a:xfrm>
              <a:off x="1981440" y="327672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G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Group 13"/>
          <p:cNvGrpSpPr/>
          <p:nvPr/>
        </p:nvGrpSpPr>
        <p:grpSpPr>
          <a:xfrm>
            <a:off x="3276720" y="2743200"/>
            <a:ext cx="1284120" cy="1828800"/>
            <a:chOff x="3276720" y="2743200"/>
            <a:chExt cx="1284120" cy="1828800"/>
          </a:xfrm>
        </p:grpSpPr>
        <p:sp>
          <p:nvSpPr>
            <p:cNvPr id="1387" name="AutoShape 14"/>
            <p:cNvSpPr/>
            <p:nvPr/>
          </p:nvSpPr>
          <p:spPr>
            <a:xfrm>
              <a:off x="32767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Text Box 15"/>
            <p:cNvSpPr/>
            <p:nvPr/>
          </p:nvSpPr>
          <p:spPr>
            <a:xfrm>
              <a:off x="3429000" y="2879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1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Text Box 16"/>
            <p:cNvSpPr/>
            <p:nvPr/>
          </p:nvSpPr>
          <p:spPr>
            <a:xfrm>
              <a:off x="3353040" y="327672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DPIC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Group 17"/>
          <p:cNvGrpSpPr/>
          <p:nvPr/>
        </p:nvGrpSpPr>
        <p:grpSpPr>
          <a:xfrm>
            <a:off x="4648320" y="2743200"/>
            <a:ext cx="1284120" cy="1828800"/>
            <a:chOff x="4648320" y="2743200"/>
            <a:chExt cx="1284120" cy="1828800"/>
          </a:xfrm>
        </p:grpSpPr>
        <p:sp>
          <p:nvSpPr>
            <p:cNvPr id="1391" name="AutoShape 18"/>
            <p:cNvSpPr/>
            <p:nvPr/>
          </p:nvSpPr>
          <p:spPr>
            <a:xfrm>
              <a:off x="46483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19"/>
            <p:cNvSpPr/>
            <p:nvPr/>
          </p:nvSpPr>
          <p:spPr>
            <a:xfrm>
              <a:off x="4800600" y="288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20"/>
            <p:cNvSpPr/>
            <p:nvPr/>
          </p:nvSpPr>
          <p:spPr>
            <a:xfrm>
              <a:off x="4724280" y="327672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ntendimiento sobre Solución de Diferenci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Group 21"/>
          <p:cNvGrpSpPr/>
          <p:nvPr/>
        </p:nvGrpSpPr>
        <p:grpSpPr>
          <a:xfrm>
            <a:off x="6019920" y="2743200"/>
            <a:ext cx="1284120" cy="1828800"/>
            <a:chOff x="6019920" y="2743200"/>
            <a:chExt cx="1284120" cy="1828800"/>
          </a:xfrm>
        </p:grpSpPr>
        <p:sp>
          <p:nvSpPr>
            <p:cNvPr id="1395" name="AutoShape 22"/>
            <p:cNvSpPr/>
            <p:nvPr/>
          </p:nvSpPr>
          <p:spPr>
            <a:xfrm>
              <a:off x="60199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23"/>
            <p:cNvSpPr/>
            <p:nvPr/>
          </p:nvSpPr>
          <p:spPr>
            <a:xfrm>
              <a:off x="6172200" y="288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24"/>
            <p:cNvSpPr/>
            <p:nvPr/>
          </p:nvSpPr>
          <p:spPr>
            <a:xfrm>
              <a:off x="6095880" y="3276720"/>
              <a:ext cx="1143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Mecanismo de Examen de las Políticas Comercia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Group 25"/>
          <p:cNvGrpSpPr/>
          <p:nvPr/>
        </p:nvGrpSpPr>
        <p:grpSpPr>
          <a:xfrm>
            <a:off x="7391520" y="2743200"/>
            <a:ext cx="1284120" cy="1828800"/>
            <a:chOff x="7391520" y="2743200"/>
            <a:chExt cx="1284120" cy="1828800"/>
          </a:xfrm>
        </p:grpSpPr>
        <p:sp>
          <p:nvSpPr>
            <p:cNvPr id="1399" name="AutoShape 26"/>
            <p:cNvSpPr/>
            <p:nvPr/>
          </p:nvSpPr>
          <p:spPr>
            <a:xfrm>
              <a:off x="7391520" y="274320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27"/>
            <p:cNvSpPr/>
            <p:nvPr/>
          </p:nvSpPr>
          <p:spPr>
            <a:xfrm>
              <a:off x="7543800" y="288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ff"/>
                  </a:solidFill>
                  <a:latin typeface="Arial Black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28"/>
            <p:cNvSpPr/>
            <p:nvPr/>
          </p:nvSpPr>
          <p:spPr>
            <a:xfrm>
              <a:off x="7467480" y="327672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cuerdos comerciales plurilaterale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2" name="Group 29"/>
          <p:cNvGrpSpPr/>
          <p:nvPr/>
        </p:nvGrpSpPr>
        <p:grpSpPr>
          <a:xfrm>
            <a:off x="3962520" y="685800"/>
            <a:ext cx="1447200" cy="1828800"/>
            <a:chOff x="3962520" y="685800"/>
            <a:chExt cx="1447200" cy="1828800"/>
          </a:xfrm>
        </p:grpSpPr>
        <p:sp>
          <p:nvSpPr>
            <p:cNvPr id="1403" name="Rectangle 30"/>
            <p:cNvSpPr/>
            <p:nvPr/>
          </p:nvSpPr>
          <p:spPr>
            <a:xfrm>
              <a:off x="4098960" y="685800"/>
              <a:ext cx="1310760" cy="1828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Rectangle 31"/>
            <p:cNvSpPr/>
            <p:nvPr/>
          </p:nvSpPr>
          <p:spPr>
            <a:xfrm>
              <a:off x="3962520" y="685800"/>
              <a:ext cx="136440" cy="1828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Oval 32"/>
            <p:cNvSpPr/>
            <p:nvPr/>
          </p:nvSpPr>
          <p:spPr>
            <a:xfrm>
              <a:off x="4016160" y="1025640"/>
              <a:ext cx="554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Oval 33"/>
            <p:cNvSpPr/>
            <p:nvPr/>
          </p:nvSpPr>
          <p:spPr>
            <a:xfrm>
              <a:off x="4016160" y="1992240"/>
              <a:ext cx="5544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34"/>
            <p:cNvSpPr/>
            <p:nvPr/>
          </p:nvSpPr>
          <p:spPr>
            <a:xfrm>
              <a:off x="4190760" y="1066680"/>
              <a:ext cx="114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WTO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Group 35"/>
          <p:cNvGrpSpPr/>
          <p:nvPr/>
        </p:nvGrpSpPr>
        <p:grpSpPr>
          <a:xfrm>
            <a:off x="533520" y="685800"/>
            <a:ext cx="8229600" cy="5168880"/>
            <a:chOff x="533520" y="685800"/>
            <a:chExt cx="8229600" cy="5168880"/>
          </a:xfrm>
        </p:grpSpPr>
        <p:sp>
          <p:nvSpPr>
            <p:cNvPr id="1409" name="Text Box 36"/>
            <p:cNvSpPr/>
            <p:nvPr/>
          </p:nvSpPr>
          <p:spPr>
            <a:xfrm>
              <a:off x="533520" y="5029200"/>
              <a:ext cx="8229600" cy="8254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cuerdo de Marrakech por el que se establece la Organización Mundial del Comercio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0" name="Group 37"/>
            <p:cNvGrpSpPr/>
            <p:nvPr/>
          </p:nvGrpSpPr>
          <p:grpSpPr>
            <a:xfrm>
              <a:off x="4114800" y="685800"/>
              <a:ext cx="1284120" cy="1828800"/>
              <a:chOff x="4114800" y="685800"/>
              <a:chExt cx="1284120" cy="1828800"/>
            </a:xfrm>
          </p:grpSpPr>
          <p:sp>
            <p:nvSpPr>
              <p:cNvPr id="1411" name="AutoShape 38"/>
              <p:cNvSpPr/>
              <p:nvPr/>
            </p:nvSpPr>
            <p:spPr>
              <a:xfrm>
                <a:off x="4114800" y="685800"/>
                <a:ext cx="1284120" cy="1828800"/>
              </a:xfrm>
              <a:prstGeom prst="foldedCorner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Text Box 39"/>
              <p:cNvSpPr/>
              <p:nvPr/>
            </p:nvSpPr>
            <p:spPr>
              <a:xfrm>
                <a:off x="4267080" y="822600"/>
                <a:ext cx="990720" cy="45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Arial Black"/>
                  </a:rPr>
                  <a:t>OM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Text Box 40"/>
              <p:cNvSpPr/>
              <p:nvPr/>
            </p:nvSpPr>
            <p:spPr>
              <a:xfrm>
                <a:off x="4190760" y="1219320"/>
                <a:ext cx="1143000" cy="45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Text Box 2"/>
          <p:cNvSpPr/>
          <p:nvPr/>
        </p:nvSpPr>
        <p:spPr>
          <a:xfrm>
            <a:off x="1981080" y="1981080"/>
            <a:ext cx="38102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ntendimient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3"/>
          <p:cNvSpPr/>
          <p:nvPr/>
        </p:nvSpPr>
        <p:spPr>
          <a:xfrm>
            <a:off x="1981080" y="2514600"/>
            <a:ext cx="71629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cuerdos sobr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"/>
          <p:cNvSpPr/>
          <p:nvPr/>
        </p:nvSpPr>
        <p:spPr>
          <a:xfrm>
            <a:off x="1981080" y="29718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gricultur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1981080" y="3581280"/>
            <a:ext cx="34290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didas Sanitarias y fitosanitari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6"/>
          <p:cNvSpPr/>
          <p:nvPr/>
        </p:nvSpPr>
        <p:spPr>
          <a:xfrm>
            <a:off x="1981080" y="449568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xtiles y vesti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7"/>
          <p:cNvSpPr/>
          <p:nvPr/>
        </p:nvSpPr>
        <p:spPr>
          <a:xfrm>
            <a:off x="1981080" y="50292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Barreras técnicas al comerci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8"/>
          <p:cNvSpPr/>
          <p:nvPr/>
        </p:nvSpPr>
        <p:spPr>
          <a:xfrm>
            <a:off x="1981080" y="5589720"/>
            <a:ext cx="3429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edidas en materia de inversiones relacionadas con el comercio (MIC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9"/>
          <p:cNvSpPr/>
          <p:nvPr/>
        </p:nvSpPr>
        <p:spPr>
          <a:xfrm>
            <a:off x="5715000" y="29718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tidump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10"/>
          <p:cNvSpPr/>
          <p:nvPr/>
        </p:nvSpPr>
        <p:spPr>
          <a:xfrm>
            <a:off x="5715000" y="350532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Valoración en aduan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11"/>
          <p:cNvSpPr/>
          <p:nvPr/>
        </p:nvSpPr>
        <p:spPr>
          <a:xfrm>
            <a:off x="5715000" y="4038480"/>
            <a:ext cx="3429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Inspección previa a la expedició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12"/>
          <p:cNvSpPr/>
          <p:nvPr/>
        </p:nvSpPr>
        <p:spPr>
          <a:xfrm>
            <a:off x="5715000" y="457200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glas de Orig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13"/>
          <p:cNvSpPr/>
          <p:nvPr/>
        </p:nvSpPr>
        <p:spPr>
          <a:xfrm>
            <a:off x="5715000" y="5105520"/>
            <a:ext cx="3429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rámite de licencias de importació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14"/>
          <p:cNvSpPr/>
          <p:nvPr/>
        </p:nvSpPr>
        <p:spPr>
          <a:xfrm>
            <a:off x="5715000" y="5638680"/>
            <a:ext cx="34290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bvenciones y medidas compensatoria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15"/>
          <p:cNvSpPr/>
          <p:nvPr/>
        </p:nvSpPr>
        <p:spPr>
          <a:xfrm>
            <a:off x="6019920" y="1981080"/>
            <a:ext cx="31240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tocolo de Marrake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16"/>
          <p:cNvSpPr/>
          <p:nvPr/>
        </p:nvSpPr>
        <p:spPr>
          <a:xfrm>
            <a:off x="5715000" y="6461280"/>
            <a:ext cx="3429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alvaguardi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1979640" y="1523880"/>
            <a:ext cx="7164360" cy="67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GATT 1994  </a:t>
            </a:r>
            <a:r>
              <a:rPr b="1" lang="fr-FR" sz="19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s-ES" sz="1900" spc="-1" strike="noStrike">
                <a:solidFill>
                  <a:srgbClr val="000000"/>
                </a:solidFill>
                <a:latin typeface="Arial Narrow"/>
              </a:rPr>
              <a:t>Acuerdo General sobre Aranceles Aduaneros y Comercio</a:t>
            </a:r>
            <a:r>
              <a:rPr b="1" lang="fr-FR" sz="19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                         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18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19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OMC: Normas y disciplinas comerciale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Group 20"/>
          <p:cNvGrpSpPr/>
          <p:nvPr/>
        </p:nvGrpSpPr>
        <p:grpSpPr>
          <a:xfrm>
            <a:off x="380880" y="2666880"/>
            <a:ext cx="1284120" cy="1828800"/>
            <a:chOff x="380880" y="2666880"/>
            <a:chExt cx="1284120" cy="1828800"/>
          </a:xfrm>
        </p:grpSpPr>
        <p:sp>
          <p:nvSpPr>
            <p:cNvPr id="1433" name="AutoShape 21"/>
            <p:cNvSpPr/>
            <p:nvPr/>
          </p:nvSpPr>
          <p:spPr>
            <a:xfrm>
              <a:off x="380880" y="2666880"/>
              <a:ext cx="1284120" cy="182880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22"/>
            <p:cNvSpPr/>
            <p:nvPr/>
          </p:nvSpPr>
          <p:spPr>
            <a:xfrm>
              <a:off x="533160" y="2803320"/>
              <a:ext cx="99072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 Black"/>
                </a:rPr>
                <a:t>1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Text Box 23"/>
            <p:cNvSpPr/>
            <p:nvPr/>
          </p:nvSpPr>
          <p:spPr>
            <a:xfrm>
              <a:off x="457200" y="3200400"/>
              <a:ext cx="1143000" cy="855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cuerdos Multilaterales sobre el Comercio de Mercancía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6" name="Text Box 24"/>
          <p:cNvSpPr/>
          <p:nvPr/>
        </p:nvSpPr>
        <p:spPr>
          <a:xfrm>
            <a:off x="0" y="457200"/>
            <a:ext cx="91440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ff"/>
                </a:solidFill>
                <a:latin typeface="Arial"/>
              </a:rPr>
              <a:t>Anexo 1A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uerdos Multilaterales sobre el Comercio de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Mercancí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25"/>
          <p:cNvSpPr/>
          <p:nvPr/>
        </p:nvSpPr>
        <p:spPr>
          <a:xfrm>
            <a:off x="0" y="4724280"/>
            <a:ext cx="1981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rcancí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Text Box 2"/>
          <p:cNvSpPr/>
          <p:nvPr/>
        </p:nvSpPr>
        <p:spPr>
          <a:xfrm>
            <a:off x="0" y="1916280"/>
            <a:ext cx="4329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 OMC como organizació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9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1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2"/>
          <p:cNvSpPr/>
          <p:nvPr/>
        </p:nvSpPr>
        <p:spPr>
          <a:xfrm>
            <a:off x="663480" y="1590840"/>
            <a:ext cx="832500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rigida por los Miembros (15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isiones por consens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principi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ferentes tipos de reunio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les, Informales, Sesiones Especiales, Consultas, Multi- / Pluri- / Bilater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Órganos abiertos a todos los Miembr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ciones de la OM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610920" y="126828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 los acuerdos comerciales de la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o para negociacione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ta de resolver las diferencia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ervisa las políticas comerciales 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istencia técnica y cursos de formación para los países en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peración con otras organizaciones internacionales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2"/>
          <p:cNvSpPr/>
          <p:nvPr/>
        </p:nvSpPr>
        <p:spPr>
          <a:xfrm>
            <a:off x="744480" y="1981080"/>
            <a:ext cx="805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ersonería jurídica propi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630 funcionari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esupuesto: US$ 130 millones aprox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ede en Gineb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ecretariado independient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2"/>
          <p:cNvSpPr/>
          <p:nvPr/>
        </p:nvSpPr>
        <p:spPr>
          <a:xfrm>
            <a:off x="609480" y="-15228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structura de 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Group 3"/>
          <p:cNvGrpSpPr/>
          <p:nvPr/>
        </p:nvGrpSpPr>
        <p:grpSpPr>
          <a:xfrm>
            <a:off x="2235240" y="1295280"/>
            <a:ext cx="4132080" cy="3429000"/>
            <a:chOff x="2235240" y="1295280"/>
            <a:chExt cx="4132080" cy="3429000"/>
          </a:xfrm>
        </p:grpSpPr>
        <p:sp>
          <p:nvSpPr>
            <p:cNvPr id="1451" name="Line 4"/>
            <p:cNvSpPr/>
            <p:nvPr/>
          </p:nvSpPr>
          <p:spPr>
            <a:xfrm>
              <a:off x="2235240" y="2666880"/>
              <a:ext cx="41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5"/>
            <p:cNvSpPr/>
            <p:nvPr/>
          </p:nvSpPr>
          <p:spPr>
            <a:xfrm>
              <a:off x="2235240" y="2666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6"/>
            <p:cNvSpPr/>
            <p:nvPr/>
          </p:nvSpPr>
          <p:spPr>
            <a:xfrm>
              <a:off x="3386520" y="26668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7"/>
            <p:cNvSpPr/>
            <p:nvPr/>
          </p:nvSpPr>
          <p:spPr>
            <a:xfrm>
              <a:off x="4402440" y="2666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8"/>
            <p:cNvSpPr/>
            <p:nvPr/>
          </p:nvSpPr>
          <p:spPr>
            <a:xfrm>
              <a:off x="6367320" y="266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9"/>
            <p:cNvSpPr/>
            <p:nvPr/>
          </p:nvSpPr>
          <p:spPr>
            <a:xfrm>
              <a:off x="4064040" y="1295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Line 10"/>
          <p:cNvSpPr/>
          <p:nvPr/>
        </p:nvSpPr>
        <p:spPr>
          <a:xfrm>
            <a:off x="2303640" y="2057400"/>
            <a:ext cx="35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1"/>
          <p:cNvSpPr/>
          <p:nvPr/>
        </p:nvSpPr>
        <p:spPr>
          <a:xfrm>
            <a:off x="1557360" y="914400"/>
            <a:ext cx="487692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ferencia Ministerial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2"/>
          <p:cNvSpPr/>
          <p:nvPr/>
        </p:nvSpPr>
        <p:spPr>
          <a:xfrm>
            <a:off x="812880" y="6186600"/>
            <a:ext cx="212256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Secretarí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3"/>
          <p:cNvSpPr/>
          <p:nvPr/>
        </p:nvSpPr>
        <p:spPr>
          <a:xfrm>
            <a:off x="6635880" y="1052640"/>
            <a:ext cx="1492200" cy="1054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Organo de Apelación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4"/>
          <p:cNvSpPr/>
          <p:nvPr/>
        </p:nvSpPr>
        <p:spPr>
          <a:xfrm>
            <a:off x="6635880" y="2178000"/>
            <a:ext cx="168120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Grupos Especiale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5"/>
          <p:cNvSpPr/>
          <p:nvPr/>
        </p:nvSpPr>
        <p:spPr>
          <a:xfrm>
            <a:off x="1490760" y="3930480"/>
            <a:ext cx="162396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mité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16"/>
          <p:cNvSpPr/>
          <p:nvPr/>
        </p:nvSpPr>
        <p:spPr>
          <a:xfrm>
            <a:off x="3564000" y="4005360"/>
            <a:ext cx="162396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mité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17"/>
          <p:cNvSpPr/>
          <p:nvPr/>
        </p:nvSpPr>
        <p:spPr>
          <a:xfrm>
            <a:off x="1353960" y="3032280"/>
            <a:ext cx="189576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de Mercancía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18"/>
          <p:cNvSpPr/>
          <p:nvPr/>
        </p:nvSpPr>
        <p:spPr>
          <a:xfrm>
            <a:off x="3589200" y="2852640"/>
            <a:ext cx="162576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de Servicios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19"/>
          <p:cNvSpPr/>
          <p:nvPr/>
        </p:nvSpPr>
        <p:spPr>
          <a:xfrm>
            <a:off x="2573280" y="4572000"/>
            <a:ext cx="1625760" cy="73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ADPIC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0"/>
          <p:cNvSpPr/>
          <p:nvPr/>
        </p:nvSpPr>
        <p:spPr>
          <a:xfrm>
            <a:off x="5340240" y="3068640"/>
            <a:ext cx="2830680" cy="3431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CD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desarroll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CMA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medio ambient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AR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regionalism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BP (Balanza pagos)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GT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inversione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competenci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transparencia – contratación públic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dhesion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Presupuest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1"/>
          <p:cNvSpPr/>
          <p:nvPr/>
        </p:nvSpPr>
        <p:spPr>
          <a:xfrm>
            <a:off x="2438280" y="1849320"/>
            <a:ext cx="311652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Consejo General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2"/>
          <p:cNvSpPr/>
          <p:nvPr/>
        </p:nvSpPr>
        <p:spPr>
          <a:xfrm>
            <a:off x="1403280" y="1843200"/>
            <a:ext cx="96696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OEPC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3"/>
          <p:cNvSpPr/>
          <p:nvPr/>
        </p:nvSpPr>
        <p:spPr>
          <a:xfrm>
            <a:off x="5613480" y="1828800"/>
            <a:ext cx="865080" cy="41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OSD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4"/>
          <p:cNvSpPr/>
          <p:nvPr/>
        </p:nvSpPr>
        <p:spPr>
          <a:xfrm>
            <a:off x="812880" y="5791320"/>
            <a:ext cx="212256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rector-Gener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ferencias Minister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utoridad máx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reúne, en principio, cada d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ngapu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emas de Singap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ineb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h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nzamiento Ronda de Doha para el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ncú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ineb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2"/>
          <p:cNvSpPr/>
          <p:nvPr/>
        </p:nvSpPr>
        <p:spPr>
          <a:xfrm>
            <a:off x="677880" y="1600200"/>
            <a:ext cx="7736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onsejo Gener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8040" indent="-42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deres de la Conferencia Ministerial (entre sus sesione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8040" indent="-42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ierto a todos los Miembr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8040" indent="-42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ones princip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076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 general de la OMC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076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Órgano de Solución de Diferenci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0760" indent="-2286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Órgano de Revisión de Políticas Comerci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2"/>
          <p:cNvSpPr/>
          <p:nvPr/>
        </p:nvSpPr>
        <p:spPr>
          <a:xfrm>
            <a:off x="826920" y="1413000"/>
            <a:ext cx="7788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jo de Mercancí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visa funcionamiento Anexo 1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Acuerdos de comercio de mercancías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jo de Servici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visa funcionamiento Anexo 1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Acuerdo General sobre el Comercio de Servicios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jo de ADPI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visa funcionamiento Anexo 1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(Acuerdo sobre los Aspectos de los Derechos de Propiedad Intelectual Relacionados con el Comercio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2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Text Box 5"/>
          <p:cNvSpPr/>
          <p:nvPr/>
        </p:nvSpPr>
        <p:spPr>
          <a:xfrm>
            <a:off x="0" y="2133720"/>
            <a:ext cx="42148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istoria del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ATT / OM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2"/>
          <p:cNvSpPr/>
          <p:nvPr/>
        </p:nvSpPr>
        <p:spPr>
          <a:xfrm>
            <a:off x="666720" y="1590840"/>
            <a:ext cx="82566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structura “Ad hoc” de Negociaciones para la Ronda de Doh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ité de Negociaciones Comerci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Informa al Consejo General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Presidido por el Director-General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upos de negociación (ad hoc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siones Especiales” de órganos existen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3"/>
          <p:cNvSpPr/>
          <p:nvPr/>
        </p:nvSpPr>
        <p:spPr>
          <a:xfrm>
            <a:off x="1897200" y="549360"/>
            <a:ext cx="5418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La OM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Text Box 2"/>
          <p:cNvSpPr/>
          <p:nvPr/>
        </p:nvSpPr>
        <p:spPr>
          <a:xfrm>
            <a:off x="0" y="1916280"/>
            <a:ext cx="4329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incipios básicos de la OM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2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incipi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642960" y="2000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to de la nación más favoreci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I GATT 1947 – Art. II GAT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olidación de compromisos y arance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II GATT 1947 – Parte III y Art. XX GA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to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III GATT 1947 – Art. XVII GA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hibición de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 XI GATT 194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rechos de los Miemb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p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XX GATT 194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vaguard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uerdos regionales de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XXIV GATT 1947, Art. V GATS, Claúsula de habilit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pciones por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XXI GATT 194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das Antidumping / Compensato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t. VI GATT 1947 y Acuerdo A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0" name="Object 2"/>
          <p:cNvGraphicFramePr/>
          <p:nvPr/>
        </p:nvGraphicFramePr>
        <p:xfrm>
          <a:off x="214200" y="785880"/>
          <a:ext cx="875052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785880"/>
                    <a:ext cx="8750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2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3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494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5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496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97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49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499" name="Group 9"/>
          <p:cNvGrpSpPr/>
          <p:nvPr/>
        </p:nvGrpSpPr>
        <p:grpSpPr>
          <a:xfrm>
            <a:off x="6553080" y="1219320"/>
            <a:ext cx="2362320" cy="3047760"/>
            <a:chOff x="6553080" y="1219320"/>
            <a:chExt cx="2362320" cy="3047760"/>
          </a:xfrm>
        </p:grpSpPr>
        <p:sp>
          <p:nvSpPr>
            <p:cNvPr id="1500" name="Line 10"/>
            <p:cNvSpPr/>
            <p:nvPr/>
          </p:nvSpPr>
          <p:spPr>
            <a:xfrm>
              <a:off x="8153280" y="3124080"/>
              <a:ext cx="0" cy="11430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1" name="Group 11"/>
            <p:cNvGrpSpPr/>
            <p:nvPr/>
          </p:nvGrpSpPr>
          <p:grpSpPr>
            <a:xfrm>
              <a:off x="6553080" y="1219320"/>
              <a:ext cx="2362320" cy="2057400"/>
              <a:chOff x="6553080" y="1219320"/>
              <a:chExt cx="2362320" cy="2057400"/>
            </a:xfrm>
          </p:grpSpPr>
          <p:sp>
            <p:nvSpPr>
              <p:cNvPr id="1502" name="Oval 12"/>
              <p:cNvSpPr/>
              <p:nvPr/>
            </p:nvSpPr>
            <p:spPr>
              <a:xfrm>
                <a:off x="6553080" y="1219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03" name="Object 13"/>
              <p:cNvGraphicFramePr/>
              <p:nvPr/>
            </p:nvGraphicFramePr>
            <p:xfrm>
              <a:off x="7010280" y="1600200"/>
              <a:ext cx="1447920" cy="1386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04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160020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05" name="Group 14"/>
          <p:cNvGrpSpPr/>
          <p:nvPr/>
        </p:nvGrpSpPr>
        <p:grpSpPr>
          <a:xfrm>
            <a:off x="3352680" y="4648320"/>
            <a:ext cx="3353040" cy="2057400"/>
            <a:chOff x="3352680" y="4648320"/>
            <a:chExt cx="3353040" cy="2057400"/>
          </a:xfrm>
        </p:grpSpPr>
        <p:sp>
          <p:nvSpPr>
            <p:cNvPr id="1506" name="Line 15"/>
            <p:cNvSpPr/>
            <p:nvPr/>
          </p:nvSpPr>
          <p:spPr>
            <a:xfrm flipV="1">
              <a:off x="5486400" y="5029200"/>
              <a:ext cx="1219320" cy="4572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7" name="Group 16"/>
            <p:cNvGrpSpPr/>
            <p:nvPr/>
          </p:nvGrpSpPr>
          <p:grpSpPr>
            <a:xfrm>
              <a:off x="3352680" y="4648320"/>
              <a:ext cx="2362320" cy="2057400"/>
              <a:chOff x="3352680" y="4648320"/>
              <a:chExt cx="2362320" cy="2057400"/>
            </a:xfrm>
          </p:grpSpPr>
          <p:sp>
            <p:nvSpPr>
              <p:cNvPr id="1508" name="Oval 17"/>
              <p:cNvSpPr/>
              <p:nvPr/>
            </p:nvSpPr>
            <p:spPr>
              <a:xfrm>
                <a:off x="3352680" y="4648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09" name="Object 18"/>
              <p:cNvGraphicFramePr/>
              <p:nvPr/>
            </p:nvGraphicFramePr>
            <p:xfrm>
              <a:off x="3809880" y="4952880"/>
              <a:ext cx="1447920" cy="1386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10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495288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11" name="Group 19"/>
          <p:cNvGrpSpPr/>
          <p:nvPr/>
        </p:nvGrpSpPr>
        <p:grpSpPr>
          <a:xfrm>
            <a:off x="250920" y="990720"/>
            <a:ext cx="3025440" cy="703800"/>
            <a:chOff x="250920" y="990720"/>
            <a:chExt cx="3025440" cy="703800"/>
          </a:xfrm>
        </p:grpSpPr>
        <p:sp>
          <p:nvSpPr>
            <p:cNvPr id="1512" name="Text Box 20"/>
            <p:cNvSpPr/>
            <p:nvPr/>
          </p:nvSpPr>
          <p:spPr>
            <a:xfrm>
              <a:off x="801000" y="990720"/>
              <a:ext cx="247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Consolidaciones </a:t>
              </a:r>
              <a:r>
                <a:rPr b="1" lang="en-GB" sz="2000" spc="-1" strike="noStrike">
                  <a:solidFill>
                    <a:srgbClr val="b2b2b2"/>
                  </a:solidFill>
                  <a:latin typeface="Tahoma"/>
                </a:rPr>
                <a:t>/ Compromis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Oval 21"/>
            <p:cNvSpPr/>
            <p:nvPr/>
          </p:nvSpPr>
          <p:spPr>
            <a:xfrm>
              <a:off x="250920" y="1067040"/>
              <a:ext cx="366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Text Box 22"/>
          <p:cNvSpPr/>
          <p:nvPr/>
        </p:nvSpPr>
        <p:spPr>
          <a:xfrm>
            <a:off x="179280" y="1916280"/>
            <a:ext cx="297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Cada país se compromete a mantener el nivel acordado de acceso a su mercado, sobre base NMF, para los países proveedor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6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8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520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1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522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23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24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25" name="Group 9"/>
          <p:cNvGrpSpPr/>
          <p:nvPr/>
        </p:nvGrpSpPr>
        <p:grpSpPr>
          <a:xfrm>
            <a:off x="6553080" y="1219320"/>
            <a:ext cx="2362320" cy="3047760"/>
            <a:chOff x="6553080" y="1219320"/>
            <a:chExt cx="2362320" cy="3047760"/>
          </a:xfrm>
        </p:grpSpPr>
        <p:sp>
          <p:nvSpPr>
            <p:cNvPr id="1526" name="Line 10"/>
            <p:cNvSpPr/>
            <p:nvPr/>
          </p:nvSpPr>
          <p:spPr>
            <a:xfrm>
              <a:off x="8153280" y="3124080"/>
              <a:ext cx="0" cy="11430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Group 11"/>
            <p:cNvGrpSpPr/>
            <p:nvPr/>
          </p:nvGrpSpPr>
          <p:grpSpPr>
            <a:xfrm>
              <a:off x="6553080" y="1219320"/>
              <a:ext cx="2362320" cy="2057400"/>
              <a:chOff x="6553080" y="1219320"/>
              <a:chExt cx="2362320" cy="2057400"/>
            </a:xfrm>
          </p:grpSpPr>
          <p:sp>
            <p:nvSpPr>
              <p:cNvPr id="1528" name="Oval 12"/>
              <p:cNvSpPr/>
              <p:nvPr/>
            </p:nvSpPr>
            <p:spPr>
              <a:xfrm>
                <a:off x="6553080" y="1219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29" name="Object 13"/>
              <p:cNvGraphicFramePr/>
              <p:nvPr/>
            </p:nvGraphicFramePr>
            <p:xfrm>
              <a:off x="7010280" y="1600200"/>
              <a:ext cx="1447920" cy="1386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30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160020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31" name="Group 14"/>
          <p:cNvGrpSpPr/>
          <p:nvPr/>
        </p:nvGrpSpPr>
        <p:grpSpPr>
          <a:xfrm>
            <a:off x="3352680" y="4648320"/>
            <a:ext cx="3353040" cy="2057400"/>
            <a:chOff x="3352680" y="4648320"/>
            <a:chExt cx="3353040" cy="2057400"/>
          </a:xfrm>
        </p:grpSpPr>
        <p:sp>
          <p:nvSpPr>
            <p:cNvPr id="1532" name="Line 15"/>
            <p:cNvSpPr/>
            <p:nvPr/>
          </p:nvSpPr>
          <p:spPr>
            <a:xfrm flipV="1">
              <a:off x="5486400" y="5029200"/>
              <a:ext cx="1219320" cy="4572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Group 16"/>
            <p:cNvGrpSpPr/>
            <p:nvPr/>
          </p:nvGrpSpPr>
          <p:grpSpPr>
            <a:xfrm>
              <a:off x="3352680" y="4648320"/>
              <a:ext cx="2362320" cy="2057400"/>
              <a:chOff x="3352680" y="4648320"/>
              <a:chExt cx="2362320" cy="2057400"/>
            </a:xfrm>
          </p:grpSpPr>
          <p:sp>
            <p:nvSpPr>
              <p:cNvPr id="1534" name="Oval 17"/>
              <p:cNvSpPr/>
              <p:nvPr/>
            </p:nvSpPr>
            <p:spPr>
              <a:xfrm>
                <a:off x="3352680" y="4648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35" name="Object 18"/>
              <p:cNvGraphicFramePr/>
              <p:nvPr/>
            </p:nvGraphicFramePr>
            <p:xfrm>
              <a:off x="3809880" y="4952880"/>
              <a:ext cx="1447920" cy="1386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36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495288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37" name="Group 19"/>
          <p:cNvGrpSpPr/>
          <p:nvPr/>
        </p:nvGrpSpPr>
        <p:grpSpPr>
          <a:xfrm>
            <a:off x="228600" y="990720"/>
            <a:ext cx="2514600" cy="398880"/>
            <a:chOff x="228600" y="990720"/>
            <a:chExt cx="2514600" cy="398880"/>
          </a:xfrm>
        </p:grpSpPr>
        <p:sp>
          <p:nvSpPr>
            <p:cNvPr id="1538" name="Text Box 20"/>
            <p:cNvSpPr/>
            <p:nvPr/>
          </p:nvSpPr>
          <p:spPr>
            <a:xfrm>
              <a:off x="685800" y="9907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Principio NM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Oval 2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Text Box 22"/>
          <p:cNvSpPr/>
          <p:nvPr/>
        </p:nvSpPr>
        <p:spPr>
          <a:xfrm>
            <a:off x="152280" y="1447920"/>
            <a:ext cx="2971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No discriminación entre productos / servicios similares originados en o destinados a diferentes países (o nacionales de diferentes países en relación con la protección de DPI). Cada socio comercial obtiene inmediata e incondicionalmente el mejor de los tratos otorgados a cualquier otro socio comercia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2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2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4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546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7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548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49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50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51" name="Group 9"/>
          <p:cNvGrpSpPr/>
          <p:nvPr/>
        </p:nvGrpSpPr>
        <p:grpSpPr>
          <a:xfrm>
            <a:off x="6553080" y="1219320"/>
            <a:ext cx="2362320" cy="3047760"/>
            <a:chOff x="6553080" y="1219320"/>
            <a:chExt cx="2362320" cy="3047760"/>
          </a:xfrm>
        </p:grpSpPr>
        <p:sp>
          <p:nvSpPr>
            <p:cNvPr id="1552" name="Line 10"/>
            <p:cNvSpPr/>
            <p:nvPr/>
          </p:nvSpPr>
          <p:spPr>
            <a:xfrm>
              <a:off x="8153280" y="3124080"/>
              <a:ext cx="0" cy="11430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3" name="Group 11"/>
            <p:cNvGrpSpPr/>
            <p:nvPr/>
          </p:nvGrpSpPr>
          <p:grpSpPr>
            <a:xfrm>
              <a:off x="6553080" y="1219320"/>
              <a:ext cx="2362320" cy="2057400"/>
              <a:chOff x="6553080" y="1219320"/>
              <a:chExt cx="2362320" cy="2057400"/>
            </a:xfrm>
          </p:grpSpPr>
          <p:sp>
            <p:nvSpPr>
              <p:cNvPr id="1554" name="Oval 12"/>
              <p:cNvSpPr/>
              <p:nvPr/>
            </p:nvSpPr>
            <p:spPr>
              <a:xfrm>
                <a:off x="6553080" y="1219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55" name="Object 13"/>
              <p:cNvGraphicFramePr/>
              <p:nvPr/>
            </p:nvGraphicFramePr>
            <p:xfrm>
              <a:off x="7010280" y="1600200"/>
              <a:ext cx="1447920" cy="1386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56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160020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57" name="Group 14"/>
          <p:cNvGrpSpPr/>
          <p:nvPr/>
        </p:nvGrpSpPr>
        <p:grpSpPr>
          <a:xfrm>
            <a:off x="3352680" y="4648320"/>
            <a:ext cx="3353040" cy="2057400"/>
            <a:chOff x="3352680" y="4648320"/>
            <a:chExt cx="3353040" cy="2057400"/>
          </a:xfrm>
        </p:grpSpPr>
        <p:sp>
          <p:nvSpPr>
            <p:cNvPr id="1558" name="Line 15"/>
            <p:cNvSpPr/>
            <p:nvPr/>
          </p:nvSpPr>
          <p:spPr>
            <a:xfrm flipV="1">
              <a:off x="5486400" y="5029200"/>
              <a:ext cx="1219320" cy="45720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Group 16"/>
            <p:cNvGrpSpPr/>
            <p:nvPr/>
          </p:nvGrpSpPr>
          <p:grpSpPr>
            <a:xfrm>
              <a:off x="3352680" y="4648320"/>
              <a:ext cx="2362320" cy="2057400"/>
              <a:chOff x="3352680" y="4648320"/>
              <a:chExt cx="2362320" cy="2057400"/>
            </a:xfrm>
          </p:grpSpPr>
          <p:sp>
            <p:nvSpPr>
              <p:cNvPr id="1560" name="Oval 17"/>
              <p:cNvSpPr/>
              <p:nvPr/>
            </p:nvSpPr>
            <p:spPr>
              <a:xfrm>
                <a:off x="3352680" y="464832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61" name="Object 18"/>
              <p:cNvGraphicFramePr/>
              <p:nvPr/>
            </p:nvGraphicFramePr>
            <p:xfrm>
              <a:off x="3809880" y="4952880"/>
              <a:ext cx="1447920" cy="1386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62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4952880"/>
                        <a:ext cx="1447920" cy="13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63" name="Group 19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564" name="Text Box 20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0000"/>
                  </a:solidFill>
                  <a:latin typeface="Tahoma"/>
                </a:rPr>
                <a:t>Prohibición de contingent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Oval 2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Text Box 22"/>
          <p:cNvSpPr/>
          <p:nvPr/>
        </p:nvSpPr>
        <p:spPr>
          <a:xfrm>
            <a:off x="304920" y="1916280"/>
            <a:ext cx="29718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bienes, el uso de contingentes (restricciones cuantitativas) está prohibid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servicios, el uso de contingentes está prohibido para los sectores y modos de suministro indicados en las listas de compromisos específic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8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0" name="Rectangle 3"/>
          <p:cNvSpPr/>
          <p:nvPr/>
        </p:nvSpPr>
        <p:spPr>
          <a:xfrm>
            <a:off x="0" y="85716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Group 4"/>
          <p:cNvGrpSpPr/>
          <p:nvPr/>
        </p:nvGrpSpPr>
        <p:grpSpPr>
          <a:xfrm>
            <a:off x="228600" y="990720"/>
            <a:ext cx="2614320" cy="398880"/>
            <a:chOff x="228600" y="990720"/>
            <a:chExt cx="2614320" cy="398880"/>
          </a:xfrm>
        </p:grpSpPr>
        <p:sp>
          <p:nvSpPr>
            <p:cNvPr id="1572" name="Text Box 5"/>
            <p:cNvSpPr/>
            <p:nvPr/>
          </p:nvSpPr>
          <p:spPr>
            <a:xfrm>
              <a:off x="703800" y="990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Trato  Nacion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Oval 6"/>
            <p:cNvSpPr/>
            <p:nvPr/>
          </p:nvSpPr>
          <p:spPr>
            <a:xfrm>
              <a:off x="228600" y="1067040"/>
              <a:ext cx="31680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Text Box 7"/>
          <p:cNvSpPr/>
          <p:nvPr/>
        </p:nvSpPr>
        <p:spPr>
          <a:xfrm>
            <a:off x="152280" y="1714680"/>
            <a:ext cx="2971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os bienes y servicios y proveedores de servicios extranjeros, así como los extranjeros titulares de DPI no deben ser discriminados en relación con los bienes y servicios y proveedores de servicios nacionales o los nacionales titulares de DPI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servicios, la obligación de TN depende de las listas de compromisos específicos de cada Miembr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5" name="Object 8"/>
          <p:cNvGraphicFramePr/>
          <p:nvPr/>
        </p:nvGraphicFramePr>
        <p:xfrm>
          <a:off x="7467480" y="4176720"/>
          <a:ext cx="144792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4176720"/>
                    <a:ext cx="14479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7" name="Line 9"/>
          <p:cNvSpPr/>
          <p:nvPr/>
        </p:nvSpPr>
        <p:spPr>
          <a:xfrm>
            <a:off x="8153280" y="2666880"/>
            <a:ext cx="0" cy="1828800"/>
          </a:xfrm>
          <a:prstGeom prst="line">
            <a:avLst/>
          </a:prstGeom>
          <a:ln w="20628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Object 10"/>
          <p:cNvGraphicFramePr/>
          <p:nvPr/>
        </p:nvGraphicFramePr>
        <p:xfrm>
          <a:off x="6095880" y="4191120"/>
          <a:ext cx="1447920" cy="13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191120"/>
                    <a:ext cx="14479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0" name="Object 11"/>
          <p:cNvGraphicFramePr/>
          <p:nvPr/>
        </p:nvGraphicFramePr>
        <p:xfrm>
          <a:off x="7620120" y="5396040"/>
          <a:ext cx="1447560" cy="13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5396040"/>
                    <a:ext cx="1447560" cy="138564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82" name="Line 12"/>
          <p:cNvSpPr/>
          <p:nvPr/>
        </p:nvSpPr>
        <p:spPr>
          <a:xfrm>
            <a:off x="5105520" y="3200400"/>
            <a:ext cx="1523880" cy="1371600"/>
          </a:xfrm>
          <a:prstGeom prst="line">
            <a:avLst/>
          </a:prstGeom>
          <a:ln w="247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Principios Jurídicos Básic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4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6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588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9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590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91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92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93" name="Group 9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594" name="Text Box 10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Excepciones Gener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Oval 1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6" name="Text Box 12"/>
          <p:cNvSpPr/>
          <p:nvPr/>
        </p:nvSpPr>
        <p:spPr>
          <a:xfrm>
            <a:off x="152280" y="2133720"/>
            <a:ext cx="297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as reglas y obligaciones de la OMC no impiden a los Miembros , </a:t>
            </a:r>
            <a:r>
              <a:rPr b="0" lang="es-ES" sz="2000" spc="-1" strike="noStrike">
                <a:solidFill>
                  <a:srgbClr val="cc0000"/>
                </a:solidFill>
                <a:latin typeface="Tahoma"/>
              </a:rPr>
              <a:t>en algunas situaciones particulares y bajo ciertas condiciones,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 tomar medidas que de otra manera serían consideradas ilega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Object 13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Text Box 1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Excepciones Gener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0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2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3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04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5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06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07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0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09" name="Group 9"/>
          <p:cNvGrpSpPr/>
          <p:nvPr/>
        </p:nvGrpSpPr>
        <p:grpSpPr>
          <a:xfrm>
            <a:off x="228600" y="990720"/>
            <a:ext cx="2514600" cy="1472400"/>
            <a:chOff x="228600" y="990720"/>
            <a:chExt cx="2514600" cy="1472400"/>
          </a:xfrm>
        </p:grpSpPr>
        <p:sp>
          <p:nvSpPr>
            <p:cNvPr id="1610" name="Text Box 10"/>
            <p:cNvSpPr/>
            <p:nvPr/>
          </p:nvSpPr>
          <p:spPr>
            <a:xfrm>
              <a:off x="685800" y="990720"/>
              <a:ext cx="205740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BIEN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Generales de Salvaguardi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Oval 11"/>
            <p:cNvSpPr/>
            <p:nvPr/>
          </p:nvSpPr>
          <p:spPr>
            <a:xfrm>
              <a:off x="228600" y="1066680"/>
              <a:ext cx="304920" cy="30420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2" name="Text Box 12"/>
          <p:cNvSpPr/>
          <p:nvPr/>
        </p:nvSpPr>
        <p:spPr>
          <a:xfrm>
            <a:off x="152280" y="2666880"/>
            <a:ext cx="297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En situaciones particulares, medidas normalmente contrarias a los principios básicos de la OMC, están a disposición de los Miembros a fin de proteger, condicional y temporariamente, a su industria  nacional de los  aumentos de las importa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13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520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4" name="Object 14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6" name="Text Box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alvaguard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2"/>
          <p:cNvSpPr/>
          <p:nvPr/>
        </p:nvSpPr>
        <p:spPr>
          <a:xfrm>
            <a:off x="0" y="6286680"/>
            <a:ext cx="84582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Group 3"/>
          <p:cNvGrpSpPr/>
          <p:nvPr/>
        </p:nvGrpSpPr>
        <p:grpSpPr>
          <a:xfrm>
            <a:off x="1295280" y="2133720"/>
            <a:ext cx="952560" cy="3962160"/>
            <a:chOff x="1295280" y="2133720"/>
            <a:chExt cx="952560" cy="3962160"/>
          </a:xfrm>
        </p:grpSpPr>
        <p:grpSp>
          <p:nvGrpSpPr>
            <p:cNvPr id="1089" name="Group 4"/>
            <p:cNvGrpSpPr/>
            <p:nvPr/>
          </p:nvGrpSpPr>
          <p:grpSpPr>
            <a:xfrm>
              <a:off x="1295280" y="2133720"/>
              <a:ext cx="952560" cy="3962160"/>
              <a:chOff x="1295280" y="2133720"/>
              <a:chExt cx="952560" cy="3962160"/>
            </a:xfrm>
          </p:grpSpPr>
          <p:sp>
            <p:nvSpPr>
              <p:cNvPr id="1090" name="Freeform 5"/>
              <p:cNvSpPr/>
              <p:nvPr/>
            </p:nvSpPr>
            <p:spPr>
              <a:xfrm>
                <a:off x="1371600" y="2362320"/>
                <a:ext cx="80460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91" name="Object 6"/>
              <p:cNvGraphicFramePr/>
              <p:nvPr/>
            </p:nvGraphicFramePr>
            <p:xfrm>
              <a:off x="1295280" y="2133720"/>
              <a:ext cx="952560" cy="3962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92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95280" y="2133720"/>
                        <a:ext cx="95256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93" name="Text Box 7"/>
            <p:cNvSpPr/>
            <p:nvPr/>
          </p:nvSpPr>
          <p:spPr>
            <a:xfrm rot="16200000">
              <a:off x="364680" y="41896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GATT 194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Group 8"/>
          <p:cNvGrpSpPr/>
          <p:nvPr/>
        </p:nvGrpSpPr>
        <p:grpSpPr>
          <a:xfrm>
            <a:off x="1714680" y="2286000"/>
            <a:ext cx="952200" cy="3962160"/>
            <a:chOff x="1714680" y="2286000"/>
            <a:chExt cx="952200" cy="3962160"/>
          </a:xfrm>
        </p:grpSpPr>
        <p:grpSp>
          <p:nvGrpSpPr>
            <p:cNvPr id="1095" name="Group 9"/>
            <p:cNvGrpSpPr/>
            <p:nvPr/>
          </p:nvGrpSpPr>
          <p:grpSpPr>
            <a:xfrm>
              <a:off x="1714680" y="2286000"/>
              <a:ext cx="952200" cy="3962160"/>
              <a:chOff x="1714680" y="2286000"/>
              <a:chExt cx="952200" cy="3962160"/>
            </a:xfrm>
          </p:grpSpPr>
          <p:sp>
            <p:nvSpPr>
              <p:cNvPr id="1096" name="Freeform 10"/>
              <p:cNvSpPr/>
              <p:nvPr/>
            </p:nvSpPr>
            <p:spPr>
              <a:xfrm>
                <a:off x="1790640" y="2514600"/>
                <a:ext cx="80424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97" name="Object 11"/>
              <p:cNvGraphicFramePr/>
              <p:nvPr/>
            </p:nvGraphicFramePr>
            <p:xfrm>
              <a:off x="1714680" y="2286000"/>
              <a:ext cx="952200" cy="396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98" name="Object 1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14680" y="2286000"/>
                        <a:ext cx="95220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99" name="Text Box 12"/>
            <p:cNvSpPr/>
            <p:nvPr/>
          </p:nvSpPr>
          <p:spPr>
            <a:xfrm rot="16200000">
              <a:off x="783720" y="434196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Protocol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Group 13"/>
          <p:cNvGrpSpPr/>
          <p:nvPr/>
        </p:nvGrpSpPr>
        <p:grpSpPr>
          <a:xfrm>
            <a:off x="-360" y="1371600"/>
            <a:ext cx="9144360" cy="457200"/>
            <a:chOff x="-360" y="1371600"/>
            <a:chExt cx="9144360" cy="457200"/>
          </a:xfrm>
        </p:grpSpPr>
        <p:sp>
          <p:nvSpPr>
            <p:cNvPr id="1101" name="Rectangle 14"/>
            <p:cNvSpPr/>
            <p:nvPr/>
          </p:nvSpPr>
          <p:spPr>
            <a:xfrm flipH="1">
              <a:off x="-720" y="1371600"/>
              <a:ext cx="89154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15"/>
            <p:cNvSpPr/>
            <p:nvPr/>
          </p:nvSpPr>
          <p:spPr>
            <a:xfrm>
              <a:off x="609480" y="1447920"/>
              <a:ext cx="838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1.</a:t>
              </a: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Los años del GAT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6"/>
            <p:cNvSpPr/>
            <p:nvPr/>
          </p:nvSpPr>
          <p:spPr>
            <a:xfrm>
              <a:off x="8915400" y="1371600"/>
              <a:ext cx="228600" cy="457200"/>
            </a:xfrm>
            <a:prstGeom prst="rect">
              <a:avLst/>
            </a:prstGeom>
            <a:solidFill>
              <a:srgbClr val="e4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Group 17"/>
          <p:cNvGrpSpPr/>
          <p:nvPr/>
        </p:nvGrpSpPr>
        <p:grpSpPr>
          <a:xfrm>
            <a:off x="2417760" y="2133720"/>
            <a:ext cx="952560" cy="3962160"/>
            <a:chOff x="2417760" y="2133720"/>
            <a:chExt cx="952560" cy="3962160"/>
          </a:xfrm>
        </p:grpSpPr>
        <p:grpSp>
          <p:nvGrpSpPr>
            <p:cNvPr id="1105" name="Group 18"/>
            <p:cNvGrpSpPr/>
            <p:nvPr/>
          </p:nvGrpSpPr>
          <p:grpSpPr>
            <a:xfrm>
              <a:off x="2417760" y="2133720"/>
              <a:ext cx="952560" cy="3962160"/>
              <a:chOff x="2417760" y="2133720"/>
              <a:chExt cx="952560" cy="3962160"/>
            </a:xfrm>
          </p:grpSpPr>
          <p:sp>
            <p:nvSpPr>
              <p:cNvPr id="1106" name="Freeform 19"/>
              <p:cNvSpPr/>
              <p:nvPr/>
            </p:nvSpPr>
            <p:spPr>
              <a:xfrm>
                <a:off x="2494080" y="2362320"/>
                <a:ext cx="80460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7" name="Object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7760" y="2133720"/>
                <a:ext cx="952560" cy="39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8" name="Text Box 21"/>
            <p:cNvSpPr/>
            <p:nvPr/>
          </p:nvSpPr>
          <p:spPr>
            <a:xfrm rot="16200000">
              <a:off x="1459800" y="4129200"/>
              <a:ext cx="251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Protocolos de Adhesión                        al GAT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Group 22"/>
          <p:cNvGrpSpPr/>
          <p:nvPr/>
        </p:nvGrpSpPr>
        <p:grpSpPr>
          <a:xfrm>
            <a:off x="2938320" y="2135160"/>
            <a:ext cx="952560" cy="3962160"/>
            <a:chOff x="2938320" y="2135160"/>
            <a:chExt cx="952560" cy="3962160"/>
          </a:xfrm>
        </p:grpSpPr>
        <p:grpSp>
          <p:nvGrpSpPr>
            <p:cNvPr id="1110" name="Group 23"/>
            <p:cNvGrpSpPr/>
            <p:nvPr/>
          </p:nvGrpSpPr>
          <p:grpSpPr>
            <a:xfrm>
              <a:off x="2938320" y="2135160"/>
              <a:ext cx="952560" cy="3962160"/>
              <a:chOff x="2938320" y="2135160"/>
              <a:chExt cx="952560" cy="3962160"/>
            </a:xfrm>
          </p:grpSpPr>
          <p:sp>
            <p:nvSpPr>
              <p:cNvPr id="1111" name="Freeform 24"/>
              <p:cNvSpPr/>
              <p:nvPr/>
            </p:nvSpPr>
            <p:spPr>
              <a:xfrm>
                <a:off x="3014640" y="2363760"/>
                <a:ext cx="80496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12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2938320" y="2135160"/>
                <a:ext cx="952560" cy="39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3" name="Text Box 26"/>
            <p:cNvSpPr/>
            <p:nvPr/>
          </p:nvSpPr>
          <p:spPr>
            <a:xfrm rot="16200000">
              <a:off x="1978920" y="412920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Decisiones de PPCC del GAT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(1947-1994)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Group 27"/>
          <p:cNvGrpSpPr/>
          <p:nvPr/>
        </p:nvGrpSpPr>
        <p:grpSpPr>
          <a:xfrm>
            <a:off x="3440160" y="2351160"/>
            <a:ext cx="1085400" cy="3638520"/>
            <a:chOff x="3440160" y="2351160"/>
            <a:chExt cx="1085400" cy="3638520"/>
          </a:xfrm>
        </p:grpSpPr>
        <p:grpSp>
          <p:nvGrpSpPr>
            <p:cNvPr id="1115" name="Group 28"/>
            <p:cNvGrpSpPr/>
            <p:nvPr/>
          </p:nvGrpSpPr>
          <p:grpSpPr>
            <a:xfrm>
              <a:off x="3440160" y="2351160"/>
              <a:ext cx="1085400" cy="3638520"/>
              <a:chOff x="3440160" y="2351160"/>
              <a:chExt cx="1085400" cy="3638520"/>
            </a:xfrm>
          </p:grpSpPr>
          <p:grpSp>
            <p:nvGrpSpPr>
              <p:cNvPr id="1116" name="Group 29"/>
              <p:cNvGrpSpPr/>
              <p:nvPr/>
            </p:nvGrpSpPr>
            <p:grpSpPr>
              <a:xfrm>
                <a:off x="3440160" y="2351160"/>
                <a:ext cx="1085400" cy="3638520"/>
                <a:chOff x="3440160" y="2351160"/>
                <a:chExt cx="1085400" cy="3638520"/>
              </a:xfrm>
            </p:grpSpPr>
            <p:sp>
              <p:nvSpPr>
                <p:cNvPr id="1117" name="Freeform 30"/>
                <p:cNvSpPr/>
                <p:nvPr/>
              </p:nvSpPr>
              <p:spPr>
                <a:xfrm>
                  <a:off x="3595320" y="2493720"/>
                  <a:ext cx="63612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18" name="Object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40160" y="2351160"/>
                  <a:ext cx="108540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19" name="Text Box 32"/>
              <p:cNvSpPr/>
              <p:nvPr/>
            </p:nvSpPr>
            <p:spPr>
              <a:xfrm rot="16200000">
                <a:off x="2607480" y="4235400"/>
                <a:ext cx="2352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Text Box 33"/>
            <p:cNvSpPr/>
            <p:nvPr/>
          </p:nvSpPr>
          <p:spPr>
            <a:xfrm>
              <a:off x="3630600" y="2943360"/>
              <a:ext cx="304920" cy="337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Group 34"/>
          <p:cNvGrpSpPr/>
          <p:nvPr/>
        </p:nvGrpSpPr>
        <p:grpSpPr>
          <a:xfrm>
            <a:off x="3935520" y="2351160"/>
            <a:ext cx="1085400" cy="3638520"/>
            <a:chOff x="3935520" y="2351160"/>
            <a:chExt cx="1085400" cy="3638520"/>
          </a:xfrm>
        </p:grpSpPr>
        <p:grpSp>
          <p:nvGrpSpPr>
            <p:cNvPr id="1122" name="Group 35"/>
            <p:cNvGrpSpPr/>
            <p:nvPr/>
          </p:nvGrpSpPr>
          <p:grpSpPr>
            <a:xfrm>
              <a:off x="3935520" y="2351160"/>
              <a:ext cx="1085400" cy="3638520"/>
              <a:chOff x="3935520" y="2351160"/>
              <a:chExt cx="1085400" cy="3638520"/>
            </a:xfrm>
          </p:grpSpPr>
          <p:grpSp>
            <p:nvGrpSpPr>
              <p:cNvPr id="1123" name="Group 36"/>
              <p:cNvGrpSpPr/>
              <p:nvPr/>
            </p:nvGrpSpPr>
            <p:grpSpPr>
              <a:xfrm>
                <a:off x="3935520" y="2351160"/>
                <a:ext cx="1085400" cy="3638520"/>
                <a:chOff x="3935520" y="2351160"/>
                <a:chExt cx="1085400" cy="3638520"/>
              </a:xfrm>
            </p:grpSpPr>
            <p:sp>
              <p:nvSpPr>
                <p:cNvPr id="1124" name="Freeform 37"/>
                <p:cNvSpPr/>
                <p:nvPr/>
              </p:nvSpPr>
              <p:spPr>
                <a:xfrm>
                  <a:off x="4090680" y="2493720"/>
                  <a:ext cx="63612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5" name="Object 3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935520" y="2351160"/>
                  <a:ext cx="108540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26" name="Text Box 39"/>
              <p:cNvSpPr/>
              <p:nvPr/>
            </p:nvSpPr>
            <p:spPr>
              <a:xfrm rot="16200000">
                <a:off x="3106440" y="4237200"/>
                <a:ext cx="235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Text Box 40"/>
            <p:cNvSpPr/>
            <p:nvPr/>
          </p:nvSpPr>
          <p:spPr>
            <a:xfrm>
              <a:off x="4138560" y="2943360"/>
              <a:ext cx="3049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Group 41"/>
          <p:cNvGrpSpPr/>
          <p:nvPr/>
        </p:nvGrpSpPr>
        <p:grpSpPr>
          <a:xfrm>
            <a:off x="4437000" y="2351160"/>
            <a:ext cx="1086840" cy="3638520"/>
            <a:chOff x="4437000" y="2351160"/>
            <a:chExt cx="1086840" cy="3638520"/>
          </a:xfrm>
        </p:grpSpPr>
        <p:grpSp>
          <p:nvGrpSpPr>
            <p:cNvPr id="1129" name="Group 42"/>
            <p:cNvGrpSpPr/>
            <p:nvPr/>
          </p:nvGrpSpPr>
          <p:grpSpPr>
            <a:xfrm>
              <a:off x="4437000" y="2351160"/>
              <a:ext cx="1086840" cy="3638520"/>
              <a:chOff x="4437000" y="2351160"/>
              <a:chExt cx="1086840" cy="3638520"/>
            </a:xfrm>
          </p:grpSpPr>
          <p:grpSp>
            <p:nvGrpSpPr>
              <p:cNvPr id="1130" name="Group 43"/>
              <p:cNvGrpSpPr/>
              <p:nvPr/>
            </p:nvGrpSpPr>
            <p:grpSpPr>
              <a:xfrm>
                <a:off x="4437000" y="2351160"/>
                <a:ext cx="1086840" cy="3638520"/>
                <a:chOff x="4437000" y="2351160"/>
                <a:chExt cx="1086840" cy="3638520"/>
              </a:xfrm>
            </p:grpSpPr>
            <p:sp>
              <p:nvSpPr>
                <p:cNvPr id="1131" name="Freeform 44"/>
                <p:cNvSpPr/>
                <p:nvPr/>
              </p:nvSpPr>
              <p:spPr>
                <a:xfrm>
                  <a:off x="4592520" y="2493720"/>
                  <a:ext cx="63684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32" name="Object 4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37000" y="2351160"/>
                  <a:ext cx="108684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33" name="Text Box 46"/>
              <p:cNvSpPr/>
              <p:nvPr/>
            </p:nvSpPr>
            <p:spPr>
              <a:xfrm rot="16200000">
                <a:off x="3605760" y="4238640"/>
                <a:ext cx="2352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4" name="Text Box 47"/>
            <p:cNvSpPr/>
            <p:nvPr/>
          </p:nvSpPr>
          <p:spPr>
            <a:xfrm>
              <a:off x="4605120" y="2941920"/>
              <a:ext cx="304920" cy="337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Group 48"/>
          <p:cNvGrpSpPr/>
          <p:nvPr/>
        </p:nvGrpSpPr>
        <p:grpSpPr>
          <a:xfrm>
            <a:off x="4932360" y="2351160"/>
            <a:ext cx="1087200" cy="3638520"/>
            <a:chOff x="4932360" y="2351160"/>
            <a:chExt cx="1087200" cy="3638520"/>
          </a:xfrm>
        </p:grpSpPr>
        <p:grpSp>
          <p:nvGrpSpPr>
            <p:cNvPr id="1136" name="Group 49"/>
            <p:cNvGrpSpPr/>
            <p:nvPr/>
          </p:nvGrpSpPr>
          <p:grpSpPr>
            <a:xfrm>
              <a:off x="4932360" y="2351160"/>
              <a:ext cx="1087200" cy="3638520"/>
              <a:chOff x="4932360" y="2351160"/>
              <a:chExt cx="1087200" cy="3638520"/>
            </a:xfrm>
          </p:grpSpPr>
          <p:grpSp>
            <p:nvGrpSpPr>
              <p:cNvPr id="1137" name="Group 50"/>
              <p:cNvGrpSpPr/>
              <p:nvPr/>
            </p:nvGrpSpPr>
            <p:grpSpPr>
              <a:xfrm>
                <a:off x="4932360" y="2351160"/>
                <a:ext cx="1087200" cy="3638520"/>
                <a:chOff x="4932360" y="2351160"/>
                <a:chExt cx="1087200" cy="3638520"/>
              </a:xfrm>
            </p:grpSpPr>
            <p:sp>
              <p:nvSpPr>
                <p:cNvPr id="1138" name="Freeform 51"/>
                <p:cNvSpPr/>
                <p:nvPr/>
              </p:nvSpPr>
              <p:spPr>
                <a:xfrm>
                  <a:off x="5087880" y="2493720"/>
                  <a:ext cx="637200" cy="22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39" name="Object 5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932360" y="2351160"/>
                  <a:ext cx="1087200" cy="363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40" name="Text Box 53"/>
              <p:cNvSpPr/>
              <p:nvPr/>
            </p:nvSpPr>
            <p:spPr>
              <a:xfrm rot="16200000">
                <a:off x="4106160" y="4210200"/>
                <a:ext cx="2352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Lista de Concesiones Arancelaria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Text Box 54"/>
            <p:cNvSpPr/>
            <p:nvPr/>
          </p:nvSpPr>
          <p:spPr>
            <a:xfrm>
              <a:off x="5104080" y="2948040"/>
              <a:ext cx="304560" cy="3373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7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21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2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23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24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25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26" name="Group 9"/>
          <p:cNvGrpSpPr/>
          <p:nvPr/>
        </p:nvGrpSpPr>
        <p:grpSpPr>
          <a:xfrm>
            <a:off x="228600" y="990720"/>
            <a:ext cx="2758680" cy="1313640"/>
            <a:chOff x="228600" y="990720"/>
            <a:chExt cx="2758680" cy="1313640"/>
          </a:xfrm>
        </p:grpSpPr>
        <p:sp>
          <p:nvSpPr>
            <p:cNvPr id="1627" name="Text Box 10"/>
            <p:cNvSpPr/>
            <p:nvPr/>
          </p:nvSpPr>
          <p:spPr>
            <a:xfrm>
              <a:off x="730080" y="990720"/>
              <a:ext cx="2257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de Salvaguardia por dificultades de B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Oval 11"/>
            <p:cNvSpPr/>
            <p:nvPr/>
          </p:nvSpPr>
          <p:spPr>
            <a:xfrm>
              <a:off x="228600" y="1067040"/>
              <a:ext cx="3344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Text Box 12"/>
          <p:cNvSpPr/>
          <p:nvPr/>
        </p:nvSpPr>
        <p:spPr>
          <a:xfrm>
            <a:off x="152280" y="2708280"/>
            <a:ext cx="297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ahoma"/>
              </a:rPr>
              <a:t>En situaciones particulares, medidas normalmente contrarias a los principios básicos de la OMC, están a disposición de los Miembros para superar 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dificultades en su Balanza de Pag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13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520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1" name="Object 14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3" name="Text Box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alvaguard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4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Group 4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638" name="Text Box 5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Integración region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Oval 6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Text Box 7"/>
          <p:cNvSpPr/>
          <p:nvPr/>
        </p:nvSpPr>
        <p:spPr>
          <a:xfrm>
            <a:off x="152280" y="2133720"/>
            <a:ext cx="2971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Las reglas y obligaciones de la OMC no impiden a los Miembros tomar ciertas medidas, de otra manera ilegales, destinadas a la integración económica con otros países compatible con las normas de integración regional de la OM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Freeform 8"/>
          <p:cNvSpPr/>
          <p:nvPr/>
        </p:nvSpPr>
        <p:spPr>
          <a:xfrm>
            <a:off x="3124080" y="3657600"/>
            <a:ext cx="5791320" cy="3048120"/>
          </a:xfrm>
          <a:prstGeom prst="pie">
            <a:avLst/>
          </a:prstGeom>
          <a:solidFill>
            <a:srgbClr val="99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Group 9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43" name="Line 10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4" name="Group 11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45" name="Oval 12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46" name="Object 13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47" name="Object 1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648" name="Text Box 1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Acuerdos Regiona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9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2" name="Group 4"/>
          <p:cNvGrpSpPr/>
          <p:nvPr/>
        </p:nvGrpSpPr>
        <p:grpSpPr>
          <a:xfrm>
            <a:off x="3132000" y="1413000"/>
            <a:ext cx="3429000" cy="2818800"/>
            <a:chOff x="3132000" y="1413000"/>
            <a:chExt cx="3429000" cy="2818800"/>
          </a:xfrm>
        </p:grpSpPr>
        <p:sp>
          <p:nvSpPr>
            <p:cNvPr id="1653" name="Line 5"/>
            <p:cNvSpPr/>
            <p:nvPr/>
          </p:nvSpPr>
          <p:spPr>
            <a:xfrm>
              <a:off x="5189400" y="3012840"/>
              <a:ext cx="1371600" cy="121896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4" name="Group 6"/>
            <p:cNvGrpSpPr/>
            <p:nvPr/>
          </p:nvGrpSpPr>
          <p:grpSpPr>
            <a:xfrm>
              <a:off x="3132000" y="1413000"/>
              <a:ext cx="2362320" cy="2057040"/>
              <a:chOff x="3132000" y="1413000"/>
              <a:chExt cx="2362320" cy="2057040"/>
            </a:xfrm>
          </p:grpSpPr>
          <p:sp>
            <p:nvSpPr>
              <p:cNvPr id="1655" name="Oval 7"/>
              <p:cNvSpPr/>
              <p:nvPr/>
            </p:nvSpPr>
            <p:spPr>
              <a:xfrm>
                <a:off x="3132000" y="1413000"/>
                <a:ext cx="2362320" cy="205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56" name="Object 8"/>
              <p:cNvGraphicFramePr/>
              <p:nvPr/>
            </p:nvGraphicFramePr>
            <p:xfrm>
              <a:off x="3589200" y="1717560"/>
              <a:ext cx="1447920" cy="1385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7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89200" y="1717560"/>
                        <a:ext cx="1447920" cy="138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58" name="Group 9"/>
          <p:cNvGrpSpPr/>
          <p:nvPr/>
        </p:nvGrpSpPr>
        <p:grpSpPr>
          <a:xfrm>
            <a:off x="228600" y="990720"/>
            <a:ext cx="2514600" cy="703800"/>
            <a:chOff x="228600" y="990720"/>
            <a:chExt cx="2514600" cy="703800"/>
          </a:xfrm>
        </p:grpSpPr>
        <p:sp>
          <p:nvSpPr>
            <p:cNvPr id="1659" name="Text Box 10"/>
            <p:cNvSpPr/>
            <p:nvPr/>
          </p:nvSpPr>
          <p:spPr>
            <a:xfrm>
              <a:off x="685800" y="990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antidumpin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11"/>
            <p:cNvSpPr/>
            <p:nvPr/>
          </p:nvSpPr>
          <p:spPr>
            <a:xfrm>
              <a:off x="228600" y="10670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Text Box 12"/>
          <p:cNvSpPr/>
          <p:nvPr/>
        </p:nvSpPr>
        <p:spPr>
          <a:xfrm>
            <a:off x="152280" y="2392200"/>
            <a:ext cx="297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Medidas, en forma de sobretasas arancelarias, están a disposición de los Miembros para defenderse de o compensar las distorsiones creadas por ciertas prácticas comercial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Picture 13" descr=""/>
          <p:cNvPicPr/>
          <p:nvPr/>
        </p:nvPicPr>
        <p:blipFill>
          <a:blip r:embed="rId5"/>
          <a:stretch/>
        </p:blipFill>
        <p:spPr>
          <a:xfrm>
            <a:off x="4572000" y="1197000"/>
            <a:ext cx="1592280" cy="1592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aphicFrame>
        <p:nvGraphicFramePr>
          <p:cNvPr id="1663" name="Object 14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5" name="Picture 15" descr=""/>
          <p:cNvPicPr/>
          <p:nvPr/>
        </p:nvPicPr>
        <p:blipFill>
          <a:blip r:embed="rId8"/>
          <a:stretch/>
        </p:blipFill>
        <p:spPr>
          <a:xfrm>
            <a:off x="7380360" y="4365720"/>
            <a:ext cx="936720" cy="93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66" name="Text Box 1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Medidas anti-dump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7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9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Group 4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671" name="Line 5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2" name="Group 6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673" name="Oval 7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74" name="Object 8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75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676" name="Group 9"/>
          <p:cNvGrpSpPr/>
          <p:nvPr/>
        </p:nvGrpSpPr>
        <p:grpSpPr>
          <a:xfrm>
            <a:off x="108000" y="990720"/>
            <a:ext cx="2808000" cy="1008720"/>
            <a:chOff x="108000" y="990720"/>
            <a:chExt cx="2808000" cy="1008720"/>
          </a:xfrm>
        </p:grpSpPr>
        <p:sp>
          <p:nvSpPr>
            <p:cNvPr id="1677" name="Text Box 10"/>
            <p:cNvSpPr/>
            <p:nvPr/>
          </p:nvSpPr>
          <p:spPr>
            <a:xfrm>
              <a:off x="618480" y="990720"/>
              <a:ext cx="229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Subvenciones y medidas compensatoria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Oval 11"/>
            <p:cNvSpPr/>
            <p:nvPr/>
          </p:nvSpPr>
          <p:spPr>
            <a:xfrm>
              <a:off x="108000" y="1066680"/>
              <a:ext cx="340200" cy="30420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9" name="Text Box 12"/>
          <p:cNvSpPr/>
          <p:nvPr/>
        </p:nvSpPr>
        <p:spPr>
          <a:xfrm>
            <a:off x="152280" y="1905120"/>
            <a:ext cx="297180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0000"/>
                </a:solidFill>
                <a:latin typeface="Tahoma"/>
              </a:rPr>
              <a:t>Algunos subsidios pueden distorsionar el comercio.  Ciertos subsidios están prohibido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0000"/>
                </a:solidFill>
                <a:latin typeface="Tahoma"/>
              </a:rPr>
              <a:t>Otros subsidios están permitidos, pero los Miembros pueden tomar medidas contra sus efectos adverso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0000"/>
                </a:solidFill>
                <a:latin typeface="Tahoma"/>
              </a:rPr>
              <a:t>Tales medidas son acciones directas (solución de diferencias) o sobretasas (medidas compensatorias)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Group 13"/>
          <p:cNvGrpSpPr/>
          <p:nvPr/>
        </p:nvGrpSpPr>
        <p:grpSpPr>
          <a:xfrm>
            <a:off x="3962520" y="1447920"/>
            <a:ext cx="2151000" cy="1066680"/>
            <a:chOff x="3962520" y="1447920"/>
            <a:chExt cx="2151000" cy="1066680"/>
          </a:xfrm>
        </p:grpSpPr>
        <p:sp>
          <p:nvSpPr>
            <p:cNvPr id="1681" name="Freeform 14"/>
            <p:cNvSpPr/>
            <p:nvPr/>
          </p:nvSpPr>
          <p:spPr>
            <a:xfrm>
              <a:off x="3962520" y="1536840"/>
              <a:ext cx="2151000" cy="506160"/>
            </a:xfrm>
            <a:prstGeom prst="pie">
              <a:avLst/>
            </a:prstGeom>
            <a:noFill/>
            <a:ln w="146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2" name="Picture 15" descr=""/>
            <p:cNvPicPr/>
            <p:nvPr/>
          </p:nvPicPr>
          <p:blipFill>
            <a:blip r:embed="rId5"/>
            <a:stretch/>
          </p:blipFill>
          <p:spPr>
            <a:xfrm>
              <a:off x="5030280" y="1447920"/>
              <a:ext cx="934200" cy="1066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683" name="Object 16"/>
          <p:cNvGraphicFramePr/>
          <p:nvPr/>
        </p:nvGraphicFramePr>
        <p:xfrm>
          <a:off x="5486400" y="1371600"/>
          <a:ext cx="1003320" cy="94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4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1371600"/>
                    <a:ext cx="1003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5" name="Picture 17" descr=""/>
          <p:cNvPicPr/>
          <p:nvPr/>
        </p:nvPicPr>
        <p:blipFill>
          <a:blip r:embed="rId8"/>
          <a:stretch/>
        </p:blipFill>
        <p:spPr>
          <a:xfrm>
            <a:off x="3124080" y="1447920"/>
            <a:ext cx="83844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86" name="Line 18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190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Line 19"/>
          <p:cNvSpPr/>
          <p:nvPr/>
        </p:nvSpPr>
        <p:spPr>
          <a:xfrm>
            <a:off x="5562720" y="2362320"/>
            <a:ext cx="1828800" cy="0"/>
          </a:xfrm>
          <a:prstGeom prst="line">
            <a:avLst/>
          </a:prstGeom>
          <a:ln w="190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AutoShape 20"/>
          <p:cNvSpPr/>
          <p:nvPr/>
        </p:nvSpPr>
        <p:spPr>
          <a:xfrm rot="8563200">
            <a:off x="3885840" y="3047760"/>
            <a:ext cx="914400" cy="9903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9" name="Object 21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0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1" name="Text Box 2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ubsidios y medidas compensator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2" name="Object 2"/>
          <p:cNvGraphicFramePr/>
          <p:nvPr/>
        </p:nvGraphicFramePr>
        <p:xfrm>
          <a:off x="228600" y="947880"/>
          <a:ext cx="87501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47880"/>
                    <a:ext cx="87501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Rectangle 3"/>
          <p:cNvSpPr/>
          <p:nvPr/>
        </p:nvSpPr>
        <p:spPr>
          <a:xfrm>
            <a:off x="0" y="838080"/>
            <a:ext cx="31240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5" name="Group 4"/>
          <p:cNvGrpSpPr/>
          <p:nvPr/>
        </p:nvGrpSpPr>
        <p:grpSpPr>
          <a:xfrm>
            <a:off x="228600" y="990720"/>
            <a:ext cx="2758680" cy="1008720"/>
            <a:chOff x="228600" y="990720"/>
            <a:chExt cx="2758680" cy="1008720"/>
          </a:xfrm>
        </p:grpSpPr>
        <p:sp>
          <p:nvSpPr>
            <p:cNvPr id="1696" name="Text Box 5"/>
            <p:cNvSpPr/>
            <p:nvPr/>
          </p:nvSpPr>
          <p:spPr>
            <a:xfrm>
              <a:off x="730080" y="990720"/>
              <a:ext cx="225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ahoma"/>
                </a:rPr>
                <a:t>Medidas compensatorias (anti-subsidios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Oval 6"/>
            <p:cNvSpPr/>
            <p:nvPr/>
          </p:nvSpPr>
          <p:spPr>
            <a:xfrm>
              <a:off x="228600" y="1066680"/>
              <a:ext cx="334440" cy="30420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8" name="Text Box 7"/>
          <p:cNvSpPr/>
          <p:nvPr/>
        </p:nvSpPr>
        <p:spPr>
          <a:xfrm>
            <a:off x="152280" y="2514600"/>
            <a:ext cx="297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ahoma"/>
              </a:rPr>
              <a:t>Medidas, en forma de sobretasas, están a disposición de los Miembros para defenderse o compensar las distorsiones por la importación de productos subsidiad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Group 8"/>
          <p:cNvGrpSpPr/>
          <p:nvPr/>
        </p:nvGrpSpPr>
        <p:grpSpPr>
          <a:xfrm>
            <a:off x="3352680" y="1371600"/>
            <a:ext cx="3429000" cy="2819520"/>
            <a:chOff x="3352680" y="1371600"/>
            <a:chExt cx="3429000" cy="2819520"/>
          </a:xfrm>
        </p:grpSpPr>
        <p:sp>
          <p:nvSpPr>
            <p:cNvPr id="1700" name="Line 9"/>
            <p:cNvSpPr/>
            <p:nvPr/>
          </p:nvSpPr>
          <p:spPr>
            <a:xfrm>
              <a:off x="5410080" y="2971800"/>
              <a:ext cx="1371600" cy="121932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Group 10"/>
            <p:cNvGrpSpPr/>
            <p:nvPr/>
          </p:nvGrpSpPr>
          <p:grpSpPr>
            <a:xfrm>
              <a:off x="3352680" y="1371600"/>
              <a:ext cx="2362320" cy="2057400"/>
              <a:chOff x="3352680" y="1371600"/>
              <a:chExt cx="2362320" cy="2057400"/>
            </a:xfrm>
          </p:grpSpPr>
          <p:sp>
            <p:nvSpPr>
              <p:cNvPr id="1702" name="Oval 11"/>
              <p:cNvSpPr/>
              <p:nvPr/>
            </p:nvSpPr>
            <p:spPr>
              <a:xfrm>
                <a:off x="3352680" y="1371600"/>
                <a:ext cx="2362320" cy="2057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03" name="Object 12"/>
              <p:cNvGraphicFramePr/>
              <p:nvPr/>
            </p:nvGraphicFramePr>
            <p:xfrm>
              <a:off x="3809880" y="1676520"/>
              <a:ext cx="1447920" cy="1385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04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9880" y="1676520"/>
                        <a:ext cx="1447920" cy="138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705" name="Group 13"/>
          <p:cNvGrpSpPr/>
          <p:nvPr/>
        </p:nvGrpSpPr>
        <p:grpSpPr>
          <a:xfrm>
            <a:off x="3962520" y="1447920"/>
            <a:ext cx="2151000" cy="1066680"/>
            <a:chOff x="3962520" y="1447920"/>
            <a:chExt cx="2151000" cy="1066680"/>
          </a:xfrm>
        </p:grpSpPr>
        <p:sp>
          <p:nvSpPr>
            <p:cNvPr id="1706" name="Freeform 14"/>
            <p:cNvSpPr/>
            <p:nvPr/>
          </p:nvSpPr>
          <p:spPr>
            <a:xfrm>
              <a:off x="3962520" y="1536840"/>
              <a:ext cx="2151000" cy="506160"/>
            </a:xfrm>
            <a:prstGeom prst="pie">
              <a:avLst/>
            </a:prstGeom>
            <a:noFill/>
            <a:ln w="146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7" name="Picture 15" descr=""/>
            <p:cNvPicPr/>
            <p:nvPr/>
          </p:nvPicPr>
          <p:blipFill>
            <a:blip r:embed="rId5"/>
            <a:stretch/>
          </p:blipFill>
          <p:spPr>
            <a:xfrm>
              <a:off x="5030280" y="1447920"/>
              <a:ext cx="93420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8" name="Picture 16" descr=""/>
          <p:cNvPicPr/>
          <p:nvPr/>
        </p:nvPicPr>
        <p:blipFill>
          <a:blip r:embed="rId6"/>
          <a:stretch/>
        </p:blipFill>
        <p:spPr>
          <a:xfrm>
            <a:off x="3124080" y="1447920"/>
            <a:ext cx="83844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09" name="Line 17"/>
          <p:cNvSpPr/>
          <p:nvPr/>
        </p:nvSpPr>
        <p:spPr>
          <a:xfrm>
            <a:off x="5410080" y="2971800"/>
            <a:ext cx="1371600" cy="1219320"/>
          </a:xfrm>
          <a:prstGeom prst="line">
            <a:avLst/>
          </a:prstGeom>
          <a:ln w="190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0" name="Object 18"/>
          <p:cNvGraphicFramePr/>
          <p:nvPr/>
        </p:nvGraphicFramePr>
        <p:xfrm>
          <a:off x="5486400" y="1371600"/>
          <a:ext cx="100332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371600"/>
                    <a:ext cx="1003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2" name="Object 19"/>
          <p:cNvGraphicFramePr/>
          <p:nvPr/>
        </p:nvGraphicFramePr>
        <p:xfrm>
          <a:off x="6172200" y="3657600"/>
          <a:ext cx="106668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3657600"/>
                    <a:ext cx="10666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4" name="Text Box 2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ubsidios y medidas compensator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Text Box 9"/>
          <p:cNvSpPr/>
          <p:nvPr/>
        </p:nvSpPr>
        <p:spPr>
          <a:xfrm>
            <a:off x="611280" y="2133720"/>
            <a:ext cx="82087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spectos Procedimentale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canismo de solución de diferenci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Transparenc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7" name="Group 4"/>
          <p:cNvGrpSpPr/>
          <p:nvPr/>
        </p:nvGrpSpPr>
        <p:grpSpPr>
          <a:xfrm>
            <a:off x="1042920" y="2060640"/>
            <a:ext cx="7632360" cy="1747440"/>
            <a:chOff x="1042920" y="2060640"/>
            <a:chExt cx="7632360" cy="1747440"/>
          </a:xfrm>
        </p:grpSpPr>
        <p:sp>
          <p:nvSpPr>
            <p:cNvPr id="1718" name="Text Box 5"/>
            <p:cNvSpPr/>
            <p:nvPr/>
          </p:nvSpPr>
          <p:spPr>
            <a:xfrm>
              <a:off x="1535040" y="2060640"/>
              <a:ext cx="714024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Publicación de normas comerciale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(Leyes, reglamentos, decisiones judiciales  y diposiciones administrativas de aplicación general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Oval 6"/>
            <p:cNvSpPr/>
            <p:nvPr/>
          </p:nvSpPr>
          <p:spPr>
            <a:xfrm>
              <a:off x="1042920" y="2136960"/>
              <a:ext cx="3283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Group 7"/>
          <p:cNvGrpSpPr/>
          <p:nvPr/>
        </p:nvGrpSpPr>
        <p:grpSpPr>
          <a:xfrm>
            <a:off x="1044720" y="3705120"/>
            <a:ext cx="7487640" cy="459720"/>
            <a:chOff x="1044720" y="3705120"/>
            <a:chExt cx="7487640" cy="459720"/>
          </a:xfrm>
        </p:grpSpPr>
        <p:sp>
          <p:nvSpPr>
            <p:cNvPr id="1721" name="Text Box 8"/>
            <p:cNvSpPr/>
            <p:nvPr/>
          </p:nvSpPr>
          <p:spPr>
            <a:xfrm>
              <a:off x="1527480" y="3705120"/>
              <a:ext cx="70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Obligaciones de notificació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Oval 9"/>
            <p:cNvSpPr/>
            <p:nvPr/>
          </p:nvSpPr>
          <p:spPr>
            <a:xfrm>
              <a:off x="1044720" y="3781440"/>
              <a:ext cx="321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Group 10"/>
          <p:cNvGrpSpPr/>
          <p:nvPr/>
        </p:nvGrpSpPr>
        <p:grpSpPr>
          <a:xfrm>
            <a:off x="1044720" y="4930920"/>
            <a:ext cx="7086600" cy="459720"/>
            <a:chOff x="1044720" y="4930920"/>
            <a:chExt cx="7086600" cy="459720"/>
          </a:xfrm>
        </p:grpSpPr>
        <p:sp>
          <p:nvSpPr>
            <p:cNvPr id="1724" name="Text Box 11"/>
            <p:cNvSpPr/>
            <p:nvPr/>
          </p:nvSpPr>
          <p:spPr>
            <a:xfrm>
              <a:off x="1501920" y="493092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Revisión jurídica independient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Oval 12"/>
            <p:cNvSpPr/>
            <p:nvPr/>
          </p:nvSpPr>
          <p:spPr>
            <a:xfrm>
              <a:off x="1044720" y="50072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6" name="Text Box 13"/>
          <p:cNvSpPr/>
          <p:nvPr/>
        </p:nvSpPr>
        <p:spPr>
          <a:xfrm>
            <a:off x="1476360" y="1100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rt. X GATT, Art. III AG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Group 14"/>
          <p:cNvGrpSpPr/>
          <p:nvPr/>
        </p:nvGrpSpPr>
        <p:grpSpPr>
          <a:xfrm>
            <a:off x="1044720" y="4309920"/>
            <a:ext cx="7487640" cy="459720"/>
            <a:chOff x="1044720" y="4309920"/>
            <a:chExt cx="7487640" cy="459720"/>
          </a:xfrm>
        </p:grpSpPr>
        <p:sp>
          <p:nvSpPr>
            <p:cNvPr id="1728" name="Text Box 15"/>
            <p:cNvSpPr/>
            <p:nvPr/>
          </p:nvSpPr>
          <p:spPr>
            <a:xfrm>
              <a:off x="1527480" y="4309920"/>
              <a:ext cx="70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Administración uniforme, imparcial y razonabl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Oval 16"/>
            <p:cNvSpPr/>
            <p:nvPr/>
          </p:nvSpPr>
          <p:spPr>
            <a:xfrm>
              <a:off x="1044720" y="4386240"/>
              <a:ext cx="321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Group 17"/>
          <p:cNvGrpSpPr/>
          <p:nvPr/>
        </p:nvGrpSpPr>
        <p:grpSpPr>
          <a:xfrm>
            <a:off x="1044720" y="5492880"/>
            <a:ext cx="7487640" cy="825480"/>
            <a:chOff x="1044720" y="5492880"/>
            <a:chExt cx="7487640" cy="825480"/>
          </a:xfrm>
        </p:grpSpPr>
        <p:sp>
          <p:nvSpPr>
            <p:cNvPr id="1731" name="Text Box 18"/>
            <p:cNvSpPr/>
            <p:nvPr/>
          </p:nvSpPr>
          <p:spPr>
            <a:xfrm>
              <a:off x="1527480" y="5492880"/>
              <a:ext cx="700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Tahoma"/>
                </a:rPr>
                <a:t>Mecanismo de examen de las políticas comerciale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Oval 19"/>
            <p:cNvSpPr/>
            <p:nvPr/>
          </p:nvSpPr>
          <p:spPr>
            <a:xfrm>
              <a:off x="1044720" y="5569200"/>
              <a:ext cx="321840" cy="304560"/>
            </a:xfrm>
            <a:prstGeom prst="ellipse">
              <a:avLst/>
            </a:prstGeom>
            <a:gradFill rotWithShape="0">
              <a:gsLst>
                <a:gs pos="0">
                  <a:srgbClr val="1d398f"/>
                </a:gs>
                <a:gs pos="100000">
                  <a:srgbClr val="3366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 txBox="1"/>
          <p:nvPr/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unciones del sistema de solución de diferencias (Art. 3.2 ES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servar los derechos y obligaciones de los Miemb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 el marco de los acuerdos abarcados y...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clarar las disposiciones vigen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dichos acuerdos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e conformidad con las normas usuales de interpretació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l derecho internacional público. 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b2b2b2"/>
                </a:solidFill>
                <a:latin typeface="Arial"/>
              </a:rPr>
              <a:t>Solución de Diferencias en la OM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200" spc="-1" strike="noStrike">
                <a:solidFill>
                  <a:srgbClr val="000000"/>
                </a:solidFill>
                <a:latin typeface="Times New Roman"/>
              </a:rPr>
              <a:t>dolopez@uchile.c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2743200" y="3171960"/>
            <a:ext cx="6400080" cy="1339560"/>
            <a:chOff x="2743200" y="3171960"/>
            <a:chExt cx="6400080" cy="1339560"/>
          </a:xfrm>
        </p:grpSpPr>
        <p:sp>
          <p:nvSpPr>
            <p:cNvPr id="1143" name="Text Box 3"/>
            <p:cNvSpPr/>
            <p:nvPr/>
          </p:nvSpPr>
          <p:spPr>
            <a:xfrm>
              <a:off x="2743200" y="3171960"/>
              <a:ext cx="63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8080"/>
                  </a:solidFill>
                  <a:latin typeface="Arial Narrow"/>
                </a:rPr>
                <a:t>REGLAS (Acuerdos Jurídicos) – Decisiones PPC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4" name="Group 4"/>
            <p:cNvGrpSpPr/>
            <p:nvPr/>
          </p:nvGrpSpPr>
          <p:grpSpPr>
            <a:xfrm>
              <a:off x="3563640" y="3462120"/>
              <a:ext cx="5579640" cy="368280"/>
              <a:chOff x="3563640" y="3462120"/>
              <a:chExt cx="5579640" cy="368280"/>
            </a:xfrm>
          </p:grpSpPr>
          <p:sp>
            <p:nvSpPr>
              <p:cNvPr id="1145" name="Text Box 5"/>
              <p:cNvSpPr/>
              <p:nvPr/>
            </p:nvSpPr>
            <p:spPr>
              <a:xfrm>
                <a:off x="3741480" y="346212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“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Cláusula de Habilitación”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Oval 6"/>
              <p:cNvSpPr/>
              <p:nvPr/>
            </p:nvSpPr>
            <p:spPr>
              <a:xfrm>
                <a:off x="3563640" y="360000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Group 7"/>
            <p:cNvGrpSpPr/>
            <p:nvPr/>
          </p:nvGrpSpPr>
          <p:grpSpPr>
            <a:xfrm>
              <a:off x="3563640" y="3701880"/>
              <a:ext cx="5579640" cy="368280"/>
              <a:chOff x="3563640" y="3701880"/>
              <a:chExt cx="5579640" cy="368280"/>
            </a:xfrm>
          </p:grpSpPr>
          <p:sp>
            <p:nvSpPr>
              <p:cNvPr id="1148" name="Text Box 8"/>
              <p:cNvSpPr/>
              <p:nvPr/>
            </p:nvSpPr>
            <p:spPr>
              <a:xfrm>
                <a:off x="3741480" y="370188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Declaración sobre medidas de BdP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 Narrow"/>
                  </a:rPr>
                  <a:t>(Art. XII, XVIII)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Oval 9"/>
              <p:cNvSpPr/>
              <p:nvPr/>
            </p:nvSpPr>
            <p:spPr>
              <a:xfrm>
                <a:off x="3563640" y="383976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Group 10"/>
            <p:cNvGrpSpPr/>
            <p:nvPr/>
          </p:nvGrpSpPr>
          <p:grpSpPr>
            <a:xfrm>
              <a:off x="3563640" y="3930480"/>
              <a:ext cx="5579640" cy="368280"/>
              <a:chOff x="3563640" y="3930480"/>
              <a:chExt cx="5579640" cy="368280"/>
            </a:xfrm>
          </p:grpSpPr>
          <p:sp>
            <p:nvSpPr>
              <p:cNvPr id="1151" name="Text Box 11"/>
              <p:cNvSpPr/>
              <p:nvPr/>
            </p:nvSpPr>
            <p:spPr>
              <a:xfrm>
                <a:off x="3741480" y="393048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Salvaguardias para objetivos de desarrollo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 Narrow"/>
                  </a:rPr>
                  <a:t>(XVIII)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Oval 12"/>
              <p:cNvSpPr/>
              <p:nvPr/>
            </p:nvSpPr>
            <p:spPr>
              <a:xfrm>
                <a:off x="3563640" y="406836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Group 13"/>
            <p:cNvGrpSpPr/>
            <p:nvPr/>
          </p:nvGrpSpPr>
          <p:grpSpPr>
            <a:xfrm>
              <a:off x="3563640" y="4143240"/>
              <a:ext cx="5579640" cy="368280"/>
              <a:chOff x="3563640" y="4143240"/>
              <a:chExt cx="5579640" cy="368280"/>
            </a:xfrm>
          </p:grpSpPr>
          <p:sp>
            <p:nvSpPr>
              <p:cNvPr id="1154" name="Text Box 14"/>
              <p:cNvSpPr/>
              <p:nvPr/>
            </p:nvSpPr>
            <p:spPr>
              <a:xfrm>
                <a:off x="3741480" y="4143240"/>
                <a:ext cx="540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Memorandum sobre Solución de Diferencias (Art. XXII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Oval 15"/>
              <p:cNvSpPr/>
              <p:nvPr/>
            </p:nvSpPr>
            <p:spPr>
              <a:xfrm>
                <a:off x="3563640" y="4281120"/>
                <a:ext cx="11880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Group 16"/>
          <p:cNvGrpSpPr/>
          <p:nvPr/>
        </p:nvGrpSpPr>
        <p:grpSpPr>
          <a:xfrm>
            <a:off x="1752480" y="4815000"/>
            <a:ext cx="5867280" cy="1816200"/>
            <a:chOff x="1752480" y="4815000"/>
            <a:chExt cx="5867280" cy="1816200"/>
          </a:xfrm>
        </p:grpSpPr>
        <p:sp>
          <p:nvSpPr>
            <p:cNvPr id="1157" name="Text Box 17"/>
            <p:cNvSpPr/>
            <p:nvPr/>
          </p:nvSpPr>
          <p:spPr>
            <a:xfrm>
              <a:off x="1752480" y="4815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8080"/>
                  </a:solidFill>
                  <a:latin typeface="Arial Narrow"/>
                </a:rPr>
                <a:t>Acuerdos Plurilaterales (CODIGOS DE TOKIO)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Group 18"/>
            <p:cNvGrpSpPr/>
            <p:nvPr/>
          </p:nvGrpSpPr>
          <p:grpSpPr>
            <a:xfrm>
              <a:off x="1904760" y="5119920"/>
              <a:ext cx="5181480" cy="368280"/>
              <a:chOff x="1904760" y="5119920"/>
              <a:chExt cx="5181480" cy="368280"/>
            </a:xfrm>
          </p:grpSpPr>
          <p:sp>
            <p:nvSpPr>
              <p:cNvPr id="1159" name="Text Box 19"/>
              <p:cNvSpPr/>
              <p:nvPr/>
            </p:nvSpPr>
            <p:spPr>
              <a:xfrm>
                <a:off x="2070000" y="51199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Obstáculos Técnicos al Comercio (TBT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Oval 20"/>
              <p:cNvSpPr/>
              <p:nvPr/>
            </p:nvSpPr>
            <p:spPr>
              <a:xfrm>
                <a:off x="1904760" y="52578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Group 21"/>
            <p:cNvGrpSpPr/>
            <p:nvPr/>
          </p:nvGrpSpPr>
          <p:grpSpPr>
            <a:xfrm>
              <a:off x="1904760" y="5348520"/>
              <a:ext cx="5181480" cy="368280"/>
              <a:chOff x="1904760" y="5348520"/>
              <a:chExt cx="5181480" cy="368280"/>
            </a:xfrm>
          </p:grpSpPr>
          <p:sp>
            <p:nvSpPr>
              <p:cNvPr id="1162" name="Text Box 22"/>
              <p:cNvSpPr/>
              <p:nvPr/>
            </p:nvSpPr>
            <p:spPr>
              <a:xfrm>
                <a:off x="2070000" y="53485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Contratación Públic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Oval 23"/>
              <p:cNvSpPr/>
              <p:nvPr/>
            </p:nvSpPr>
            <p:spPr>
              <a:xfrm>
                <a:off x="1904760" y="54864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Group 24"/>
            <p:cNvGrpSpPr/>
            <p:nvPr/>
          </p:nvGrpSpPr>
          <p:grpSpPr>
            <a:xfrm>
              <a:off x="1904760" y="5577120"/>
              <a:ext cx="5181480" cy="368280"/>
              <a:chOff x="1904760" y="5577120"/>
              <a:chExt cx="5181480" cy="368280"/>
            </a:xfrm>
          </p:grpSpPr>
          <p:sp>
            <p:nvSpPr>
              <p:cNvPr id="1165" name="Text Box 25"/>
              <p:cNvSpPr/>
              <p:nvPr/>
            </p:nvSpPr>
            <p:spPr>
              <a:xfrm>
                <a:off x="2070000" y="55771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Subvenciones (Art. VI, XVI, XXII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Oval 26"/>
              <p:cNvSpPr/>
              <p:nvPr/>
            </p:nvSpPr>
            <p:spPr>
              <a:xfrm>
                <a:off x="1904760" y="57150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27"/>
            <p:cNvGrpSpPr/>
            <p:nvPr/>
          </p:nvGrpSpPr>
          <p:grpSpPr>
            <a:xfrm>
              <a:off x="1904760" y="5805720"/>
              <a:ext cx="5181480" cy="368280"/>
              <a:chOff x="1904760" y="5805720"/>
              <a:chExt cx="5181480" cy="368280"/>
            </a:xfrm>
          </p:grpSpPr>
          <p:sp>
            <p:nvSpPr>
              <p:cNvPr id="1168" name="Text Box 28"/>
              <p:cNvSpPr/>
              <p:nvPr/>
            </p:nvSpPr>
            <p:spPr>
              <a:xfrm>
                <a:off x="2070000" y="58057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Valoración en Aduana (Art. VI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Oval 29"/>
              <p:cNvSpPr/>
              <p:nvPr/>
            </p:nvSpPr>
            <p:spPr>
              <a:xfrm>
                <a:off x="1904760" y="59436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Group 30"/>
            <p:cNvGrpSpPr/>
            <p:nvPr/>
          </p:nvGrpSpPr>
          <p:grpSpPr>
            <a:xfrm>
              <a:off x="1904760" y="6034320"/>
              <a:ext cx="5181480" cy="368280"/>
              <a:chOff x="1904760" y="6034320"/>
              <a:chExt cx="5181480" cy="368280"/>
            </a:xfrm>
          </p:grpSpPr>
          <p:sp>
            <p:nvSpPr>
              <p:cNvPr id="1171" name="Text Box 31"/>
              <p:cNvSpPr/>
              <p:nvPr/>
            </p:nvSpPr>
            <p:spPr>
              <a:xfrm>
                <a:off x="2070000" y="60343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rámite de licencias de importación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Oval 32"/>
              <p:cNvSpPr/>
              <p:nvPr/>
            </p:nvSpPr>
            <p:spPr>
              <a:xfrm>
                <a:off x="1904760" y="61722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Group 33"/>
            <p:cNvGrpSpPr/>
            <p:nvPr/>
          </p:nvGrpSpPr>
          <p:grpSpPr>
            <a:xfrm>
              <a:off x="1904760" y="6262920"/>
              <a:ext cx="5181480" cy="368280"/>
              <a:chOff x="1904760" y="6262920"/>
              <a:chExt cx="5181480" cy="368280"/>
            </a:xfrm>
          </p:grpSpPr>
          <p:sp>
            <p:nvSpPr>
              <p:cNvPr id="1174" name="Text Box 34"/>
              <p:cNvSpPr/>
              <p:nvPr/>
            </p:nvSpPr>
            <p:spPr>
              <a:xfrm>
                <a:off x="2070000" y="6262920"/>
                <a:ext cx="501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Antidumping (Art. VI)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Oval 35"/>
              <p:cNvSpPr/>
              <p:nvPr/>
            </p:nvSpPr>
            <p:spPr>
              <a:xfrm>
                <a:off x="1904760" y="640080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6" name="Group 36"/>
          <p:cNvGrpSpPr/>
          <p:nvPr/>
        </p:nvGrpSpPr>
        <p:grpSpPr>
          <a:xfrm>
            <a:off x="6012000" y="5184720"/>
            <a:ext cx="5867280" cy="1141200"/>
            <a:chOff x="6012000" y="5184720"/>
            <a:chExt cx="5867280" cy="1141200"/>
          </a:xfrm>
        </p:grpSpPr>
        <p:sp>
          <p:nvSpPr>
            <p:cNvPr id="1177" name="Text Box 37"/>
            <p:cNvSpPr/>
            <p:nvPr/>
          </p:nvSpPr>
          <p:spPr>
            <a:xfrm>
              <a:off x="6012000" y="518472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8080"/>
                  </a:solidFill>
                  <a:latin typeface="Arial Narrow"/>
                </a:rPr>
                <a:t>Acuerdos Sectoriales (pluril.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Group 38"/>
            <p:cNvGrpSpPr/>
            <p:nvPr/>
          </p:nvGrpSpPr>
          <p:grpSpPr>
            <a:xfrm>
              <a:off x="6164280" y="5500440"/>
              <a:ext cx="5180760" cy="368280"/>
              <a:chOff x="6164280" y="5500440"/>
              <a:chExt cx="5180760" cy="368280"/>
            </a:xfrm>
          </p:grpSpPr>
          <p:sp>
            <p:nvSpPr>
              <p:cNvPr id="1179" name="Text Box 39"/>
              <p:cNvSpPr/>
              <p:nvPr/>
            </p:nvSpPr>
            <p:spPr>
              <a:xfrm>
                <a:off x="6329520" y="5500440"/>
                <a:ext cx="501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Carne Bovin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Oval 40"/>
              <p:cNvSpPr/>
              <p:nvPr/>
            </p:nvSpPr>
            <p:spPr>
              <a:xfrm>
                <a:off x="6164280" y="563832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41"/>
            <p:cNvGrpSpPr/>
            <p:nvPr/>
          </p:nvGrpSpPr>
          <p:grpSpPr>
            <a:xfrm>
              <a:off x="6164280" y="5729040"/>
              <a:ext cx="5180760" cy="368280"/>
              <a:chOff x="6164280" y="5729040"/>
              <a:chExt cx="5180760" cy="368280"/>
            </a:xfrm>
          </p:grpSpPr>
          <p:sp>
            <p:nvSpPr>
              <p:cNvPr id="1182" name="Text Box 42"/>
              <p:cNvSpPr/>
              <p:nvPr/>
            </p:nvSpPr>
            <p:spPr>
              <a:xfrm>
                <a:off x="6329520" y="5729040"/>
                <a:ext cx="501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Productos Lácteo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Oval 43"/>
              <p:cNvSpPr/>
              <p:nvPr/>
            </p:nvSpPr>
            <p:spPr>
              <a:xfrm>
                <a:off x="6164280" y="586692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Group 44"/>
            <p:cNvGrpSpPr/>
            <p:nvPr/>
          </p:nvGrpSpPr>
          <p:grpSpPr>
            <a:xfrm>
              <a:off x="6164280" y="5957640"/>
              <a:ext cx="5180760" cy="368280"/>
              <a:chOff x="6164280" y="5957640"/>
              <a:chExt cx="5180760" cy="368280"/>
            </a:xfrm>
          </p:grpSpPr>
          <p:sp>
            <p:nvSpPr>
              <p:cNvPr id="1185" name="Text Box 45"/>
              <p:cNvSpPr/>
              <p:nvPr/>
            </p:nvSpPr>
            <p:spPr>
              <a:xfrm>
                <a:off x="6329520" y="5957640"/>
                <a:ext cx="501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Aeronaves civile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Oval 46"/>
              <p:cNvSpPr/>
              <p:nvPr/>
            </p:nvSpPr>
            <p:spPr>
              <a:xfrm>
                <a:off x="6164280" y="6095520"/>
                <a:ext cx="110160" cy="15264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2700000"/>
              </a:gradFill>
              <a:ln w="0">
                <a:noFill/>
              </a:ln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Group 47"/>
          <p:cNvGrpSpPr/>
          <p:nvPr/>
        </p:nvGrpSpPr>
        <p:grpSpPr>
          <a:xfrm>
            <a:off x="76320" y="2449440"/>
            <a:ext cx="952560" cy="3962160"/>
            <a:chOff x="76320" y="2449440"/>
            <a:chExt cx="952560" cy="3962160"/>
          </a:xfrm>
        </p:grpSpPr>
        <p:grpSp>
          <p:nvGrpSpPr>
            <p:cNvPr id="1188" name="Group 48"/>
            <p:cNvGrpSpPr/>
            <p:nvPr/>
          </p:nvGrpSpPr>
          <p:grpSpPr>
            <a:xfrm>
              <a:off x="76320" y="2449440"/>
              <a:ext cx="952560" cy="3962160"/>
              <a:chOff x="76320" y="2449440"/>
              <a:chExt cx="952560" cy="3962160"/>
            </a:xfrm>
          </p:grpSpPr>
          <p:sp>
            <p:nvSpPr>
              <p:cNvPr id="1189" name="Freeform 49"/>
              <p:cNvSpPr/>
              <p:nvPr/>
            </p:nvSpPr>
            <p:spPr>
              <a:xfrm>
                <a:off x="152640" y="2678040"/>
                <a:ext cx="80460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90" name="Object 50"/>
              <p:cNvGraphicFramePr/>
              <p:nvPr/>
            </p:nvGraphicFramePr>
            <p:xfrm>
              <a:off x="76320" y="2449440"/>
              <a:ext cx="952560" cy="3962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91" name="Object 5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320" y="2449440"/>
                        <a:ext cx="95256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92" name="Text Box 51"/>
            <p:cNvSpPr/>
            <p:nvPr/>
          </p:nvSpPr>
          <p:spPr>
            <a:xfrm rot="16200000">
              <a:off x="-857160" y="450036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GATT 194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Group 52"/>
          <p:cNvGrpSpPr/>
          <p:nvPr/>
        </p:nvGrpSpPr>
        <p:grpSpPr>
          <a:xfrm>
            <a:off x="1295280" y="1157400"/>
            <a:ext cx="7848720" cy="398880"/>
            <a:chOff x="1295280" y="1157400"/>
            <a:chExt cx="7848720" cy="398880"/>
          </a:xfrm>
        </p:grpSpPr>
        <p:sp>
          <p:nvSpPr>
            <p:cNvPr id="1194" name="Text Box 53"/>
            <p:cNvSpPr/>
            <p:nvPr/>
          </p:nvSpPr>
          <p:spPr>
            <a:xfrm>
              <a:off x="3200400" y="115740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Annecy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Text Box 54"/>
            <p:cNvSpPr/>
            <p:nvPr/>
          </p:nvSpPr>
          <p:spPr>
            <a:xfrm>
              <a:off x="1295280" y="115740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4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Group 55"/>
          <p:cNvGrpSpPr/>
          <p:nvPr/>
        </p:nvGrpSpPr>
        <p:grpSpPr>
          <a:xfrm>
            <a:off x="1295280" y="1461960"/>
            <a:ext cx="7848720" cy="398880"/>
            <a:chOff x="1295280" y="1461960"/>
            <a:chExt cx="7848720" cy="398880"/>
          </a:xfrm>
        </p:grpSpPr>
        <p:sp>
          <p:nvSpPr>
            <p:cNvPr id="1197" name="Text Box 56"/>
            <p:cNvSpPr/>
            <p:nvPr/>
          </p:nvSpPr>
          <p:spPr>
            <a:xfrm>
              <a:off x="3200400" y="146196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Torquay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Text Box 57"/>
            <p:cNvSpPr/>
            <p:nvPr/>
          </p:nvSpPr>
          <p:spPr>
            <a:xfrm>
              <a:off x="1295280" y="146196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5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Group 58"/>
          <p:cNvGrpSpPr/>
          <p:nvPr/>
        </p:nvGrpSpPr>
        <p:grpSpPr>
          <a:xfrm>
            <a:off x="1295280" y="1785960"/>
            <a:ext cx="7848720" cy="398880"/>
            <a:chOff x="1295280" y="1785960"/>
            <a:chExt cx="7848720" cy="398880"/>
          </a:xfrm>
        </p:grpSpPr>
        <p:sp>
          <p:nvSpPr>
            <p:cNvPr id="1200" name="Text Box 59"/>
            <p:cNvSpPr/>
            <p:nvPr/>
          </p:nvSpPr>
          <p:spPr>
            <a:xfrm>
              <a:off x="3200400" y="178596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Ginebra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Text Box 60"/>
            <p:cNvSpPr/>
            <p:nvPr/>
          </p:nvSpPr>
          <p:spPr>
            <a:xfrm>
              <a:off x="1295280" y="178596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Group 61"/>
          <p:cNvGrpSpPr/>
          <p:nvPr/>
        </p:nvGrpSpPr>
        <p:grpSpPr>
          <a:xfrm>
            <a:off x="1295280" y="2090880"/>
            <a:ext cx="7848720" cy="401760"/>
            <a:chOff x="1295280" y="2090880"/>
            <a:chExt cx="7848720" cy="401760"/>
          </a:xfrm>
        </p:grpSpPr>
        <p:sp>
          <p:nvSpPr>
            <p:cNvPr id="1203" name="Text Box 62"/>
            <p:cNvSpPr/>
            <p:nvPr/>
          </p:nvSpPr>
          <p:spPr>
            <a:xfrm>
              <a:off x="3200400" y="212436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Dillon” - Gineb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Text Box 63"/>
            <p:cNvSpPr/>
            <p:nvPr/>
          </p:nvSpPr>
          <p:spPr>
            <a:xfrm>
              <a:off x="1295280" y="209088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60-6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Group 64"/>
          <p:cNvGrpSpPr/>
          <p:nvPr/>
        </p:nvGrpSpPr>
        <p:grpSpPr>
          <a:xfrm>
            <a:off x="1295280" y="2395440"/>
            <a:ext cx="7848720" cy="401760"/>
            <a:chOff x="1295280" y="2395440"/>
            <a:chExt cx="7848720" cy="401760"/>
          </a:xfrm>
        </p:grpSpPr>
        <p:sp>
          <p:nvSpPr>
            <p:cNvPr id="1206" name="Text Box 65"/>
            <p:cNvSpPr/>
            <p:nvPr/>
          </p:nvSpPr>
          <p:spPr>
            <a:xfrm>
              <a:off x="3200400" y="242892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Kennedy” - Gineb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66"/>
            <p:cNvSpPr/>
            <p:nvPr/>
          </p:nvSpPr>
          <p:spPr>
            <a:xfrm>
              <a:off x="1295280" y="239544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64-6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Text Box 67"/>
          <p:cNvSpPr/>
          <p:nvPr/>
        </p:nvSpPr>
        <p:spPr>
          <a:xfrm>
            <a:off x="3276720" y="77616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00000"/>
                </a:solidFill>
                <a:latin typeface="Arial Narrow"/>
              </a:rPr>
              <a:t>Entrada en vigor del GATT (aplicación provisiona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68"/>
          <p:cNvSpPr/>
          <p:nvPr/>
        </p:nvSpPr>
        <p:spPr>
          <a:xfrm>
            <a:off x="1295280" y="776160"/>
            <a:ext cx="1905120" cy="39888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1 Enero 194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69"/>
          <p:cNvSpPr/>
          <p:nvPr/>
        </p:nvSpPr>
        <p:spPr>
          <a:xfrm>
            <a:off x="7380360" y="1160640"/>
            <a:ext cx="16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70"/>
          <p:cNvSpPr/>
          <p:nvPr/>
        </p:nvSpPr>
        <p:spPr>
          <a:xfrm>
            <a:off x="7596360" y="149544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7596360" y="180036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72"/>
          <p:cNvSpPr/>
          <p:nvPr/>
        </p:nvSpPr>
        <p:spPr>
          <a:xfrm>
            <a:off x="7451640" y="209088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3"/>
          <p:cNvSpPr/>
          <p:nvPr/>
        </p:nvSpPr>
        <p:spPr>
          <a:xfrm>
            <a:off x="6804000" y="240984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MNAs - 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4"/>
          <p:cNvSpPr/>
          <p:nvPr/>
        </p:nvSpPr>
        <p:spPr>
          <a:xfrm>
            <a:off x="7020000" y="27147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 Narrow"/>
              </a:rPr>
              <a:t>MNAs - ARANCE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75"/>
          <p:cNvGrpSpPr/>
          <p:nvPr/>
        </p:nvGrpSpPr>
        <p:grpSpPr>
          <a:xfrm>
            <a:off x="1295280" y="2690640"/>
            <a:ext cx="7848720" cy="401760"/>
            <a:chOff x="1295280" y="2690640"/>
            <a:chExt cx="7848720" cy="401760"/>
          </a:xfrm>
        </p:grpSpPr>
        <p:sp>
          <p:nvSpPr>
            <p:cNvPr id="1217" name="Text Box 76"/>
            <p:cNvSpPr/>
            <p:nvPr/>
          </p:nvSpPr>
          <p:spPr>
            <a:xfrm>
              <a:off x="3200400" y="272412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de Tokio” - Gineb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Text Box 77"/>
            <p:cNvSpPr/>
            <p:nvPr/>
          </p:nvSpPr>
          <p:spPr>
            <a:xfrm>
              <a:off x="1295280" y="2690640"/>
              <a:ext cx="19051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73-7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2"/>
          <p:cNvSpPr/>
          <p:nvPr/>
        </p:nvSpPr>
        <p:spPr>
          <a:xfrm>
            <a:off x="12600" y="6324480"/>
            <a:ext cx="8458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3"/>
          <p:cNvGrpSpPr/>
          <p:nvPr/>
        </p:nvGrpSpPr>
        <p:grpSpPr>
          <a:xfrm>
            <a:off x="395280" y="1992240"/>
            <a:ext cx="8456400" cy="4357440"/>
            <a:chOff x="395280" y="1992240"/>
            <a:chExt cx="8456400" cy="4357440"/>
          </a:xfrm>
        </p:grpSpPr>
        <p:grpSp>
          <p:nvGrpSpPr>
            <p:cNvPr id="1221" name="Group 4"/>
            <p:cNvGrpSpPr/>
            <p:nvPr/>
          </p:nvGrpSpPr>
          <p:grpSpPr>
            <a:xfrm>
              <a:off x="395280" y="2453040"/>
              <a:ext cx="904680" cy="3762360"/>
              <a:chOff x="395280" y="2453040"/>
              <a:chExt cx="904680" cy="3762360"/>
            </a:xfrm>
          </p:grpSpPr>
          <p:grpSp>
            <p:nvGrpSpPr>
              <p:cNvPr id="1222" name="Group 5"/>
              <p:cNvGrpSpPr/>
              <p:nvPr/>
            </p:nvGrpSpPr>
            <p:grpSpPr>
              <a:xfrm>
                <a:off x="395280" y="2453040"/>
                <a:ext cx="904680" cy="3762360"/>
                <a:chOff x="395280" y="2453040"/>
                <a:chExt cx="904680" cy="3762360"/>
              </a:xfrm>
            </p:grpSpPr>
            <p:sp>
              <p:nvSpPr>
                <p:cNvPr id="1223" name="Freeform 6"/>
                <p:cNvSpPr/>
                <p:nvPr/>
              </p:nvSpPr>
              <p:spPr>
                <a:xfrm>
                  <a:off x="467640" y="2669760"/>
                  <a:ext cx="76392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24" name="Object 7"/>
                <p:cNvGraphicFramePr/>
                <p:nvPr/>
              </p:nvGraphicFramePr>
              <p:xfrm>
                <a:off x="395280" y="2453040"/>
                <a:ext cx="904680" cy="37623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25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95280" y="2453040"/>
                          <a:ext cx="904680" cy="37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226" name="Text Box 8"/>
              <p:cNvSpPr/>
              <p:nvPr/>
            </p:nvSpPr>
            <p:spPr>
              <a:xfrm rot="16200000">
                <a:off x="-479160" y="4365720"/>
                <a:ext cx="23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GATT 1947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Group 9"/>
            <p:cNvGrpSpPr/>
            <p:nvPr/>
          </p:nvGrpSpPr>
          <p:grpSpPr>
            <a:xfrm>
              <a:off x="889560" y="2586960"/>
              <a:ext cx="904680" cy="3762720"/>
              <a:chOff x="889560" y="2586960"/>
              <a:chExt cx="904680" cy="3762720"/>
            </a:xfrm>
          </p:grpSpPr>
          <p:grpSp>
            <p:nvGrpSpPr>
              <p:cNvPr id="1228" name="Group 10"/>
              <p:cNvGrpSpPr/>
              <p:nvPr/>
            </p:nvGrpSpPr>
            <p:grpSpPr>
              <a:xfrm>
                <a:off x="889560" y="2586960"/>
                <a:ext cx="904680" cy="3762720"/>
                <a:chOff x="889560" y="2586960"/>
                <a:chExt cx="904680" cy="3762720"/>
              </a:xfrm>
            </p:grpSpPr>
            <p:sp>
              <p:nvSpPr>
                <p:cNvPr id="1229" name="Freeform 11"/>
                <p:cNvSpPr/>
                <p:nvPr/>
              </p:nvSpPr>
              <p:spPr>
                <a:xfrm>
                  <a:off x="961920" y="2804040"/>
                  <a:ext cx="76392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30" name="Object 12"/>
                <p:cNvGraphicFramePr/>
                <p:nvPr/>
              </p:nvGraphicFramePr>
              <p:xfrm>
                <a:off x="889560" y="2586960"/>
                <a:ext cx="904680" cy="37627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31" name="Object 12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89560" y="2586960"/>
                          <a:ext cx="904680" cy="376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232" name="Text Box 13"/>
              <p:cNvSpPr/>
              <p:nvPr/>
            </p:nvSpPr>
            <p:spPr>
              <a:xfrm rot="16200000">
                <a:off x="18000" y="4520880"/>
                <a:ext cx="238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Protocolo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Group 14"/>
            <p:cNvGrpSpPr/>
            <p:nvPr/>
          </p:nvGrpSpPr>
          <p:grpSpPr>
            <a:xfrm>
              <a:off x="1565280" y="2453040"/>
              <a:ext cx="904680" cy="3762360"/>
              <a:chOff x="1565280" y="2453040"/>
              <a:chExt cx="904680" cy="3762360"/>
            </a:xfrm>
          </p:grpSpPr>
          <p:grpSp>
            <p:nvGrpSpPr>
              <p:cNvPr id="1234" name="Group 15"/>
              <p:cNvGrpSpPr/>
              <p:nvPr/>
            </p:nvGrpSpPr>
            <p:grpSpPr>
              <a:xfrm>
                <a:off x="1565280" y="2453040"/>
                <a:ext cx="904680" cy="3762360"/>
                <a:chOff x="1565280" y="2453040"/>
                <a:chExt cx="904680" cy="3762360"/>
              </a:xfrm>
            </p:grpSpPr>
            <p:sp>
              <p:nvSpPr>
                <p:cNvPr id="1235" name="Freeform 16"/>
                <p:cNvSpPr/>
                <p:nvPr/>
              </p:nvSpPr>
              <p:spPr>
                <a:xfrm>
                  <a:off x="1637640" y="2669760"/>
                  <a:ext cx="76392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36" name="Object 17"/>
                <p:cNvGraphicFramePr/>
                <p:nvPr/>
              </p:nvGraphicFramePr>
              <p:xfrm>
                <a:off x="1565280" y="2453040"/>
                <a:ext cx="904680" cy="3762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237" name="Object 17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565280" y="2453040"/>
                          <a:ext cx="904680" cy="37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238" name="Text Box 18"/>
              <p:cNvSpPr/>
              <p:nvPr/>
            </p:nvSpPr>
            <p:spPr>
              <a:xfrm rot="16200000">
                <a:off x="668160" y="4327920"/>
                <a:ext cx="2385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</a:rPr>
                  <a:t>Protocolos de Adhesión                        al GATT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Group 19"/>
            <p:cNvGrpSpPr/>
            <p:nvPr/>
          </p:nvGrpSpPr>
          <p:grpSpPr>
            <a:xfrm>
              <a:off x="2059920" y="2443680"/>
              <a:ext cx="904680" cy="3762720"/>
              <a:chOff x="2059920" y="2443680"/>
              <a:chExt cx="904680" cy="3762720"/>
            </a:xfrm>
          </p:grpSpPr>
          <p:grpSp>
            <p:nvGrpSpPr>
              <p:cNvPr id="1240" name="Group 20"/>
              <p:cNvGrpSpPr/>
              <p:nvPr/>
            </p:nvGrpSpPr>
            <p:grpSpPr>
              <a:xfrm>
                <a:off x="2059920" y="2443680"/>
                <a:ext cx="904680" cy="3762720"/>
                <a:chOff x="2059920" y="2443680"/>
                <a:chExt cx="904680" cy="3762720"/>
              </a:xfrm>
            </p:grpSpPr>
            <p:sp>
              <p:nvSpPr>
                <p:cNvPr id="1241" name="Freeform 21"/>
                <p:cNvSpPr/>
                <p:nvPr/>
              </p:nvSpPr>
              <p:spPr>
                <a:xfrm>
                  <a:off x="2132280" y="2660760"/>
                  <a:ext cx="764280" cy="225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42" name="Object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59920" y="2443680"/>
                  <a:ext cx="904680" cy="376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3" name="Text Box 23"/>
              <p:cNvSpPr/>
              <p:nvPr/>
            </p:nvSpPr>
            <p:spPr>
              <a:xfrm rot="16200000">
                <a:off x="1152360" y="4303080"/>
                <a:ext cx="24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</a:rPr>
                  <a:t>Decisiones de PPCC del GATT</a:t>
                </a:r>
                <a:br>
                  <a:rPr sz="1200"/>
                </a:b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</a:rPr>
                  <a:t>(1947-1994)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24"/>
            <p:cNvGrpSpPr/>
            <p:nvPr/>
          </p:nvGrpSpPr>
          <p:grpSpPr>
            <a:xfrm>
              <a:off x="2538000" y="2659320"/>
              <a:ext cx="1031040" cy="3454920"/>
              <a:chOff x="2538000" y="2659320"/>
              <a:chExt cx="1031040" cy="3454920"/>
            </a:xfrm>
          </p:grpSpPr>
          <p:grpSp>
            <p:nvGrpSpPr>
              <p:cNvPr id="1245" name="Group 25"/>
              <p:cNvGrpSpPr/>
              <p:nvPr/>
            </p:nvGrpSpPr>
            <p:grpSpPr>
              <a:xfrm>
                <a:off x="2538000" y="2659320"/>
                <a:ext cx="1031040" cy="3454920"/>
                <a:chOff x="2538000" y="2659320"/>
                <a:chExt cx="1031040" cy="3454920"/>
              </a:xfrm>
            </p:grpSpPr>
            <p:grpSp>
              <p:nvGrpSpPr>
                <p:cNvPr id="1246" name="Group 26"/>
                <p:cNvGrpSpPr/>
                <p:nvPr/>
              </p:nvGrpSpPr>
              <p:grpSpPr>
                <a:xfrm>
                  <a:off x="2538000" y="2659320"/>
                  <a:ext cx="1031040" cy="3454920"/>
                  <a:chOff x="2538000" y="2659320"/>
                  <a:chExt cx="1031040" cy="3454920"/>
                </a:xfrm>
              </p:grpSpPr>
              <p:sp>
                <p:nvSpPr>
                  <p:cNvPr id="1247" name="Freeform 27"/>
                  <p:cNvSpPr/>
                  <p:nvPr/>
                </p:nvSpPr>
                <p:spPr>
                  <a:xfrm>
                    <a:off x="2685240" y="2794680"/>
                    <a:ext cx="60408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48" name="Object 28"/>
                  <p:cNvGraphicFramePr/>
                  <p:nvPr/>
                </p:nvGraphicFramePr>
                <p:xfrm>
                  <a:off x="2538000" y="2659320"/>
                  <a:ext cx="1031040" cy="345492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1249" name="Object 28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2538000" y="2659320"/>
                            <a:ext cx="103104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50" name="Text Box 29"/>
                <p:cNvSpPr/>
                <p:nvPr/>
              </p:nvSpPr>
              <p:spPr>
                <a:xfrm rot="16200000">
                  <a:off x="1747440" y="4417200"/>
                  <a:ext cx="22564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Text Box 30"/>
              <p:cNvSpPr/>
              <p:nvPr/>
            </p:nvSpPr>
            <p:spPr>
              <a:xfrm>
                <a:off x="2732400" y="3221280"/>
                <a:ext cx="287640" cy="3373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Group 31"/>
            <p:cNvGrpSpPr/>
            <p:nvPr/>
          </p:nvGrpSpPr>
          <p:grpSpPr>
            <a:xfrm>
              <a:off x="3014640" y="2659320"/>
              <a:ext cx="1031040" cy="3454920"/>
              <a:chOff x="3014640" y="2659320"/>
              <a:chExt cx="1031040" cy="3454920"/>
            </a:xfrm>
          </p:grpSpPr>
          <p:grpSp>
            <p:nvGrpSpPr>
              <p:cNvPr id="1253" name="Group 32"/>
              <p:cNvGrpSpPr/>
              <p:nvPr/>
            </p:nvGrpSpPr>
            <p:grpSpPr>
              <a:xfrm>
                <a:off x="3014640" y="2659320"/>
                <a:ext cx="1031040" cy="3454920"/>
                <a:chOff x="3014640" y="2659320"/>
                <a:chExt cx="1031040" cy="3454920"/>
              </a:xfrm>
            </p:grpSpPr>
            <p:grpSp>
              <p:nvGrpSpPr>
                <p:cNvPr id="1254" name="Group 33"/>
                <p:cNvGrpSpPr/>
                <p:nvPr/>
              </p:nvGrpSpPr>
              <p:grpSpPr>
                <a:xfrm>
                  <a:off x="3014640" y="2659320"/>
                  <a:ext cx="1031040" cy="3454920"/>
                  <a:chOff x="3014640" y="2659320"/>
                  <a:chExt cx="1031040" cy="3454920"/>
                </a:xfrm>
              </p:grpSpPr>
              <p:sp>
                <p:nvSpPr>
                  <p:cNvPr id="1255" name="Freeform 34"/>
                  <p:cNvSpPr/>
                  <p:nvPr/>
                </p:nvSpPr>
                <p:spPr>
                  <a:xfrm>
                    <a:off x="3161880" y="2794680"/>
                    <a:ext cx="60408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56" name="Object 35"/>
                  <p:cNvGraphicFramePr/>
                  <p:nvPr/>
                </p:nvGraphicFramePr>
                <p:xfrm>
                  <a:off x="3014640" y="2659320"/>
                  <a:ext cx="1031040" cy="3454920"/>
                </p:xfrm>
                <a:graphic>
                  <a:graphicData uri="http://schemas.openxmlformats.org/presentationml/2006/ole">
                    <p:oleObj r:id="rId10" spid="">
                      <p:embed/>
                      <p:pic>
                        <p:nvPicPr>
                          <p:cNvPr id="1257" name="Object 35" descr=""/>
                          <p:cNvPicPr/>
                          <p:nvPr/>
                        </p:nvPicPr>
                        <p:blipFill>
                          <a:blip r:embed="rId11"/>
                          <a:stretch/>
                        </p:blipFill>
                        <p:spPr>
                          <a:xfrm>
                            <a:off x="3014640" y="2659320"/>
                            <a:ext cx="103104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58" name="Text Box 36"/>
                <p:cNvSpPr/>
                <p:nvPr/>
              </p:nvSpPr>
              <p:spPr>
                <a:xfrm rot="16200000">
                  <a:off x="2222280" y="4416480"/>
                  <a:ext cx="22582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9" name="Text Box 37"/>
              <p:cNvSpPr/>
              <p:nvPr/>
            </p:nvSpPr>
            <p:spPr>
              <a:xfrm>
                <a:off x="3195360" y="3221280"/>
                <a:ext cx="28944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Group 38"/>
            <p:cNvGrpSpPr/>
            <p:nvPr/>
          </p:nvGrpSpPr>
          <p:grpSpPr>
            <a:xfrm>
              <a:off x="3479040" y="2659320"/>
              <a:ext cx="1032480" cy="3454920"/>
              <a:chOff x="3479040" y="2659320"/>
              <a:chExt cx="1032480" cy="3454920"/>
            </a:xfrm>
          </p:grpSpPr>
          <p:grpSp>
            <p:nvGrpSpPr>
              <p:cNvPr id="1261" name="Group 39"/>
              <p:cNvGrpSpPr/>
              <p:nvPr/>
            </p:nvGrpSpPr>
            <p:grpSpPr>
              <a:xfrm>
                <a:off x="3479040" y="2659320"/>
                <a:ext cx="1032480" cy="3454920"/>
                <a:chOff x="3479040" y="2659320"/>
                <a:chExt cx="1032480" cy="3454920"/>
              </a:xfrm>
            </p:grpSpPr>
            <p:grpSp>
              <p:nvGrpSpPr>
                <p:cNvPr id="1262" name="Group 40"/>
                <p:cNvGrpSpPr/>
                <p:nvPr/>
              </p:nvGrpSpPr>
              <p:grpSpPr>
                <a:xfrm>
                  <a:off x="3479040" y="2659320"/>
                  <a:ext cx="1032480" cy="3454920"/>
                  <a:chOff x="3479040" y="2659320"/>
                  <a:chExt cx="1032480" cy="3454920"/>
                </a:xfrm>
              </p:grpSpPr>
              <p:sp>
                <p:nvSpPr>
                  <p:cNvPr id="1263" name="Freeform 41"/>
                  <p:cNvSpPr/>
                  <p:nvPr/>
                </p:nvSpPr>
                <p:spPr>
                  <a:xfrm>
                    <a:off x="3626640" y="2794680"/>
                    <a:ext cx="60480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64" name="Object 42"/>
                  <p:cNvGraphicFramePr/>
                  <p:nvPr/>
                </p:nvGraphicFramePr>
                <p:xfrm>
                  <a:off x="3479040" y="2659320"/>
                  <a:ext cx="1032480" cy="345492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1265" name="Object 42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3479040" y="2659320"/>
                            <a:ext cx="103248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66" name="Text Box 43"/>
                <p:cNvSpPr/>
                <p:nvPr/>
              </p:nvSpPr>
              <p:spPr>
                <a:xfrm rot="16200000">
                  <a:off x="2698560" y="4441320"/>
                  <a:ext cx="2236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7" name="Text Box 44"/>
              <p:cNvSpPr/>
              <p:nvPr/>
            </p:nvSpPr>
            <p:spPr>
              <a:xfrm>
                <a:off x="3650760" y="3213720"/>
                <a:ext cx="289080" cy="33732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Group 45"/>
            <p:cNvGrpSpPr/>
            <p:nvPr/>
          </p:nvGrpSpPr>
          <p:grpSpPr>
            <a:xfrm>
              <a:off x="3946320" y="2659320"/>
              <a:ext cx="1032840" cy="3454920"/>
              <a:chOff x="3946320" y="2659320"/>
              <a:chExt cx="1032840" cy="3454920"/>
            </a:xfrm>
          </p:grpSpPr>
          <p:grpSp>
            <p:nvGrpSpPr>
              <p:cNvPr id="1269" name="Group 46"/>
              <p:cNvGrpSpPr/>
              <p:nvPr/>
            </p:nvGrpSpPr>
            <p:grpSpPr>
              <a:xfrm>
                <a:off x="3946320" y="2659320"/>
                <a:ext cx="1032840" cy="3454920"/>
                <a:chOff x="3946320" y="2659320"/>
                <a:chExt cx="1032840" cy="3454920"/>
              </a:xfrm>
            </p:grpSpPr>
            <p:grpSp>
              <p:nvGrpSpPr>
                <p:cNvPr id="1270" name="Group 47"/>
                <p:cNvGrpSpPr/>
                <p:nvPr/>
              </p:nvGrpSpPr>
              <p:grpSpPr>
                <a:xfrm>
                  <a:off x="3946320" y="2659320"/>
                  <a:ext cx="1032840" cy="3454920"/>
                  <a:chOff x="3946320" y="2659320"/>
                  <a:chExt cx="1032840" cy="3454920"/>
                </a:xfrm>
              </p:grpSpPr>
              <p:sp>
                <p:nvSpPr>
                  <p:cNvPr id="1271" name="Freeform 48"/>
                  <p:cNvSpPr/>
                  <p:nvPr/>
                </p:nvSpPr>
                <p:spPr>
                  <a:xfrm>
                    <a:off x="4093920" y="2794680"/>
                    <a:ext cx="605160" cy="211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272" name="Object 49"/>
                  <p:cNvGraphicFramePr/>
                  <p:nvPr/>
                </p:nvGraphicFramePr>
                <p:xfrm>
                  <a:off x="3946320" y="2659320"/>
                  <a:ext cx="1032840" cy="345492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1273" name="Object 49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3946320" y="2659320"/>
                            <a:ext cx="1032840" cy="3454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1274" name="Text Box 50"/>
                <p:cNvSpPr/>
                <p:nvPr/>
              </p:nvSpPr>
              <p:spPr>
                <a:xfrm rot="16200000">
                  <a:off x="3174120" y="4413600"/>
                  <a:ext cx="2232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ahoma"/>
                    </a:rPr>
                    <a:t>Lista de Concesiones Arancelarias</a:t>
                  </a:r>
                  <a:endParaRPr b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Text Box 51"/>
              <p:cNvSpPr/>
              <p:nvPr/>
            </p:nvSpPr>
            <p:spPr>
              <a:xfrm>
                <a:off x="4109040" y="3225960"/>
                <a:ext cx="289440" cy="3373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52"/>
            <p:cNvGrpSpPr/>
            <p:nvPr/>
          </p:nvGrpSpPr>
          <p:grpSpPr>
            <a:xfrm>
              <a:off x="4400280" y="2442240"/>
              <a:ext cx="904680" cy="3762360"/>
              <a:chOff x="4400280" y="2442240"/>
              <a:chExt cx="904680" cy="3762360"/>
            </a:xfrm>
          </p:grpSpPr>
          <p:sp>
            <p:nvSpPr>
              <p:cNvPr id="1277" name="Freeform 53"/>
              <p:cNvSpPr/>
              <p:nvPr/>
            </p:nvSpPr>
            <p:spPr>
              <a:xfrm>
                <a:off x="447228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78" name="Object 54"/>
              <p:cNvGraphicFramePr/>
              <p:nvPr/>
            </p:nvGraphicFramePr>
            <p:xfrm>
              <a:off x="4400280" y="2442240"/>
              <a:ext cx="904680" cy="376236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1279" name="Object 54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4400280" y="2442240"/>
                        <a:ext cx="90468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0" name="Text Box 55"/>
              <p:cNvSpPr/>
              <p:nvPr/>
            </p:nvSpPr>
            <p:spPr>
              <a:xfrm rot="16200000">
                <a:off x="3497760" y="4274280"/>
                <a:ext cx="2399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OTC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Group 56"/>
            <p:cNvGrpSpPr/>
            <p:nvPr/>
          </p:nvGrpSpPr>
          <p:grpSpPr>
            <a:xfrm>
              <a:off x="4906800" y="2442240"/>
              <a:ext cx="904680" cy="3762360"/>
              <a:chOff x="4906800" y="2442240"/>
              <a:chExt cx="904680" cy="3762360"/>
            </a:xfrm>
          </p:grpSpPr>
          <p:sp>
            <p:nvSpPr>
              <p:cNvPr id="1282" name="Freeform 57"/>
              <p:cNvSpPr/>
              <p:nvPr/>
            </p:nvSpPr>
            <p:spPr>
              <a:xfrm>
                <a:off x="497880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83" name="Object 58"/>
              <p:cNvGraphicFramePr/>
              <p:nvPr/>
            </p:nvGraphicFramePr>
            <p:xfrm>
              <a:off x="4906800" y="2442240"/>
              <a:ext cx="904680" cy="376236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1284" name="Object 58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4906800" y="2442240"/>
                        <a:ext cx="90468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5" name="Text Box 59"/>
              <p:cNvSpPr/>
              <p:nvPr/>
            </p:nvSpPr>
            <p:spPr>
              <a:xfrm rot="16200000">
                <a:off x="4098240" y="4230000"/>
                <a:ext cx="23875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Contratación Pública                                         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60"/>
            <p:cNvGrpSpPr/>
            <p:nvPr/>
          </p:nvGrpSpPr>
          <p:grpSpPr>
            <a:xfrm>
              <a:off x="5413680" y="2442240"/>
              <a:ext cx="904320" cy="3762360"/>
              <a:chOff x="5413680" y="2442240"/>
              <a:chExt cx="904320" cy="3762360"/>
            </a:xfrm>
          </p:grpSpPr>
          <p:sp>
            <p:nvSpPr>
              <p:cNvPr id="1287" name="Freeform 61"/>
              <p:cNvSpPr/>
              <p:nvPr/>
            </p:nvSpPr>
            <p:spPr>
              <a:xfrm>
                <a:off x="5485680" y="2658960"/>
                <a:ext cx="76392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88" name="Object 62"/>
              <p:cNvGraphicFramePr/>
              <p:nvPr/>
            </p:nvGraphicFramePr>
            <p:xfrm>
              <a:off x="5413680" y="2442240"/>
              <a:ext cx="904320" cy="37623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1289" name="Object 62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413680" y="2442240"/>
                        <a:ext cx="90432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0" name="Text Box 63"/>
              <p:cNvSpPr/>
              <p:nvPr/>
            </p:nvSpPr>
            <p:spPr>
              <a:xfrm rot="16200000">
                <a:off x="4514760" y="4323240"/>
                <a:ext cx="238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SMC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Group 64"/>
            <p:cNvGrpSpPr/>
            <p:nvPr/>
          </p:nvGrpSpPr>
          <p:grpSpPr>
            <a:xfrm>
              <a:off x="5920200" y="2442240"/>
              <a:ext cx="904680" cy="3762360"/>
              <a:chOff x="5920200" y="2442240"/>
              <a:chExt cx="904680" cy="3762360"/>
            </a:xfrm>
          </p:grpSpPr>
          <p:sp>
            <p:nvSpPr>
              <p:cNvPr id="1292" name="Freeform 65"/>
              <p:cNvSpPr/>
              <p:nvPr/>
            </p:nvSpPr>
            <p:spPr>
              <a:xfrm>
                <a:off x="599220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93" name="Object 66"/>
              <p:cNvGraphicFramePr/>
              <p:nvPr/>
            </p:nvGraphicFramePr>
            <p:xfrm>
              <a:off x="5920200" y="2442240"/>
              <a:ext cx="904680" cy="376236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1294" name="Object 66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5920200" y="2442240"/>
                        <a:ext cx="90468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5" name="Text Box 67"/>
              <p:cNvSpPr/>
              <p:nvPr/>
            </p:nvSpPr>
            <p:spPr>
              <a:xfrm rot="16200000">
                <a:off x="5021280" y="4323240"/>
                <a:ext cx="238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Antidumping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Group 68"/>
            <p:cNvGrpSpPr/>
            <p:nvPr/>
          </p:nvGrpSpPr>
          <p:grpSpPr>
            <a:xfrm>
              <a:off x="6427080" y="2442240"/>
              <a:ext cx="904680" cy="3762360"/>
              <a:chOff x="6427080" y="2442240"/>
              <a:chExt cx="904680" cy="3762360"/>
            </a:xfrm>
          </p:grpSpPr>
          <p:sp>
            <p:nvSpPr>
              <p:cNvPr id="1297" name="Freeform 69"/>
              <p:cNvSpPr/>
              <p:nvPr/>
            </p:nvSpPr>
            <p:spPr>
              <a:xfrm>
                <a:off x="649908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8" name="Object 70" descr=""/>
              <p:cNvPicPr/>
              <p:nvPr/>
            </p:nvPicPr>
            <p:blipFill>
              <a:blip r:embed="rId24"/>
              <a:stretch/>
            </p:blipFill>
            <p:spPr>
              <a:xfrm>
                <a:off x="6427080" y="2442240"/>
                <a:ext cx="9046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9" name="Text Box 71"/>
              <p:cNvSpPr/>
              <p:nvPr/>
            </p:nvSpPr>
            <p:spPr>
              <a:xfrm rot="16200000">
                <a:off x="5529600" y="4323240"/>
                <a:ext cx="2388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Licencias de Importació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72"/>
            <p:cNvGrpSpPr/>
            <p:nvPr/>
          </p:nvGrpSpPr>
          <p:grpSpPr>
            <a:xfrm>
              <a:off x="6933960" y="2442240"/>
              <a:ext cx="904320" cy="3762360"/>
              <a:chOff x="6933960" y="2442240"/>
              <a:chExt cx="904320" cy="3762360"/>
            </a:xfrm>
          </p:grpSpPr>
          <p:sp>
            <p:nvSpPr>
              <p:cNvPr id="1301" name="Freeform 73"/>
              <p:cNvSpPr/>
              <p:nvPr/>
            </p:nvSpPr>
            <p:spPr>
              <a:xfrm>
                <a:off x="7005960" y="2658960"/>
                <a:ext cx="76392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02" name="Object 74"/>
              <p:cNvGraphicFramePr/>
              <p:nvPr/>
            </p:nvGraphicFramePr>
            <p:xfrm>
              <a:off x="6933960" y="2442240"/>
              <a:ext cx="904320" cy="37623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303" name="Object 74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6933960" y="2442240"/>
                        <a:ext cx="904320" cy="376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04" name="Text Box 75"/>
              <p:cNvSpPr/>
              <p:nvPr/>
            </p:nvSpPr>
            <p:spPr>
              <a:xfrm rot="16200000">
                <a:off x="6021000" y="4266720"/>
                <a:ext cx="241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Aeronaves Civil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Group 76"/>
            <p:cNvGrpSpPr/>
            <p:nvPr/>
          </p:nvGrpSpPr>
          <p:grpSpPr>
            <a:xfrm>
              <a:off x="7440120" y="2442240"/>
              <a:ext cx="904680" cy="3762360"/>
              <a:chOff x="7440120" y="2442240"/>
              <a:chExt cx="904680" cy="3762360"/>
            </a:xfrm>
          </p:grpSpPr>
          <p:sp>
            <p:nvSpPr>
              <p:cNvPr id="1306" name="Freeform 77"/>
              <p:cNvSpPr/>
              <p:nvPr/>
            </p:nvSpPr>
            <p:spPr>
              <a:xfrm>
                <a:off x="751212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7" name="Object 78" descr=""/>
              <p:cNvPicPr/>
              <p:nvPr/>
            </p:nvPicPr>
            <p:blipFill>
              <a:blip r:embed="rId27"/>
              <a:stretch/>
            </p:blipFill>
            <p:spPr>
              <a:xfrm>
                <a:off x="7440120" y="2442240"/>
                <a:ext cx="9046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8" name="Text Box 79"/>
              <p:cNvSpPr/>
              <p:nvPr/>
            </p:nvSpPr>
            <p:spPr>
              <a:xfrm rot="16200000">
                <a:off x="6532200" y="4240440"/>
                <a:ext cx="2407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Productos Lácteo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Group 80"/>
            <p:cNvGrpSpPr/>
            <p:nvPr/>
          </p:nvGrpSpPr>
          <p:grpSpPr>
            <a:xfrm>
              <a:off x="7947000" y="2442240"/>
              <a:ext cx="904680" cy="3762360"/>
              <a:chOff x="7947000" y="2442240"/>
              <a:chExt cx="904680" cy="3762360"/>
            </a:xfrm>
          </p:grpSpPr>
          <p:sp>
            <p:nvSpPr>
              <p:cNvPr id="1310" name="Freeform 81"/>
              <p:cNvSpPr/>
              <p:nvPr/>
            </p:nvSpPr>
            <p:spPr>
              <a:xfrm>
                <a:off x="8019000" y="2658960"/>
                <a:ext cx="764280" cy="22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11" name="Object 82" descr=""/>
              <p:cNvPicPr/>
              <p:nvPr/>
            </p:nvPicPr>
            <p:blipFill>
              <a:blip r:embed="rId28"/>
              <a:stretch/>
            </p:blipFill>
            <p:spPr>
              <a:xfrm>
                <a:off x="7947000" y="2442240"/>
                <a:ext cx="904680" cy="37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Text Box 83"/>
              <p:cNvSpPr/>
              <p:nvPr/>
            </p:nvSpPr>
            <p:spPr>
              <a:xfrm rot="16200000">
                <a:off x="7050240" y="4230720"/>
                <a:ext cx="2387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ahoma"/>
                  </a:rPr>
                  <a:t>PLURI                                           Carne Bovina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Freeform 84"/>
            <p:cNvSpPr/>
            <p:nvPr/>
          </p:nvSpPr>
          <p:spPr>
            <a:xfrm>
              <a:off x="2337480" y="2104560"/>
              <a:ext cx="324000" cy="651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Freeform 85"/>
            <p:cNvSpPr/>
            <p:nvPr/>
          </p:nvSpPr>
          <p:spPr>
            <a:xfrm rot="476400">
              <a:off x="2573640" y="2006280"/>
              <a:ext cx="263880" cy="807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Text Box 86"/>
          <p:cNvSpPr/>
          <p:nvPr/>
        </p:nvSpPr>
        <p:spPr>
          <a:xfrm>
            <a:off x="2742480" y="114300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ego de la Ronda de Toki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1752480" y="2162160"/>
            <a:ext cx="7314840" cy="401400"/>
            <a:chOff x="1752480" y="2162160"/>
            <a:chExt cx="7314840" cy="401400"/>
          </a:xfrm>
        </p:grpSpPr>
        <p:sp>
          <p:nvSpPr>
            <p:cNvPr id="1317" name="Text Box 3"/>
            <p:cNvSpPr/>
            <p:nvPr/>
          </p:nvSpPr>
          <p:spPr>
            <a:xfrm>
              <a:off x="3528000" y="2195280"/>
              <a:ext cx="55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onda Uruguay”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Text Box 4"/>
            <p:cNvSpPr/>
            <p:nvPr/>
          </p:nvSpPr>
          <p:spPr>
            <a:xfrm>
              <a:off x="1752480" y="2162160"/>
              <a:ext cx="17755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986-9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Group 5"/>
          <p:cNvGrpSpPr/>
          <p:nvPr/>
        </p:nvGrpSpPr>
        <p:grpSpPr>
          <a:xfrm>
            <a:off x="1752480" y="1628640"/>
            <a:ext cx="7314840" cy="398880"/>
            <a:chOff x="1752480" y="1628640"/>
            <a:chExt cx="7314840" cy="398880"/>
          </a:xfrm>
        </p:grpSpPr>
        <p:sp>
          <p:nvSpPr>
            <p:cNvPr id="1320" name="Text Box 6"/>
            <p:cNvSpPr/>
            <p:nvPr/>
          </p:nvSpPr>
          <p:spPr>
            <a:xfrm>
              <a:off x="3598920" y="162864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Primer intento de expandir el  GATT - Fallid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Text Box 7"/>
            <p:cNvSpPr/>
            <p:nvPr/>
          </p:nvSpPr>
          <p:spPr>
            <a:xfrm>
              <a:off x="1752480" y="162864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Nov. 198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Group 8"/>
          <p:cNvGrpSpPr/>
          <p:nvPr/>
        </p:nvGrpSpPr>
        <p:grpSpPr>
          <a:xfrm>
            <a:off x="1793880" y="2755800"/>
            <a:ext cx="7314840" cy="398880"/>
            <a:chOff x="1793880" y="2755800"/>
            <a:chExt cx="7314840" cy="398880"/>
          </a:xfrm>
        </p:grpSpPr>
        <p:sp>
          <p:nvSpPr>
            <p:cNvPr id="1323" name="Text Box 9"/>
            <p:cNvSpPr/>
            <p:nvPr/>
          </p:nvSpPr>
          <p:spPr>
            <a:xfrm>
              <a:off x="3640320" y="275580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Declaración de Punta del Este (Uruguay)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Text Box 10"/>
            <p:cNvSpPr/>
            <p:nvPr/>
          </p:nvSpPr>
          <p:spPr>
            <a:xfrm>
              <a:off x="1793880" y="275580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Sep. 198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Group 11"/>
          <p:cNvGrpSpPr/>
          <p:nvPr/>
        </p:nvGrpSpPr>
        <p:grpSpPr>
          <a:xfrm>
            <a:off x="1793880" y="3305160"/>
            <a:ext cx="7314840" cy="398880"/>
            <a:chOff x="1793880" y="3305160"/>
            <a:chExt cx="7314840" cy="398880"/>
          </a:xfrm>
        </p:grpSpPr>
        <p:sp>
          <p:nvSpPr>
            <p:cNvPr id="1326" name="Text Box 12"/>
            <p:cNvSpPr/>
            <p:nvPr/>
          </p:nvSpPr>
          <p:spPr>
            <a:xfrm>
              <a:off x="3640320" y="330516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Balance a mitad de período (Montreal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Text Box 13"/>
            <p:cNvSpPr/>
            <p:nvPr/>
          </p:nvSpPr>
          <p:spPr>
            <a:xfrm>
              <a:off x="1793880" y="330516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198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Group 14"/>
          <p:cNvGrpSpPr/>
          <p:nvPr/>
        </p:nvGrpSpPr>
        <p:grpSpPr>
          <a:xfrm>
            <a:off x="1793880" y="3838680"/>
            <a:ext cx="7314840" cy="398880"/>
            <a:chOff x="1793880" y="3838680"/>
            <a:chExt cx="7314840" cy="398880"/>
          </a:xfrm>
        </p:grpSpPr>
        <p:sp>
          <p:nvSpPr>
            <p:cNvPr id="1329" name="Text Box 15"/>
            <p:cNvSpPr/>
            <p:nvPr/>
          </p:nvSpPr>
          <p:spPr>
            <a:xfrm>
              <a:off x="3640320" y="383868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Conferencia de Brusela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Text Box 16"/>
            <p:cNvSpPr/>
            <p:nvPr/>
          </p:nvSpPr>
          <p:spPr>
            <a:xfrm>
              <a:off x="1793880" y="383868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Dic. 199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Group 17"/>
          <p:cNvGrpSpPr/>
          <p:nvPr/>
        </p:nvGrpSpPr>
        <p:grpSpPr>
          <a:xfrm>
            <a:off x="1793880" y="4371840"/>
            <a:ext cx="7314840" cy="398880"/>
            <a:chOff x="1793880" y="4371840"/>
            <a:chExt cx="7314840" cy="398880"/>
          </a:xfrm>
        </p:grpSpPr>
        <p:sp>
          <p:nvSpPr>
            <p:cNvPr id="1332" name="Text Box 18"/>
            <p:cNvSpPr/>
            <p:nvPr/>
          </p:nvSpPr>
          <p:spPr>
            <a:xfrm>
              <a:off x="3640320" y="437184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Conclusión de la Ronda (Adopción del ACTA FINAL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Text Box 19"/>
            <p:cNvSpPr/>
            <p:nvPr/>
          </p:nvSpPr>
          <p:spPr>
            <a:xfrm>
              <a:off x="1793880" y="437184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Dic. 199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Group 20"/>
          <p:cNvGrpSpPr/>
          <p:nvPr/>
        </p:nvGrpSpPr>
        <p:grpSpPr>
          <a:xfrm>
            <a:off x="1793880" y="4905360"/>
            <a:ext cx="7314840" cy="398880"/>
            <a:chOff x="1793880" y="4905360"/>
            <a:chExt cx="7314840" cy="398880"/>
          </a:xfrm>
        </p:grpSpPr>
        <p:sp>
          <p:nvSpPr>
            <p:cNvPr id="1335" name="Text Box 21"/>
            <p:cNvSpPr/>
            <p:nvPr/>
          </p:nvSpPr>
          <p:spPr>
            <a:xfrm>
              <a:off x="3640320" y="490536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Conferencia Ministerial de Marrakec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Text Box 22"/>
            <p:cNvSpPr/>
            <p:nvPr/>
          </p:nvSpPr>
          <p:spPr>
            <a:xfrm>
              <a:off x="1793880" y="4905360"/>
              <a:ext cx="1775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Abr. 199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Group 23"/>
          <p:cNvGrpSpPr/>
          <p:nvPr/>
        </p:nvGrpSpPr>
        <p:grpSpPr>
          <a:xfrm>
            <a:off x="1752480" y="5438880"/>
            <a:ext cx="7314840" cy="398880"/>
            <a:chOff x="1752480" y="5438880"/>
            <a:chExt cx="7314840" cy="398880"/>
          </a:xfrm>
        </p:grpSpPr>
        <p:sp>
          <p:nvSpPr>
            <p:cNvPr id="1338" name="Text Box 24"/>
            <p:cNvSpPr/>
            <p:nvPr/>
          </p:nvSpPr>
          <p:spPr>
            <a:xfrm>
              <a:off x="3598920" y="543888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b00000"/>
                  </a:solidFill>
                  <a:latin typeface="Arial Narrow"/>
                </a:rPr>
                <a:t>Entrada en vigor del Acuerdo de Marrakech (OM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25"/>
            <p:cNvSpPr/>
            <p:nvPr/>
          </p:nvSpPr>
          <p:spPr>
            <a:xfrm>
              <a:off x="1752480" y="5438880"/>
              <a:ext cx="17755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1 Ene. 199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Group 26"/>
          <p:cNvGrpSpPr/>
          <p:nvPr/>
        </p:nvGrpSpPr>
        <p:grpSpPr>
          <a:xfrm>
            <a:off x="1752480" y="5956200"/>
            <a:ext cx="7314840" cy="398880"/>
            <a:chOff x="1752480" y="5956200"/>
            <a:chExt cx="7314840" cy="398880"/>
          </a:xfrm>
        </p:grpSpPr>
        <p:sp>
          <p:nvSpPr>
            <p:cNvPr id="1341" name="Text Box 27"/>
            <p:cNvSpPr/>
            <p:nvPr/>
          </p:nvSpPr>
          <p:spPr>
            <a:xfrm>
              <a:off x="3598920" y="5956200"/>
              <a:ext cx="54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b00000"/>
                  </a:solidFill>
                  <a:latin typeface="Arial Narrow"/>
                </a:rPr>
                <a:t>Fin del GATT de 1947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Text Box 28"/>
            <p:cNvSpPr/>
            <p:nvPr/>
          </p:nvSpPr>
          <p:spPr>
            <a:xfrm>
              <a:off x="1752480" y="5956200"/>
              <a:ext cx="1775520" cy="398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31 Dic. 199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Group 29"/>
          <p:cNvGrpSpPr/>
          <p:nvPr/>
        </p:nvGrpSpPr>
        <p:grpSpPr>
          <a:xfrm>
            <a:off x="343080" y="2000160"/>
            <a:ext cx="952200" cy="3962160"/>
            <a:chOff x="343080" y="2000160"/>
            <a:chExt cx="952200" cy="3962160"/>
          </a:xfrm>
        </p:grpSpPr>
        <p:grpSp>
          <p:nvGrpSpPr>
            <p:cNvPr id="1344" name="Group 30"/>
            <p:cNvGrpSpPr/>
            <p:nvPr/>
          </p:nvGrpSpPr>
          <p:grpSpPr>
            <a:xfrm>
              <a:off x="343080" y="2000160"/>
              <a:ext cx="952200" cy="3962160"/>
              <a:chOff x="343080" y="2000160"/>
              <a:chExt cx="952200" cy="3962160"/>
            </a:xfrm>
          </p:grpSpPr>
          <p:sp>
            <p:nvSpPr>
              <p:cNvPr id="1345" name="Freeform 31"/>
              <p:cNvSpPr/>
              <p:nvPr/>
            </p:nvSpPr>
            <p:spPr>
              <a:xfrm>
                <a:off x="419040" y="2228760"/>
                <a:ext cx="80424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46" name="Object 32"/>
              <p:cNvGraphicFramePr/>
              <p:nvPr/>
            </p:nvGraphicFramePr>
            <p:xfrm>
              <a:off x="343080" y="2000160"/>
              <a:ext cx="952200" cy="3962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47" name="Object 3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43080" y="2000160"/>
                        <a:ext cx="952200" cy="39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48" name="Text Box 33"/>
            <p:cNvSpPr/>
            <p:nvPr/>
          </p:nvSpPr>
          <p:spPr>
            <a:xfrm rot="16200000">
              <a:off x="-589320" y="404964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GATT 194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Text Box 34"/>
          <p:cNvSpPr/>
          <p:nvPr/>
        </p:nvSpPr>
        <p:spPr>
          <a:xfrm>
            <a:off x="2743920" y="6922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a 8ª Ronda GAT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 Box 8"/>
          <p:cNvSpPr/>
          <p:nvPr/>
        </p:nvSpPr>
        <p:spPr>
          <a:xfrm>
            <a:off x="0" y="28584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ondas Multilaterales d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egociaciones Comercia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9"/>
          <p:cNvSpPr/>
          <p:nvPr/>
        </p:nvSpPr>
        <p:spPr>
          <a:xfrm>
            <a:off x="1143000" y="1428840"/>
            <a:ext cx="6624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7: Ginebra (23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49: Annecy (29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51: Torquay (32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56: Ginebra (33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0-61: Dillon (39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3-67: Kennedy (74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73-79: Tokio (99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86-94 Uruguay (128 país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2" name="Object 3"/>
          <p:cNvGraphicFramePr/>
          <p:nvPr/>
        </p:nvGraphicFramePr>
        <p:xfrm>
          <a:off x="4016520" y="0"/>
          <a:ext cx="512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0"/>
                    <a:ext cx="512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Object 4"/>
          <p:cNvGraphicFramePr/>
          <p:nvPr/>
        </p:nvGraphicFramePr>
        <p:xfrm>
          <a:off x="5867280" y="4952880"/>
          <a:ext cx="16765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6765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6" name="Text Box 5"/>
          <p:cNvSpPr/>
          <p:nvPr/>
        </p:nvSpPr>
        <p:spPr>
          <a:xfrm>
            <a:off x="0" y="2349360"/>
            <a:ext cx="442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la OM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2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3"/>
          <p:cNvSpPr/>
          <p:nvPr/>
        </p:nvSpPr>
        <p:spPr>
          <a:xfrm>
            <a:off x="1143000" y="990720"/>
            <a:ext cx="3657600" cy="533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4"/>
          <p:cNvSpPr/>
          <p:nvPr/>
        </p:nvSpPr>
        <p:spPr>
          <a:xfrm>
            <a:off x="1523880" y="2057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5"/>
          <p:cNvSpPr/>
          <p:nvPr/>
        </p:nvSpPr>
        <p:spPr>
          <a:xfrm>
            <a:off x="152388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6"/>
          <p:cNvSpPr/>
          <p:nvPr/>
        </p:nvSpPr>
        <p:spPr>
          <a:xfrm>
            <a:off x="762120" y="990720"/>
            <a:ext cx="380880" cy="5333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7"/>
          <p:cNvSpPr/>
          <p:nvPr/>
        </p:nvSpPr>
        <p:spPr>
          <a:xfrm>
            <a:off x="9144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Oval 8"/>
          <p:cNvSpPr/>
          <p:nvPr/>
        </p:nvSpPr>
        <p:spPr>
          <a:xfrm>
            <a:off x="9144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9"/>
          <p:cNvSpPr/>
          <p:nvPr/>
        </p:nvSpPr>
        <p:spPr>
          <a:xfrm>
            <a:off x="1523880" y="2133720"/>
            <a:ext cx="2819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8080"/>
                </a:solidFill>
                <a:latin typeface="Times New Roman"/>
              </a:rPr>
              <a:t>Acuerdo de Marrakech por el que se establece la Organización Mundial del Comercio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" name="Group 10"/>
          <p:cNvGrpSpPr/>
          <p:nvPr/>
        </p:nvGrpSpPr>
        <p:grpSpPr>
          <a:xfrm>
            <a:off x="5029200" y="1523880"/>
            <a:ext cx="3809880" cy="825480"/>
            <a:chOff x="5029200" y="1523880"/>
            <a:chExt cx="3809880" cy="825480"/>
          </a:xfrm>
        </p:grpSpPr>
        <p:sp>
          <p:nvSpPr>
            <p:cNvPr id="1366" name="Text Box 11"/>
            <p:cNvSpPr/>
            <p:nvPr/>
          </p:nvSpPr>
          <p:spPr>
            <a:xfrm>
              <a:off x="5257800" y="152388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Firmado en Marrakech el 15 de Abril de 199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Oval 12"/>
            <p:cNvSpPr/>
            <p:nvPr/>
          </p:nvSpPr>
          <p:spPr>
            <a:xfrm>
              <a:off x="5029200" y="1676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Group 13"/>
          <p:cNvGrpSpPr/>
          <p:nvPr/>
        </p:nvGrpSpPr>
        <p:grpSpPr>
          <a:xfrm>
            <a:off x="5029200" y="2590920"/>
            <a:ext cx="3809880" cy="825480"/>
            <a:chOff x="5029200" y="2590920"/>
            <a:chExt cx="3809880" cy="825480"/>
          </a:xfrm>
        </p:grpSpPr>
        <p:sp>
          <p:nvSpPr>
            <p:cNvPr id="1369" name="Text Box 14"/>
            <p:cNvSpPr/>
            <p:nvPr/>
          </p:nvSpPr>
          <p:spPr>
            <a:xfrm>
              <a:off x="5257800" y="259092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Ratificado de acuerdo a los procedimientos nacionale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Oval 15"/>
            <p:cNvSpPr/>
            <p:nvPr/>
          </p:nvSpPr>
          <p:spPr>
            <a:xfrm>
              <a:off x="5029200" y="2743200"/>
              <a:ext cx="152280" cy="151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Group 16"/>
          <p:cNvGrpSpPr/>
          <p:nvPr/>
        </p:nvGrpSpPr>
        <p:grpSpPr>
          <a:xfrm>
            <a:off x="5029200" y="3581280"/>
            <a:ext cx="3809880" cy="2166120"/>
            <a:chOff x="5029200" y="3581280"/>
            <a:chExt cx="3809880" cy="2166120"/>
          </a:xfrm>
        </p:grpSpPr>
        <p:sp>
          <p:nvSpPr>
            <p:cNvPr id="1372" name="Text Box 17"/>
            <p:cNvSpPr/>
            <p:nvPr/>
          </p:nvSpPr>
          <p:spPr>
            <a:xfrm>
              <a:off x="5257800" y="3581280"/>
              <a:ext cx="358128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Entrada en vigor el 1º de Enero de 1995                     </a:t>
              </a:r>
              <a:r>
                <a:rPr b="1" lang="en-GB" sz="2200" spc="-1" strike="noStrike">
                  <a:solidFill>
                    <a:srgbClr val="000000"/>
                  </a:solidFill>
                  <a:latin typeface="Arial Narrow"/>
                </a:rPr>
                <a:t>(instrumento internacional vinculante, que compromete la responsabilidad de los Estados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Oval 18"/>
            <p:cNvSpPr/>
            <p:nvPr/>
          </p:nvSpPr>
          <p:spPr>
            <a:xfrm>
              <a:off x="5029200" y="3733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Text Box 19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b2b2b2"/>
                </a:solidFill>
                <a:latin typeface="Arial"/>
              </a:rPr>
              <a:t>OMC: un acuerdo internacion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20"/>
          <p:cNvSpPr/>
          <p:nvPr/>
        </p:nvSpPr>
        <p:spPr>
          <a:xfrm>
            <a:off x="8872200" y="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9T10:28:19Z</dcterms:created>
  <dc:creator>Rey</dc:creator>
  <dc:description/>
  <dc:language>en-US</dc:language>
  <cp:lastModifiedBy>Doris</cp:lastModifiedBy>
  <cp:lastPrinted>2000-01-19T08:15:03Z</cp:lastPrinted>
  <dcterms:modified xsi:type="dcterms:W3CDTF">2009-07-23T21:05:34Z</dcterms:modified>
  <cp:revision>309</cp:revision>
  <dc:subject/>
  <dc:title>No Slide Title</dc:title>
</cp:coreProperties>
</file>