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565F-9917-4CD9-A950-DA1021C2953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cumulación de riqueza era un proxy de biene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Nula noción de eficiencia (todo se hace en el paí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lta intervención del Estado (Estados Naciones) por lo que hay un una política comercial proteccion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3867-FB3D-41FD-AD37-0B1E9BB9701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Bodin estudió el influjo que hubo desde las colonias a los países y encontró inflació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Sustento de los mercantilist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conomía superavitaria X&gt;M mayor inflación, disminuición de la competitividad, luego se revierte el círcu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E6FA-3C14-4BE8-B6E8-1FFA171CC2E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Y aquí preguntas que por lo general rondan en cualquier análisis del comercio internaciona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¿Cuáles son las ganancias del comerci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¿Cuál es el patrón de comerci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¿Cuáles son los términos de intercambi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12B3-03BC-4672-A4BA-A2FFA0A4D46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l comercio mutuamente beneficioso se basa en el concepto de la ventaja absolu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 ineficiente que los países produzcan todo de to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specialízación, eficiencia, mayor producción, exc </a:t>
            </a:r>
            <a:r>
              <a:rPr b="0" lang="es-MX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 exportación, aumento del biene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Introducción del concepto de costo de oportunid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D0E0-90F2-41F3-A2CA-70059D2545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Hay comercio incluso cuando hay ventaja comparativa (condición más débil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Los supuestos: 1fp, 2 bienes, 2 pai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D0CB-48BE-490B-A27E-2B78A38D09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ntes los costos de oportunidad eran una línea recta: cop constan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Cop crecientes: frontera de pp concav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Oferta neta: cantidad de un bien que un país está dispuesto a expor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Los países tienden a especializarse pero no hay especialización compl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C7CD-F264-48EB-A65D-58C1A0A318E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071C-4FFD-4FC5-8990-066BB3BB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C47B-110D-413C-9709-5BC8D415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1B7-B211-4DEA-B594-77F0CCE0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904A-C49A-4683-8E84-52E019E2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77F4-9BB0-4ACE-8F06-67FA62B7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7EA-7CE8-4B38-8966-A900260B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BBA-EDE0-409C-BF44-77173F11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4F30-A402-44B4-9513-DEF39DA0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6DE-7A9A-4714-8E6F-D4C9956D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D800-4739-4202-8C7A-6699649A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8D29-A617-476F-9539-F9CEB260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37D4-B141-48C2-A097-9964ED4A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4919-327B-42C8-AD27-A01089B220A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ía del Comercio Intern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ploma Estrategia Internacional y Política Co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stituto de Estudio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ábado 25 de Julio d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5 CuadroTexto"/>
          <p:cNvSpPr/>
          <p:nvPr/>
        </p:nvSpPr>
        <p:spPr>
          <a:xfrm>
            <a:off x="5072040" y="50720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onzalo Becerra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Mercanti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Teoría “Clásica” del 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spuesta a los clásicos, evidencia empírica y algunas teorí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Sí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as críticas se relacionaron con la evidencia empír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eontieff (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delo de factores específicos (H-O en el corto plaz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mercio intraindus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Mercanti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Teoría “Clásica” del 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08080"/>
                </a:solidFill>
                <a:latin typeface="Arial"/>
              </a:rPr>
              <a:t>Respuesta a los clásicos, evidencia empírica y algunas teorí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s bases del comercio internacional han permitido entender los flujos de comer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 pesar de su aparente simplicidad la teoría clásica ha permitido explicar </a:t>
            </a: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porqué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los países comercian, cuáles son las </a:t>
            </a: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ganancias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del intercambio y los </a:t>
            </a: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precios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a que se gen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s críticas que han seguido a estos modelos han permitido mejorar aún más las conclusiones derivadas de los modelos pion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96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eoría del Comercio Intern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8592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ploma Estrategia Internacional y Política Co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stituto de Estudios Inter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ábado 25 de Julio de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CuadroTexto"/>
          <p:cNvSpPr/>
          <p:nvPr/>
        </p:nvSpPr>
        <p:spPr>
          <a:xfrm>
            <a:off x="5072040" y="50720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onzalo Becerra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ercantil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eoría “Clásica” del 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spuesta a los clásicos, evidencia empírica y algunas teorí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ín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l mercantilismo y su visión particular del comer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9680" y="171468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e suele ubicar a este sistema económico entre los siglos XVI hasta la mitad del XV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dea central: acumulación de riqu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comercio era entendido sólo hacia una balanza comercial “superavitar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as críticas: importante efecto del dinero en una econom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cantidad de dinero y su efecto en la economí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J. Bodin (1569) aumento de precios en Europa Occid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J. Locke (1700) y la teoría cuantita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. Hume (1800) evolución natural de una economía superav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rítica: ¿riqueza = acumulació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riqueza de los países radica en otros factores, como la división del trabajo o recursos natu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dam Smith (177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mienzo de la teoría clásica del comerci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Adam Smith y las ventajas absolu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mportancia del libre comercio para incrementar la riqueza de las n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ol del factor productivo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cepto de especi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lus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l Modelo Ricard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4 décadas después de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¿Qué sucede si un país posee ventajas absolutas en la producción de todos los bie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lustración con un 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xtensión del modelo cl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e introduce la noción de dem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stos de oportunidad crec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érminos de inter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cepto de curvas de oferta n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elo de Heckscher-Oh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uele llamarse a este modelo a una serie de teoremas (que incluyen el de H-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ybczyn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eckscher-Oh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tolper-Samuel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gualación de precio de fa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9:45:39Z</dcterms:created>
  <dc:creator>BCCH</dc:creator>
  <dc:description/>
  <dc:language>en-US</dc:language>
  <cp:lastModifiedBy>Gonzalo Becerra</cp:lastModifiedBy>
  <dcterms:modified xsi:type="dcterms:W3CDTF">2009-07-25T12:31:58Z</dcterms:modified>
  <cp:revision>12</cp:revision>
  <dc:subject/>
  <dc:title>Teoría del Comercio Internacional</dc:title>
</cp:coreProperties>
</file>