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278-234F-40E8-838A-4D7E89B6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567-482A-49BF-B520-A111C3A4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6D5-4700-4396-97A3-DF8EACAA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B5A-581A-4068-AD08-C7577CC9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DB05-7E5B-4D3E-84E2-49118BA9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0F61-41D5-442C-91DB-0AFF64F4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200-5D94-4767-81D3-9583F75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041-51D7-4376-987E-16CE17F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2EE-3055-4317-AA76-F3CF026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06A7-D13E-487A-87AE-4465E69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AF09-9DFB-43F4-83D5-5F0F4C75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6B4-D90B-4597-96F6-671FFBB8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8BBA-3CDE-4A9C-8C58-8E556A4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4BB2-B0F2-4735-BD84-B1FC4B7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5E1-C127-4A4C-8A33-44FD7D7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3F8-EEF9-428A-8F1B-95AF80CE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784B-4FDD-4157-B402-9DFDCD58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2C6-4418-48A8-87D1-D78CB30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ACF-B0E5-404C-9444-D7529495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778-D3D8-4082-ACA4-EAAA01F9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4AB-5E32-495B-8EC8-F25A42FC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E22-D067-4E41-B061-304D643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B9D4-F2D2-4DEC-B090-BAE9206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D91-C591-452E-8648-64217A0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1450-F7C9-4DFD-90CF-7F34A1CB08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A86-23A6-4525-A43D-433BE8A9F9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92144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es-ES" sz="4800" spc="-1" strike="noStrike">
                <a:solidFill>
                  <a:srgbClr val="00ffff"/>
                </a:solidFill>
                <a:latin typeface="Times New Roman"/>
              </a:rPr>
              <a:t>CHILE y la OMC”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2923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STITUTO DE ESTUDIO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lvaro Espino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7 de julio de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MC  395 casos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(según la OM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lamante    10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rido     13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cera Parte     22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CALL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ALMON (CV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OFFSET ACT (BYRD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AXES ON CIGARETTES (Per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CLAMAN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DURAZNOS ENLATADO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TAX TREATMENT (Peru)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TAX TREATMENT (Urugua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– MEDIUM DENSITY FIBREBOARD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SG – SALMON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1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437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MPUESTO BEBIDAS ALCOHÓLICAS - 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IMPUESTO BEBIDAS ALCOHÓLICAS-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PEZ ESP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ISTEMA DE BANDAS DE PRE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rgenti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SB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uatema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REQUERIDO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r>
              <a:rPr b="0" lang="es-E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SG (PROV) MEZCLAS DE ACEITES COMEST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SG AZÚCAR / MODIFICACIÓN LISTA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SG FRUCTO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SG PROV. &amp; DEF LÁCTE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AD HARINA DE TRIG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CALLOP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QUILLE SAINT-JACQUE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IEIRAS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STIONES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products (PEC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 I – III GATT, Article 2 TB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im Report = mutually agre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5 –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7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-19872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 12 Peru / DS 14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FFSET ACT</a:t>
            </a:r>
            <a:br>
              <a:rPr sz="4400"/>
            </a:b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Byrd Amendment)</a:t>
            </a:r>
            <a:br>
              <a:rPr sz="32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Dumping and Subsidy Offset Act of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17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ia, Brazil, Chile, EC, Korea, India, Indonesia, Japan &amp; Thail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ainants Case 234: Canada &amp; 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ALMON - EC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Chile DS 3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Noruega DS 3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as 8 Feb 2005 (medida definitiva con vigencia desde 6 Feb 2005 a agosto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de mayo 2005 solicitud retirada porque CE suprimió medida 27 Abril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sky         Pisco        Dem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11.97                  70%              25%           30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7 =&gt;                   65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8 =&gt;                   59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2.99 =&gt; 1.12.00      53%             25%            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UESTOS A BEBIDAS ALCOHÓLICA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Alcohol             Impuesto Ad Valo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5º                                     2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6º                                     3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7º                                     35%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8º                                     39%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39º                                     43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    39º                                     47%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848720" cy="33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ffff"/>
                </a:solidFill>
                <a:latin typeface="Times New Roman"/>
              </a:rPr>
              <a:t>CHILE y el GATT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7280" y="3715920"/>
            <a:ext cx="77551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PEZ ESP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OMC “Medidas que afectan el tránsito e Importación del Pez Espada” (Abril - Diciembre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* Tribunal Hamburgo CONVEMAR Caso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servación y explotación sostenible de poblaciones de pez espada en Pacífico Sud Este” (Junio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0 caso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EC — Scallop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US — AD on Certain Hot-Rolled Steel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US — AD and CVD on Steel Plate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di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Egypt — AD on Steel Rebar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urke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EC — AD on Malleable Cast Iron Tube or Pipe Fitting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Continuación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 EC — Trade Description of Sardin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  Argentina — AD on Poultry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 US — Sunset Review of AD on Corrosion-Resistant Carbon Steel Flat Products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Japa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) US — Equalizing Excise Tax Imposed by Florida on Processed Orange and Grapefruit Produc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azi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) Australia — Certain Measures Affecting the Importation of Fresh Fruit and Vegetabl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ilippin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89948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) Canada — Measures Relating to Exports of Wheat and Treatment of Imported Grain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) Australia — Quarantine Regime for Import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) EC — Measures Affecting the Approval and Marketing of Biotech Products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n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gentin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) Dominican Republic — Measures Affecting the Importation and Internal Sale of Cigarettes (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ondura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) US — AD Measure on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HILE TERCERA PARTE</a:t>
            </a:r>
            <a:br>
              <a:rPr sz="3200"/>
            </a:b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ntinuación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) US — AD Measures relating to Shrimp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aila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) US — AD Measures on Stainless Steel from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xic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) India — Measures Affecting the Importation and Sale of Wines and Spirits from the E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) India — Additional and Extra-Additional Duties on Imports from the 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)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tralia – Measures affecting the importation of Apples from New Zea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7756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GATT y sus Códigos (Tokio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21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CM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C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ras Públ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rne de Bov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eronaves civ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solidación Ronda Toki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8264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hile: primer país en consolidar la totalidad de sus líneas arancelarias en un nivel uniforme de 35%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770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iferencias en el GAT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826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ustralia: Subvenciones al Sulfato am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5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 m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EE Restricciones a imp. Manz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E.UU. Taba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(199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en Ronda Urugua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5640" y="1125360"/>
            <a:ext cx="7559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hile fija su nivel en 25%, except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áct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Harina de Tri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zú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eites veget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traexcepción: AZÚCAR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negociación de la Lista a 98 %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po libre de arancel de 60 mil ton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Consolidación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is líneas arancelarias con tipos &lt; al 25 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a 0 % (cenizas de hueso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3 % (embarcaciones de más de 3.500 toneladas o 120 metros de eslor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tra a 15 % (varios tipos de materias para tallar trabajadas)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es líneas a 23 % (varios tipos de turbinas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5008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Arancel interno (NMF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tructura arancelar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sta 1973 dispersa de 0 a 750%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(promedio 15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82 (crisis deuda exter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suben a 3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1 se reducen desde 15 % a 1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1998 Ley 19.589 rebajó un punto porcentual anual desde 11% a 6 % en 2003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Arancel interno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 un Arancel 0 (nulo) aplicado a ciertos productos,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Sección 0 del Arancel en favor de entidades benéficas, públicas y religios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3:33:09Z</dcterms:created>
  <dc:creator>Natacha Montalva</dc:creator>
  <dc:description/>
  <dc:language>en-US</dc:language>
  <cp:lastModifiedBy>WinuE</cp:lastModifiedBy>
  <dcterms:modified xsi:type="dcterms:W3CDTF">2009-08-26T20:53:53Z</dcterms:modified>
  <cp:revision>23</cp:revision>
  <dc:subject/>
  <dc:title>http://www.wto.org   http://badicc.eclac.cl </dc:title>
</cp:coreProperties>
</file>