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160-980F-4C16-930F-C7E77815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CAD-908B-47D8-8559-2D6ECD58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ED5-2658-4B5A-A58A-2B82AA5D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188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188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F3F-2F48-4009-8313-B9F0A220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741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2CA-FED9-42BA-AF16-C916301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1880" y="155736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1880" y="3949920"/>
            <a:ext cx="261972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E31-2001-4940-818A-14F17BBE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769-8972-43ED-9BF8-8CC4C0B2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B8C-EEE9-4850-97DA-75E25C34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741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39D-888A-46E3-8C23-8FB9959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5E5-5FEF-4B3E-9BE1-855AEA3C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440" y="394992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891-42DB-4721-9638-3D4788B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440" y="1557360"/>
            <a:ext cx="39700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949920"/>
            <a:ext cx="81360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8F8-90B8-465F-88ED-C36B10A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CE50-2263-42DE-83A3-06934BCD5AC2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0000" y="1699920"/>
            <a:ext cx="3379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ercio Internacional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Agrícola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7840" y="5876640"/>
            <a:ext cx="4025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 </a:t>
            </a: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Crecimiento del Comercio Internacional (Volumen) – 1950/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AD1-6DF8-4FF3-AD31-E81C90CDC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Comercio Internacional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8893080" cy="522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6200000">
            <a:off x="5759280" y="3537000"/>
            <a:ext cx="216000" cy="1727280"/>
          </a:xfrm>
          <a:custGeom>
            <a:avLst/>
            <a:gdLst>
              <a:gd name="textAreaLeft" fmla="*/ 0 w 216000"/>
              <a:gd name="textAreaRight" fmla="*/ 216360 w 216000"/>
              <a:gd name="textAreaTop" fmla="*/ 360 h 1727280"/>
              <a:gd name="textAreaBottom" fmla="*/ 172800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7940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8.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5183280" y="4256640"/>
            <a:ext cx="216000" cy="865080"/>
          </a:xfrm>
          <a:custGeom>
            <a:avLst/>
            <a:gdLst>
              <a:gd name="textAreaLeft" fmla="*/ 0 w 216000"/>
              <a:gd name="textAreaRight" fmla="*/ 216360 w 216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48020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8.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FE4-8488-4B36-B14D-2FFCA0E9E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artes Regionales del Comercio Agrícola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55164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270-33E5-45C3-808A-07D12FCFE8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Exportadores de Productos Agrícolas - 20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518160" cy="49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912-744B-4AEE-8BE6-B50ED2AFC2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Productos Agrícolas Importados – 2003/2004</a:t>
            </a:r>
            <a:r>
              <a:rPr b="1" lang="es-ES" sz="3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1844640"/>
          <a:ext cx="8362800" cy="4251240"/>
        </p:xfrm>
        <a:graphic>
          <a:graphicData uri="http://schemas.openxmlformats.org/drawingml/2006/table">
            <a:tbl>
              <a:tblPr/>
              <a:tblGrid>
                <a:gridCol w="514080"/>
                <a:gridCol w="1214640"/>
                <a:gridCol w="6634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ación de los 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bas (porotos, frijoles, fréjoles) de soja (soya), incluso quebrant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no de uvas frescas, excepto vino espumoso, incluso encabezado;  mosto de u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rtas y demás residuos sólidos de la extracción de grasas o aceites vegetales, incluso molidos o en "pellets", excepto los de las partidas 23.04 ó 23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íz, excepto para siemb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go, excepto el trigo duro;  morc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dón sin cardar ni pe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aciones alimenticias n.e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0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anos o plátanos, frescos o se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fé, sin tostar ni descafe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arrillos que contengan taba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BA9-F226-40E0-8A8F-0A26CD811E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incipales Productos Agrícolas Importados – 2003/2004</a:t>
            </a:r>
            <a:r>
              <a:rPr b="1" lang="es-ES" sz="3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1560" y="1773360"/>
          <a:ext cx="8363160" cy="4435200"/>
        </p:xfrm>
        <a:graphic>
          <a:graphicData uri="http://schemas.openxmlformats.org/drawingml/2006/table">
            <a:tbl>
              <a:tblPr/>
              <a:tblGrid>
                <a:gridCol w="514440"/>
                <a:gridCol w="934920"/>
                <a:gridCol w="6913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ación de los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e de palma, excepto crudo, y sus fracciones, incluso refinado, pero sin modificar químic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ao en grano, entero o partido, crudo o tos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porcina, excepto canales, medias canales, piernas, paletas, y sus troz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úcar de caña en bruto, en estado sólido, sin adición de aromatizante ni colorante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aco total o parcialmente desvenado o desner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bovina, fresca o refrigerada, deshues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de animales de la especie bovina, congelada, deshues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rveza de mal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7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ite de soja (soya) crudo, incluso desgomado, sin modificar químic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0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ne y despojos comestibles de gallos y gallinas, conge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C58-95AD-43D6-8DAC-F4A2C0FBDA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9:12:25Z</dcterms:created>
  <dc:creator>Robson Fernandes</dc:creator>
  <dc:description/>
  <dc:language>en-US</dc:language>
  <cp:lastModifiedBy>Doris</cp:lastModifiedBy>
  <dcterms:modified xsi:type="dcterms:W3CDTF">2009-07-31T13:52:27Z</dcterms:modified>
  <cp:revision>17</cp:revision>
  <dc:subject/>
  <dc:title>Comercio Internacional Agrícola</dc:title>
</cp:coreProperties>
</file>