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FADE-3031-4965-8381-4BBC6F7D4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6E74-DE58-4AC9-9AFA-A934AD7E7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E9FB-E803-4ECF-81C6-7BB70E139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5DB9-4BDE-42AA-82AB-7D534517D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E34E-1F9A-433E-95EF-85396C7F9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2CF5-229C-48AB-85F5-AF19F54C9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A535-2011-42F3-9BB5-A83AA1539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BE87-B200-408A-95AE-6CE3C2264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5E3D-23B3-4C31-9D8C-0133EF900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EF8D-5289-4784-8BF9-8934D1CCA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A578-B644-4ED0-A31A-ADD35B53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C72C-0E8B-4BA3-A97D-AA2A110D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C4C95-8F6E-4C43-A8F8-7187D6BCDB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64072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7T14:44:58Z</dcterms:created>
  <dc:creator>Doris</dc:creator>
  <dc:description/>
  <dc:language>en-US</dc:language>
  <cp:lastModifiedBy>Doris</cp:lastModifiedBy>
  <dcterms:modified xsi:type="dcterms:W3CDTF">2007-08-17T14:45:23Z</dcterms:modified>
  <cp:revision>1</cp:revision>
  <dc:subject/>
  <dc:title>Diapositiva 1</dc:title>
</cp:coreProperties>
</file>