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879-815B-47D6-9354-EA5B107F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5B3-DA9E-438D-B93D-7A9B0A77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B73-0ED1-4D40-86A4-64FAB471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2C7-5413-47B9-B9F7-A385D480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CE2-6751-4D10-B9D8-30EC4858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8E5-5A7E-4532-BEA9-4F785B43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6AF-E8BC-4A6A-8F3D-D8D80633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67D-F713-40DD-8CF2-05CDD327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BFC-3E7F-4571-A9CC-6F6BB83E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F2B-EF0A-4C6A-AFAA-D590557D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B8A-75AB-483B-9D84-BC95E643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C1B-DD8F-4CBB-B630-0F16F72A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2AB-3595-461B-9E9C-ABC28EC3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ISMO VERSUS MULTILATERALISMO EN LA ERA GLOB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ndo Di Fili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Globalización del Orden Capitalista acepciones amplia y restringida del conce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perspectiva de largo plazo: progreso técnico, centros y perif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ultilateralismo a fin de la segunda guerra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pecias del multilateralismo en la era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GRACIÓN HEMISFÉRICA Y SU ESTRATEGIA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0: Iniciativa para las Amé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4: TLCAN y Lanzamiento del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8: Cumbre de Santiago, inicio negociaciones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CA: Altibajos y desencu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1: Cambios globales y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3: Fin del Single under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5: Cumbre de Mar del Plata: el congelamiento de las neg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ÓN EUROPEA: SU ESTRATEGIA CON A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“filosofías” en materia de integración: USA y 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os “filosofías” y sus entornos periféricos inmedi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odalidades de los acuerdos de asociación de la UE con ALC, diferencias con las las modalidades adoptadas por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E y las PYME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BLOQUES LATINOAMERICAN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frente a los TLC hemisféricos: México, MCCA, y CAR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del MERCOSUR y el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líneas estratégicas diferentes frente a las ET, y el relacionamiento con USA en Amé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puente posible de unión: UNASUR. Problemas y turbulencias re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LECTURA INSTITUCIONAL DEL REGIONALISMO EN A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vergencia subregional de los marcos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graciones ciudadanías comunitarias e integración sub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áusulas democráticas y su impacto en los acue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ácter intergubernamental o supranacional de los procesos deciso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COYUN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 las hipotecas “subprime” y la racionalidad microeconómica de los bancos de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en el orden financiero y comercial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alidad microeconómica de las ET, versus racionalidad macropolítica de los gobier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tamiento regulador frente a las ET. El caso de la UE y su tribunal de just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COYUNTURAS) Y SU IMPACTO EN 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América Central y el Caribe Ins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Sudamé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en de situaciones diferenci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ESTRUC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ema del medioambiente: calentamiento global, “carbonización” insosteni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coyuntural en USA sobre la crisis estructural  tanto económica  (déficit fiscal estadounidense y restricciones en la búsqueda de energías limpias) como social (bienes púb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entabilidad problemática del desarrollo chino con base en energías “suc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ESTRUCTURAS) Y SU IMPACTO EN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sición periférica de América Latina tanto frente a los centros como a los emergentes asi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ransformación tecnoeconómica de largo plazo hacia fuentes de energías limp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previsible sobre las estructuras productivas de América Latina. Heterogeneidad estructural y fuentes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C4D-517F-4885-B855-E0436318E4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ceso de globalización económica y la economía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tecnológico de la producción glob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institucional de la globalización 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mpacto de la globalización económica sobre las instituciones económica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enso de Wash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,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internacion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uctu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glas técnicas e institucionales del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ores políticos centrales, periféricos y emergentes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ncha o campo de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ategias y táct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as individuales y conjun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transnacional, dimensiones ambientales, culturales, políticas y económicas “inform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transnacional “formal”. Estructuras (reglas técnicas e intergubernamentales), las corporaciones transnacionales (jugadores protagónicos), posiciones de poder, estrategias y tácticas (jugadas), los espacios transnacionales (campo o cancha de jueg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global, suma del sistema internacional (jugadores políticos) y del sistema transnacional (jugadores económ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l protagónico de las empresas transnacionales ET en el sistema económico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jas estratégicas de las ET, (de propiedad tecnológica, de localización, de internal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ET Y LOS GRANDES PAÍSES EMER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íses asiáticos y sus estrategias de desarrollo export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china: aspectos sociopolíticos, y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amórfosis potencial, de país emergente a centro económic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China en el comerci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MÉRICA LATINA: SUD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T, y sus estrategias de captación de mercados en el ámbito de los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esencia de China y su demanda de productos primarios (cobre, petróleo, soj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términos de intercambio: un nuevo contexto histó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ición primario exportadora de Sudamérica. Situación especial de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LC:MÉXICO, CENTRO 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nas francas maquila, paraísos fiscales, y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México, antes y después del estrechamiento de las relaciones China-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los centros occid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AL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egración regional en América: Procesos Tipos y Tend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ciente participación activa d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liferación de TLC entre ciertos país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ación (MERCOSUR) o reformulación (CAN, MCCA, CARICOM) de Acuerdos Sub-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vergencias fraccionamientos y nuevas iniciativas (UNASUR, AL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1:10Z</dcterms:created>
  <dc:creator>Armando</dc:creator>
  <dc:description/>
  <dc:language>en-US</dc:language>
  <cp:lastModifiedBy>adifilippo</cp:lastModifiedBy>
  <dcterms:modified xsi:type="dcterms:W3CDTF">2009-09-14T19:51:46Z</dcterms:modified>
  <cp:revision>13</cp:revision>
  <dc:subject/>
  <dc:title>Diapositiva 1</dc:title>
</cp:coreProperties>
</file>