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D212-C227-4A44-BD24-875D037E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75C9-0F2C-4377-9ED4-812E86CF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9A06-4346-4766-B7F5-052CC828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154B-8337-4397-B345-42EBE694D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9A38-C797-41FA-BA02-9B1FE79F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DF89-4B8F-447D-8143-3D00178F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9F65-800B-46F6-8FC3-25FD2982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761-16B7-433D-A674-C7E8A14C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3B78-D8ED-484B-A2CF-4F334682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3F8B-1025-40DC-A31A-6C59DC0A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93A0-8B4C-4C39-BC1A-330D2C5A1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256A-6421-43F7-81AE-41671B06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5235-7C52-4026-A152-F497ECEC9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492360" y="-7012080"/>
            <a:ext cx="16190640" cy="2176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 Chile este período va de 1810 a 1830 con dos etap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1.- la Guerra por la Independencia. 1810-1814  1814-1817 1818 - 18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2.- Formación del Est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Causas y motivaciones de la Independencia similares a las vistas con Argenti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proceso político lo resumiremos al final de la se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el campo económico con el objeto de atraer capitales e inversion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dicta en 1811 un tratado de Libre Comercio q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Aumenta puertos abiertos a cuatro (valdivia, Talcahuano, Valparaíso y Coquimb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Baja el arancel de Importación a 30%, liberando a las armas, libros, imprentas maquinaria industr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Incentiva el cabotaje nacional con arancel diferenciado 10% a nacionales y 20% a extranje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prohíbe exportación de plata y oro en lingotes sólo acuñ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imita el comercio al detalle a los 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os extranjeros fundamentalmente británicos son dueños de los grandes almacenes y del comercio ex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términos generales pretendía ser un programa proteccionista y estimulador de la industria nacional, pero dichas medidas fueron superadas por el estímulo al comercio exter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Declarada la Independencia se cierra el comercio con Perú, afectando las exportaciones en particular las agrícolas y las importaciones con su efecto en el nivel de vi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s en la década del 20 que se restablece el comercio pero ya con Europa, Inglaterra y Francia y con Estados Uni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e crea una gran oferta de productos manufacturados importados, el establecimiento de grandes comerciantes ingleses en Valparaíso y junto con ello la asfixia de todo intento de desarrollar industria nacional incapaz de competir  con las grandes potenc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agricultura pierde importancia en esta época muy afectada por la guerra y por la carencia de mano de obra derivada del conflic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Sólo se recuperará en la segunda mitad del siglo  producto de acontecimientos exter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n este período, el campo se desorganiza y se abandonan tier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n la minería, se produjo la llegada de nuevos empresarios que aportaron su conocimiento básicamente comercial del negocio. Hubo algunos adelantos técnicos menores y de poca significación para la produc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Se descubrieron dos nuevos yacimientos de pl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n el caso del cobre, el aumento de la demanda mundial provocó el interés de compañías británicas por su explotación, esta casi fracasó por la diferencia de remuneraciones con los nacion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ste fue el primer intento conocido de extraer cobre por empresas extranje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gasto bélico presionó durante hasta 1826 el presupuesto nacional, se aumentó el número de soldados y la producción e importación de equip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aumento de los ingresos fiscales tuvo como fuen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1.- el aumento de los impuestos ordinarios y creación de 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2.- las contribuciones forzo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3.- contribuciones voluntari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servicio de la deuda equivalía a la mitad del presupue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Se consigue el primer préstamo internacional en 1822 con un banco ing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a imposibilidad de cancelar las cuotas hace que se licite el estanco del Tabaco a Portales y Cía. Quien fracasa en este objetivo y debe liquidar el contrato, de aquí viene el nombre de Estanqueros a los adherentes a Port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 (4)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n la búqueda de un modelo económico se produce una extranjerización de la economía , el comercio es tomado por los ingleses a 1825 se cree que había 3000 de ellos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atraso en las técnicas comerciales, la partida doble se aplica desde 1885, el desconocimiento de las letras de cambio, la ausencia de bancos y de modelos legales para formar sociedades, provocaron este retraso y perdida de pod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s así como ganada la independencia, el Estado  tiene un activo papel como determinador de impuestos mantención de situaciones monopólicas y leyes de privileg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Una ley en 1840 protege la producción de bienes manufacturados dando el monopolio al empresario favorec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sto se produce en un ambiente de cierta confusión en que se es liberal en algunas cuestiones y proteccionista en ot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Conviene señalar que el período 1830  1860 va a ser de un extraordinario crecimiento del comercio mund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Formación del Estado 1810 – 1830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Al final de este período se produce un aumento significativo de la demanda por cobre el cual luego de corregirse el impuesto a la exportación se empieza a convertir en producto de export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En este caso se incorpora un avance tecnológico ( nuevos Hornos) que permiten  fundir minerales que en el sistema antiguo se desprecia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23:05:47Z</dcterms:created>
  <dc:creator>CASA</dc:creator>
  <dc:description/>
  <dc:language>en-US</dc:language>
  <cp:lastModifiedBy>CASA</cp:lastModifiedBy>
  <dcterms:modified xsi:type="dcterms:W3CDTF">2009-08-30T23:08:41Z</dcterms:modified>
  <cp:revision>1</cp:revision>
  <dc:subject/>
  <dc:title>Diapositiva 1</dc:title>
</cp:coreProperties>
</file>