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76FD5-8A9A-4293-A880-8BFA8C5E1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22DC4-5D95-4D09-A4F1-66840DDA0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190A3-5F01-4D36-BAA3-73C3930F2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E9A0E-766A-431A-B87B-D11284EAE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AF714-7F55-4AFD-8666-9FCF8295E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8DB0A-D3F7-4861-893B-F1F56D2AF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03AAB-B3B9-47E5-AE1B-D999E76BC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3E909-093F-495E-BD55-B021E9127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23B9A-EBAD-4901-BE05-ED506DF3A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447A9-0CCF-4914-9C62-9E1D29883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F2858-EAB4-47FD-B6F2-CDD1D39C5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12BAD-101B-49F7-BFA7-0321520D9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7F1E-8EF6-45ED-8CE2-021A9BA0EC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2" name="PlaceHolder 2"/>
          <p:cNvSpPr>
            <a:spLocks noGrp="1"/>
          </p:cNvSpPr>
          <p:nvPr>
            <p:ph type="subTitle"/>
          </p:nvPr>
        </p:nvSpPr>
        <p:spPr>
          <a:xfrm>
            <a:off x="684000" y="765000"/>
            <a:ext cx="7848360" cy="5400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rgentina pone fin a su etapa de industrialización hacia adentro  en 1976.</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Golpe militar a Isabel Perón.</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1" lang="es-ES_tradnl" sz="1800" spc="-1" strike="noStrike">
                <a:solidFill>
                  <a:srgbClr val="333399"/>
                </a:solidFill>
                <a:latin typeface="Arial"/>
              </a:rPr>
              <a:t>Proceso de Globalización  se acelera en la década del 70.</a:t>
            </a:r>
            <a:r>
              <a:rPr b="0" lang="es-ES_tradnl" sz="1800" spc="-1" strike="noStrike">
                <a:solidFill>
                  <a:srgbClr val="333399"/>
                </a:solidFill>
                <a:latin typeface="Arial"/>
              </a:rPr>
              <a:t> </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Sus características fueron:</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1" lang="es-ES_tradnl" sz="1800" spc="-1" strike="noStrike">
                <a:solidFill>
                  <a:srgbClr val="333399"/>
                </a:solidFill>
                <a:latin typeface="Arial"/>
              </a:rPr>
              <a:t>Aumento del comercio internacional</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roducción comercializada aumenta del 10% en 1945 a 20% en 1970.</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aja participación de productos primarios  y aumenta la con mayor valor        </a:t>
            </a:r>
            <a:r>
              <a:rPr b="0" lang="es-ES_tradnl" sz="1800" spc="-1" strike="noStrike">
                <a:solidFill>
                  <a:srgbClr val="333399"/>
                </a:solidFill>
                <a:latin typeface="Arial"/>
              </a:rPr>
              <a:t>	</a:t>
            </a:r>
            <a:r>
              <a:rPr b="0" lang="es-ES_tradnl" sz="1800" spc="-1" strike="noStrike">
                <a:solidFill>
                  <a:srgbClr val="333399"/>
                </a:solidFill>
                <a:latin typeface="Arial"/>
              </a:rPr>
              <a:t>agregado y tecnologí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Movimiento de capitales internacionales crecen en forma extraordinaria </a:t>
            </a:r>
            <a:r>
              <a:rPr b="0" lang="es-ES_tradnl" sz="1800" spc="-1" strike="noStrike">
                <a:solidFill>
                  <a:srgbClr val="333399"/>
                </a:solidFill>
                <a:latin typeface="Arial"/>
              </a:rPr>
              <a:t>	</a:t>
            </a:r>
            <a:r>
              <a:rPr b="0" lang="es-ES_tradnl" sz="1800" spc="-1" strike="noStrike">
                <a:solidFill>
                  <a:srgbClr val="333399"/>
                </a:solidFill>
                <a:latin typeface="Arial"/>
              </a:rPr>
              <a:t>por el incremento de la liquidez internacional, debida al superávit </a:t>
            </a:r>
            <a:r>
              <a:rPr b="0" lang="es-ES_tradnl" sz="1800" spc="-1" strike="noStrike">
                <a:solidFill>
                  <a:srgbClr val="333399"/>
                </a:solidFill>
                <a:latin typeface="Arial"/>
              </a:rPr>
              <a:t>	</a:t>
            </a:r>
            <a:r>
              <a:rPr b="0" lang="es-ES_tradnl" sz="1800" spc="-1" strike="noStrike">
                <a:solidFill>
                  <a:srgbClr val="333399"/>
                </a:solidFill>
                <a:latin typeface="Arial"/>
              </a:rPr>
              <a:t>de los países exportadores de petróleo y el déficit de US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Efecto para los países en desarrollo fue provocar niveles de </a:t>
            </a:r>
            <a:r>
              <a:rPr b="0" lang="es-ES_tradnl" sz="1800" spc="-1" strike="noStrike">
                <a:solidFill>
                  <a:srgbClr val="333399"/>
                </a:solidFill>
                <a:latin typeface="Arial"/>
              </a:rPr>
              <a:t>	</a:t>
            </a:r>
            <a:r>
              <a:rPr b="0" lang="es-ES_tradnl" sz="1800" spc="-1" strike="noStrike">
                <a:solidFill>
                  <a:srgbClr val="333399"/>
                </a:solidFill>
                <a:latin typeface="Arial"/>
              </a:rPr>
              <a:t>endeudamiento que afectaron los equilibrios macroeconómicos: </a:t>
            </a:r>
            <a:r>
              <a:rPr b="0" lang="es-ES_tradnl" sz="1800" spc="-1" strike="noStrike">
                <a:solidFill>
                  <a:srgbClr val="333399"/>
                </a:solidFill>
                <a:latin typeface="Arial"/>
              </a:rPr>
              <a:t>	</a:t>
            </a:r>
            <a:r>
              <a:rPr b="1" lang="es-ES_tradnl" sz="1800" spc="-1" strike="noStrike">
                <a:solidFill>
                  <a:srgbClr val="333399"/>
                </a:solidFill>
                <a:latin typeface="Arial"/>
              </a:rPr>
              <a:t>Crisis de la deuda en Latinoaméric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Disminución de la participación de A. Latina</a:t>
            </a:r>
            <a:r>
              <a:rPr b="0" lang="es-ES_tradnl" sz="1800" spc="-1" strike="noStrike">
                <a:solidFill>
                  <a:srgbClr val="333399"/>
                </a:solidFill>
                <a:latin typeface="Arial"/>
              </a:rPr>
              <a:t> en exportaciones del 10% </a:t>
            </a:r>
            <a:r>
              <a:rPr b="0" lang="es-ES_tradnl" sz="1800" spc="-1" strike="noStrike">
                <a:solidFill>
                  <a:srgbClr val="333399"/>
                </a:solidFill>
                <a:latin typeface="Arial"/>
              </a:rPr>
              <a:t>	</a:t>
            </a:r>
            <a:r>
              <a:rPr b="0" lang="es-ES_tradnl" sz="1800" spc="-1" strike="noStrike">
                <a:solidFill>
                  <a:srgbClr val="333399"/>
                </a:solidFill>
                <a:latin typeface="Arial"/>
              </a:rPr>
              <a:t>en 1950 a 5% en 19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4" name="PlaceHolder 2"/>
          <p:cNvSpPr>
            <a:spLocks noGrp="1"/>
          </p:cNvSpPr>
          <p:nvPr>
            <p:ph/>
          </p:nvPr>
        </p:nvSpPr>
        <p:spPr>
          <a:xfrm>
            <a:off x="457200" y="620280"/>
            <a:ext cx="8229600" cy="6048360"/>
          </a:xfrm>
          <a:prstGeom prst="rect">
            <a:avLst/>
          </a:prstGeom>
          <a:noFill/>
          <a:ln w="0">
            <a:noFill/>
          </a:ln>
        </p:spPr>
        <p:txBody>
          <a:bodyPr lIns="90000" rIns="90000" tIns="46800" bIns="46800" anchor="t">
            <a:normAutofit fontScale="99000"/>
          </a:bodyPr>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Aumento de la brecha entre PIB por habitante</a:t>
            </a:r>
            <a:r>
              <a:rPr b="0" lang="es-ES_tradnl" sz="1800" spc="-1" strike="noStrike">
                <a:solidFill>
                  <a:srgbClr val="333399"/>
                </a:solidFill>
                <a:latin typeface="Arial"/>
              </a:rPr>
              <a:t> de países desarrollados y de A. Latina de 1:2 a 1: 4,5</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Un importante detonante del cambio de paradigma fue el </a:t>
            </a:r>
            <a:r>
              <a:rPr b="1" lang="es-ES_tradnl" sz="1800" spc="-1" strike="noStrike">
                <a:solidFill>
                  <a:srgbClr val="333399"/>
                </a:solidFill>
                <a:latin typeface="Arial"/>
              </a:rPr>
              <a:t>aumento en el precio del petróleo</a:t>
            </a:r>
            <a:r>
              <a:rPr b="0" lang="es-ES_tradnl" sz="1800" spc="-1" strike="noStrike">
                <a:solidFill>
                  <a:srgbClr val="333399"/>
                </a:solidFill>
                <a:latin typeface="Arial"/>
              </a:rPr>
              <a:t> de 3 13 dólares en 1973, a 34 dólares en 1978 y a 42 en 1980.produciendo presión inflacionaria y transferencia de recurs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Globalización incluye dimensión ideológico-política y receta económica</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Consenso de Washington)</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cambio en Argentina, sus causa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flación descontrolada: 1.000% 1976.</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capacidad del sistema  político de asegurar orden público.</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lapso de la densidad nacional.</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lo económico: la presencia estatal, el proteccionismo, la inflación y el poder de los sindicat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rimer plan Económico 76-81:</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pertura de la economía.</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forma financiera, libre determinación de la tasa de interés y capitales foráne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ohibición de actividades gremiales y del derecho a huelga. </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6"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olítica cambiaria: devaluación y cambio fij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Venta de empresas estatales. El 70% de las empresas industriales se privatiza en 1981.</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derrumbe.</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partir de 1980 aumenta la tasa de interés internacional y el servicio de la deud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risis por retiro de garantía oficial sobre depósitos quiebran bancos, crisis de confianza, fuga de capitales:  20.000 millones  de dólare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medio e este proceso , surge la invasión a las Malvina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e el régimen.</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IB por habitante 20% inferior en 1983 a 1975</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flación no menor al 100% anual.</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terioro en la distribución del ingreso baja participación de asalariados de 45% a 26%.</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uda externa aumenta de 8 a 45.000 millones en 1983, equivalente a6 veces valor de exportaciones anuale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trega del gobierno de militares tiene explicación por resultado en Malvina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8" name="PlaceHolder 2"/>
          <p:cNvSpPr>
            <a:spLocks noGrp="1"/>
          </p:cNvSpPr>
          <p:nvPr>
            <p:ph/>
          </p:nvPr>
        </p:nvSpPr>
        <p:spPr>
          <a:xfrm>
            <a:off x="457200" y="620280"/>
            <a:ext cx="8229600" cy="597708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Vuelve la Democraci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Radical.</a:t>
            </a:r>
            <a:r>
              <a:rPr b="0" lang="es-ES_tradnl" sz="1800" spc="-1" strike="noStrike">
                <a:solidFill>
                  <a:srgbClr val="333399"/>
                </a:solidFill>
                <a:latin typeface="Arial"/>
              </a:rPr>
              <a:t> (83 -89) Obje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omponer unidad nacional</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uperar la democraci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solver problemas económic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tuación heredada es caótica el escollo principal era la deuda externa y su servic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gobierno no logra reestablecer equilibrios macroeconómicos, distintos planes como Austral y Primavera no dan resultados posi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Peronista. (89-2001) Obje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volución productiv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Transformación económic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uperar poder adquisitivo de trabajador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Cambio de plan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pertura de la economí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vatización de empresa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0" name="PlaceHolder 2"/>
          <p:cNvSpPr>
            <a:spLocks noGrp="1"/>
          </p:cNvSpPr>
          <p:nvPr>
            <p:ph/>
          </p:nvPr>
        </p:nvSpPr>
        <p:spPr>
          <a:xfrm>
            <a:off x="457200" y="692280"/>
            <a:ext cx="8229600" cy="5905440"/>
          </a:xfrm>
          <a:prstGeom prst="rect">
            <a:avLst/>
          </a:prstGeom>
          <a:noFill/>
          <a:ln w="0">
            <a:noFill/>
          </a:ln>
        </p:spPr>
        <p:txBody>
          <a:bodyPr lIns="90000" rIns="90000" tIns="46800" bIns="46800" anchor="t">
            <a:normAutofit/>
          </a:bodyPr>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forma del Estad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sregulación de mercados</a:t>
            </a:r>
            <a:r>
              <a:rPr b="0" lang="es-ES" sz="1800" spc="-1" strike="noStrike">
                <a:solidFill>
                  <a:srgbClr val="333399"/>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lan Bonex</a:t>
            </a:r>
            <a:r>
              <a:rPr b="0" lang="es-ES_tradnl" sz="1800" spc="-1" strike="noStrike">
                <a:solidFill>
                  <a:srgbClr val="333399"/>
                </a:solidFill>
                <a:latin typeface="Arial"/>
              </a:rPr>
              <a:t> para frenar inflación depósitos a plazo y títulos de la deuda  se convierten en bonos en dólares a 10 años plaz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lan Brady</a:t>
            </a:r>
            <a:r>
              <a:rPr b="0" lang="es-ES_tradnl" sz="1800" spc="-1" strike="noStrike">
                <a:solidFill>
                  <a:srgbClr val="333399"/>
                </a:solidFill>
                <a:latin typeface="Arial"/>
              </a:rPr>
              <a:t>, reprograma a largo plazo intereses y capital deud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 dolariza la economía, frenando la inflación, equilibrio de cuentas externas, hasta la crisis de la deuda de Méxic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segundo período de Menem se produce el deterioro de las condiciones sociales, aumenta el desempleo, y los niveles de pobrez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de la Alianza contra la corrupción (presidente De La Ru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1999 asume nuevo gobierno la crisis se desata, se suspende pago de la deuda, colapsa el sistema bancario,  se contrae la economía. Presidente renuncia el 2001, presionado por cargos de corrupció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fin de siglo, Argentina sumida una vez más en crisis, poniendo fin a la época iniciada en 1976, habían pasado por el gobierno militares, radicales y peronista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2"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proceso de acumulación, propio del desarrollo, sufre una primera fractura con la interrupción de la institucionalidad en 1930.</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rrupción del modelo liberal en Argentinas es otra etapa de este proceso de fractura de la institucionalidad.</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partir de 1983 con la vuelta a la democracia se recupera la tradición democrática elección democrática de autoridades (Alfonsin hasta La actual Presidenta: Cristina Fernández.</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modelo neoliberal no interrumpe el proceso de desacumulación: Argentina exporta ahorro e importa deud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rgentina no encuentra los consensos necesarios para su sistema económico.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4"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ncipales resultad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IB de 1999 es similar al de 197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ctor industrial crece en el período a una tasa anual de 0.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articipación de la Industria en el PIB disminuye del 33% al 16%.</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isminuye participación del sector agropecuario del10% al 5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 duplican las exportaciones con el MERCOSUR como principal cliente.</a:t>
            </a: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distribución del Ingreso el 30% más pobre disminuye su participación de 11,1% en 1974 a 8,2% en 1999 y el 10% más rico lo aumenta de 28,2% a 36,2%.</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obreza que era de 18% en1983, sube a más del 50% en 2002.</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nflación logra controlarse en 1993 teniendo tasas de un dígito los años siguient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nversión que había sido en promedio de un 22% en la ISI , baja al 12% en este períod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oblación crece a 30 millones concentrándose en los sectores urbanos (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20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6"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racterísticas Política económica 2002 – adelante</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Tipo de cambio consistente con competitividad.</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Vuelta del Estado como garante en una economía de mercad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nsolidación de equilibrios macroeconómic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ducción progresiva del endeudamiento extern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eocupación por mantener demanda efectiva sin generar presiones inflacionaria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ncipales resultad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umento del PGB tasa de 8% anual promed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ída del desempleo al 10%</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obreza alcanza al 25% de la población.</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xportaciones crecen a US$  46.000 millones en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8900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Desafíos para el futuro</a:t>
            </a:r>
            <a:endParaRPr b="0" lang="en-US" sz="2400" spc="-1" strike="noStrike">
              <a:solidFill>
                <a:srgbClr val="000000"/>
              </a:solidFill>
              <a:latin typeface="Arial"/>
            </a:endParaRPr>
          </a:p>
        </p:txBody>
      </p:sp>
      <p:sp>
        <p:nvSpPr>
          <p:cNvPr id="58" name="PlaceHolder 2"/>
          <p:cNvSpPr>
            <a:spLocks noGrp="1"/>
          </p:cNvSpPr>
          <p:nvPr>
            <p:ph/>
          </p:nvPr>
        </p:nvSpPr>
        <p:spPr>
          <a:xfrm>
            <a:off x="468360" y="1052640"/>
            <a:ext cx="8229600" cy="500040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continúa descansando en la capacidad de los países de participar en la creación y difusión de conocimient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sigue siendo un proceso de transformación y acumulación de capital ,tecnología, capacidad de gestión, educación y estabilidad institucional.</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es acumulación en sentido ampl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 se interrumpe el proceso de acumulación los países pueden  retroced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a etapas muy anteriores. 1930 y 1976.</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orden global es una referencia para cada país, pero cada uno  debe buscar su forma propia de inserción.</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penderá este proceso del grado de integración de la sociedad, los liderazgos con estrategias de acumulación, la estabilidad institucional  de largo plaz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Estado no puede renunciar  a intervenir para poner en práctica las ideas de desarroll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16:36:58Z</dcterms:created>
  <dc:creator>.</dc:creator>
  <dc:description/>
  <dc:language>en-US</dc:language>
  <cp:lastModifiedBy>.</cp:lastModifiedBy>
  <dcterms:modified xsi:type="dcterms:W3CDTF">2009-11-12T16:46:14Z</dcterms:modified>
  <cp:revision>15</cp:revision>
  <dc:subject/>
  <dc:title>El modelo neoliberal: Argentina</dc:title>
</cp:coreProperties>
</file>