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64230-DEDE-4309-A896-7E685F056A8E}" type="slidenum">
              <a:rPr b="0" lang="es-MX"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1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7F26B-89C5-4192-956B-30AFCB16EBC5}"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007C0C-4A18-4FCD-914F-246B17789C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63CF75-86DC-4770-9D6D-BB941F9527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1B853F-3D0A-42BC-815B-B4FFCA8119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B8E138-6887-454B-9DEE-289E3BFB2B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B94DC5-A236-499E-9BBF-A1D9D27010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D3A8C5-B434-4579-9369-D089547557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D50514-7BA7-413A-9044-9EB36E6061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0952F6-C5C9-42CC-A7A9-8BC0CACCD6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3FBC68-3A70-4067-A369-B7B29CC58D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C6D87D-DA91-45D7-BBB7-5EE4277806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C1C24-C0A0-453D-AEFA-52D6E0F048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B7012-4E6B-4F2D-9020-C82FDBFE22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29280-A06F-4D62-9D5F-C97E04010D5B}" type="slidenum">
              <a:rPr b="0" lang="es-MX"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Calibri"/>
              </a:rPr>
              <a:t>Período de entreguerras y desarrollo estabilizador </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898989"/>
                </a:solidFill>
                <a:latin typeface="Calibri"/>
              </a:rPr>
              <a:t>1930-194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Calibri"/>
              </a:rPr>
              <a:t>Qué fue diferente…2</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Creación de una nueva institucionalidad y expansión de los instrumentos disponibles para el gobierno: </a:t>
            </a:r>
            <a:endParaRPr b="0" lang="en-US" sz="32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	</a:t>
            </a:r>
            <a:r>
              <a:rPr b="0" lang="es-MX" sz="2400" spc="-1" strike="noStrike">
                <a:solidFill>
                  <a:srgbClr val="000000"/>
                </a:solidFill>
                <a:latin typeface="Calibri"/>
              </a:rPr>
              <a:t>- Banco de México 1925, funciona como Banco Central a principios de los 30’s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 Banco Nacional de Crédito Agrícola (1926)</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 Banco Nacional Hipotecario Urbano y de Obras Públicas (1933)</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Consolidación de un Estado pro-desarrollo: Lázaro Cárdenas</a:t>
            </a:r>
            <a:endParaRPr b="0" lang="en-US" sz="40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Calibri"/>
              </a:rPr>
              <a:t>La forma en la que se supero la Depresión hizo evidente que el desarrollo económico requiere de un Estado con un rol más activo en la economía</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Calibri"/>
              </a:rPr>
              <a:t>Se reflejo en la política económica del presidente Lázaro Cárdenas (1934-1940)</a:t>
            </a:r>
            <a:endParaRPr b="0" lang="en-US" sz="26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Calibri"/>
              </a:rPr>
              <a:t>	</a:t>
            </a:r>
            <a:r>
              <a:rPr b="0" lang="es-MX" sz="1700" spc="-1" strike="noStrike">
                <a:solidFill>
                  <a:srgbClr val="000000"/>
                </a:solidFill>
                <a:latin typeface="Calibri"/>
              </a:rPr>
              <a:t>- Plan Sexenal: plan de acción por 6 años y compromiso de desarrollar políticas  que requerían inversiones en agricultura, industria e infraestructura y en desarrollo social.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Calibri"/>
              </a:rPr>
              <a:t>	</a:t>
            </a:r>
            <a:r>
              <a:rPr b="0" lang="es-MX" sz="1700" spc="-1" strike="noStrike">
                <a:solidFill>
                  <a:srgbClr val="000000"/>
                </a:solidFill>
                <a:latin typeface="Calibri"/>
              </a:rPr>
              <a:t>- Nueva institucionalidad: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Calibri"/>
              </a:rPr>
              <a:t>	</a:t>
            </a:r>
            <a:r>
              <a:rPr b="0" lang="es-MX" sz="1700" spc="-1" strike="noStrike">
                <a:solidFill>
                  <a:srgbClr val="000000"/>
                </a:solidFill>
                <a:latin typeface="Calibri"/>
              </a:rPr>
              <a:t>	</a:t>
            </a:r>
            <a:r>
              <a:rPr b="0" lang="es-MX" sz="1700" spc="-1" strike="noStrike">
                <a:solidFill>
                  <a:srgbClr val="000000"/>
                </a:solidFill>
                <a:latin typeface="Calibri"/>
              </a:rPr>
              <a:t>Banco Nacional de Crédito Ejidal (1935)</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Calibri"/>
              </a:rPr>
              <a:t>	</a:t>
            </a:r>
            <a:r>
              <a:rPr b="0" lang="es-MX" sz="1700" spc="-1" strike="noStrike">
                <a:solidFill>
                  <a:srgbClr val="000000"/>
                </a:solidFill>
                <a:latin typeface="Calibri"/>
              </a:rPr>
              <a:t>	</a:t>
            </a:r>
            <a:r>
              <a:rPr b="0" lang="es-MX" sz="1700" spc="-1" strike="noStrike">
                <a:solidFill>
                  <a:srgbClr val="000000"/>
                </a:solidFill>
                <a:latin typeface="Calibri"/>
              </a:rPr>
              <a:t>Banco Nacional de Comercio Exterior (1937)</a:t>
            </a:r>
            <a:endParaRPr b="0" lang="en-US" sz="17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Calibri"/>
              </a:rPr>
              <a:t>Consolidación de un Estado pro-desarrollo en el sentido de tener como uno de sus objetivos principales el aumento del bienestar social y contar con la autonomía y recursos para tener una política económica coherente</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0" y="70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Consolidación de un Estado pro-desarrollo: Lázaro Cárdenas…2</a:t>
            </a:r>
            <a:endParaRPr b="0" lang="en-US" sz="4000" spc="-1" strike="noStrike">
              <a:solidFill>
                <a:srgbClr val="000000"/>
              </a:solidFill>
              <a:latin typeface="Calibri"/>
            </a:endParaRPr>
          </a:p>
        </p:txBody>
      </p:sp>
      <p:sp>
        <p:nvSpPr>
          <p:cNvPr id="75" name=""/>
          <p:cNvSpPr txBox="1"/>
          <p:nvPr/>
        </p:nvSpPr>
        <p:spPr>
          <a:xfrm>
            <a:off x="485640" y="1285560"/>
            <a:ext cx="8229600" cy="50720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Implementación a gran escala de la reforma agraria en todo el territorio. </a:t>
            </a:r>
            <a:endParaRPr b="0" lang="en-US" sz="2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	</a:t>
            </a:r>
            <a:r>
              <a:rPr b="0" lang="es-MX" sz="1800" spc="-1" strike="noStrike">
                <a:solidFill>
                  <a:srgbClr val="000000"/>
                </a:solidFill>
                <a:latin typeface="Calibri"/>
              </a:rPr>
              <a:t>- Entre 1925 y 1934 11.6 millones de hectáreas distribuidas, en los 6 años de gobierno de Cárdenas se distribuyeron 18.8 millones de has. a más de 700,000 campesinos.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a:t>
            </a:r>
            <a:r>
              <a:rPr b="0" lang="es-MX" sz="1800" spc="-1" strike="noStrike">
                <a:solidFill>
                  <a:srgbClr val="000000"/>
                </a:solidFill>
                <a:latin typeface="Calibri"/>
              </a:rPr>
              <a:t>- En 1940 los ejidos representaban la mitad de la tierra cultivable (en 1930 sólo el 13%) y la mitad de la población rural se encontraba en los ejidos.</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a:t>
            </a:r>
            <a:r>
              <a:rPr b="0" lang="es-MX" sz="1800" spc="-1" strike="noStrike">
                <a:solidFill>
                  <a:srgbClr val="000000"/>
                </a:solidFill>
                <a:latin typeface="Calibri"/>
              </a:rPr>
              <a:t>- La población de las haciendas se redujo de 3 millones en 1910 a 800,000 en 1940.  </a:t>
            </a:r>
            <a:endParaRPr b="0" lang="en-US" sz="1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Nacionalización de la industria petrolera</a:t>
            </a:r>
            <a:endParaRPr b="0" lang="en-US" sz="2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	</a:t>
            </a:r>
            <a:r>
              <a:rPr b="0" lang="es-MX" sz="1800" spc="-1" strike="noStrike">
                <a:solidFill>
                  <a:srgbClr val="000000"/>
                </a:solidFill>
                <a:latin typeface="Calibri"/>
              </a:rPr>
              <a:t>- Antecedentes: disputas sobre la distribución de la renta petrolera y disputas laborales (mexicanización de la fuerza de trabajo, incremento de los salarios y beneficios sociales, semanas laborales de 40 horas).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a:t>
            </a:r>
            <a:r>
              <a:rPr b="0" lang="es-MX" sz="1800" spc="-1" strike="noStrike">
                <a:solidFill>
                  <a:srgbClr val="000000"/>
                </a:solidFill>
                <a:latin typeface="Calibri"/>
              </a:rPr>
              <a:t>- El caso  fue llevado a la Suprema Corte que falló en contra de las compañías petroleras.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0" y="70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Consolidación de un Estado pro-desarrollo: Lázaro Cárdenas…3</a:t>
            </a:r>
            <a:endParaRPr b="0" lang="en-US" sz="4000" spc="-1" strike="noStrike">
              <a:solidFill>
                <a:srgbClr val="000000"/>
              </a:solidFill>
              <a:latin typeface="Calibri"/>
            </a:endParaRPr>
          </a:p>
        </p:txBody>
      </p:sp>
      <p:sp>
        <p:nvSpPr>
          <p:cNvPr id="77" name=""/>
          <p:cNvSpPr txBox="1"/>
          <p:nvPr/>
        </p:nvSpPr>
        <p:spPr>
          <a:xfrm>
            <a:off x="485640" y="1285560"/>
            <a:ext cx="8229600" cy="50720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Gasto público per capita creció en 41%  sobre el promedio del sexenio anterior. </a:t>
            </a:r>
            <a:endParaRPr b="0" lang="en-US" sz="2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	</a:t>
            </a:r>
            <a:r>
              <a:rPr b="0" lang="es-MX" sz="1800" spc="-1" strike="noStrike">
                <a:solidFill>
                  <a:srgbClr val="000000"/>
                </a:solidFill>
                <a:latin typeface="Calibri"/>
              </a:rPr>
              <a:t>- Reducción en gastos militares y administrativos del 60 al 44% del total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a:t>
            </a:r>
            <a:r>
              <a:rPr b="0" lang="es-MX" sz="1800" spc="-1" strike="noStrike">
                <a:solidFill>
                  <a:srgbClr val="000000"/>
                </a:solidFill>
                <a:latin typeface="Calibri"/>
              </a:rPr>
              <a:t>- Gasto público social del 15 al 18%</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a:t>
            </a:r>
            <a:r>
              <a:rPr b="0" lang="es-MX" sz="1800" spc="-1" strike="noStrike">
                <a:solidFill>
                  <a:srgbClr val="000000"/>
                </a:solidFill>
                <a:latin typeface="Calibri"/>
              </a:rPr>
              <a:t>- Gasto público económico del 25 al 38%</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0" y="70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Calibri"/>
              </a:rPr>
              <a:t>México entre 1910 y 1940</a:t>
            </a:r>
            <a:endParaRPr b="0" lang="en-US" sz="4400" spc="-1" strike="noStrike">
              <a:solidFill>
                <a:srgbClr val="000000"/>
              </a:solidFill>
              <a:latin typeface="Calibri"/>
            </a:endParaRPr>
          </a:p>
        </p:txBody>
      </p:sp>
      <p:sp>
        <p:nvSpPr>
          <p:cNvPr id="79" name=""/>
          <p:cNvSpPr txBox="1"/>
          <p:nvPr/>
        </p:nvSpPr>
        <p:spPr>
          <a:xfrm>
            <a:off x="485640" y="1928520"/>
            <a:ext cx="8229600" cy="3429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Fuerza de trabajo rural, pero la población urbana creció en 58%</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Tasa de analfabetismo paso del 78% al 58%</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Profesores rurales de no existir en 1910 a 20,000 en 1940</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Esperanza de vida al nacer paso de 27.6 a 38.8 año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0" y="70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Época de oro de la industrialización      1940-1970</a:t>
            </a:r>
            <a:endParaRPr b="0" lang="en-US" sz="4000" spc="-1" strike="noStrike">
              <a:solidFill>
                <a:srgbClr val="000000"/>
              </a:solidFill>
              <a:latin typeface="Calibri"/>
            </a:endParaRPr>
          </a:p>
        </p:txBody>
      </p:sp>
      <p:sp>
        <p:nvSpPr>
          <p:cNvPr id="81" name=""/>
          <p:cNvSpPr txBox="1"/>
          <p:nvPr/>
        </p:nvSpPr>
        <p:spPr>
          <a:xfrm>
            <a:off x="485640" y="1928520"/>
            <a:ext cx="8229600" cy="2500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Ya se había llegado a la convicción de que el Estado debía jugar un parel activo en la inversión y la producción si se quería crecer</a:t>
            </a:r>
            <a:endParaRPr b="0" lang="en-US" sz="24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	</a:t>
            </a:r>
            <a:r>
              <a:rPr b="0" lang="es-MX" sz="2000" spc="-1" strike="noStrike">
                <a:solidFill>
                  <a:srgbClr val="000000"/>
                </a:solidFill>
                <a:latin typeface="Calibri"/>
              </a:rPr>
              <a:t>- controlaba recursos fundamentales de la economía</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a:t>
            </a:r>
            <a:r>
              <a:rPr b="0" lang="es-MX" sz="2000" spc="-1" strike="noStrike">
                <a:solidFill>
                  <a:srgbClr val="000000"/>
                </a:solidFill>
                <a:latin typeface="Calibri"/>
              </a:rPr>
              <a:t>- había incrementado el número de instrumentos de política con los que contaba el gobierno.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70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Época de oro de la industrialización      1940-1970…Resultados</a:t>
            </a:r>
            <a:endParaRPr b="0" lang="en-US" sz="4000" spc="-1" strike="noStrike">
              <a:solidFill>
                <a:srgbClr val="000000"/>
              </a:solidFill>
              <a:latin typeface="Calibri"/>
            </a:endParaRPr>
          </a:p>
        </p:txBody>
      </p:sp>
      <p:graphicFrame>
        <p:nvGraphicFramePr>
          <p:cNvPr id="83" name=""/>
          <p:cNvGraphicFramePr/>
          <p:nvPr/>
        </p:nvGraphicFramePr>
        <p:xfrm>
          <a:off x="714240" y="1285920"/>
          <a:ext cx="7500960" cy="5237280"/>
        </p:xfrm>
        <a:graphic>
          <a:graphicData uri="http://schemas.openxmlformats.org/drawingml/2006/table">
            <a:tbl>
              <a:tblPr/>
              <a:tblGrid>
                <a:gridCol w="2714760"/>
                <a:gridCol w="478620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Concepto</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d89a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Resultado</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d89a4"/>
                    </a:solidFill>
                  </a:tcPr>
                </a:tc>
              </a:tr>
              <a:tr h="368280">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Transformación radical de la sociedad</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dae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Crecimiento económico</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f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Crecimiento sostenido a un ritmo de 6.4% en términos reales (PIB)</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a:t>
                      </a:r>
                      <a:r>
                        <a:rPr b="0" lang="es-MX" sz="1800" spc="-1" strike="noStrike">
                          <a:solidFill>
                            <a:srgbClr val="000000"/>
                          </a:solidFill>
                          <a:latin typeface="Calibri"/>
                        </a:rPr>
                        <a:t>PIB per capita: 3.2%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f0"/>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Crecimiento manufactur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da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Clave del crecimiento del período 8.2% anua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dae0"/>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Población urban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f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Transformación de una sociedad agraria a una urbana semi-industrial: población urbana de 35% a 58%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f0"/>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Tasa de inversión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da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Paso del 8.6% del PIB al 20%</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Inversión privada de 5% a 1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dae0"/>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Años de escolaridad</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f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De 2.6 a 3.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f0"/>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Esperanza de vida al nace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da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Llegó a los 61 año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dae0"/>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Fuente de crecimiento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f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La mayor parte del período se debió a la dinámica del mercado doméstico como mayor fuente de demand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f0"/>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0" y="70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Estrategia general de política económica</a:t>
            </a:r>
            <a:endParaRPr b="0" lang="en-US" sz="4000" spc="-1" strike="noStrike">
              <a:solidFill>
                <a:srgbClr val="000000"/>
              </a:solidFill>
              <a:latin typeface="Calibri"/>
            </a:endParaRPr>
          </a:p>
        </p:txBody>
      </p:sp>
      <p:pic>
        <p:nvPicPr>
          <p:cNvPr id="85" name="Table 4" descr=""/>
          <p:cNvPicPr/>
          <p:nvPr/>
        </p:nvPicPr>
        <p:blipFill>
          <a:blip r:embed="rId1"/>
          <a:stretch/>
        </p:blipFill>
        <p:spPr>
          <a:xfrm>
            <a:off x="639720" y="1639800"/>
            <a:ext cx="8077320" cy="4291200"/>
          </a:xfrm>
          <a:prstGeom prst="rect">
            <a:avLst/>
          </a:prstGeom>
          <a:ln w="0">
            <a:noFill/>
          </a:ln>
        </p:spPr>
      </p:pic>
      <p:sp>
        <p:nvSpPr>
          <p:cNvPr id="86" name=""/>
          <p:cNvSpPr txBox="1"/>
          <p:nvPr/>
        </p:nvSpPr>
        <p:spPr>
          <a:xfrm>
            <a:off x="485640" y="1000080"/>
            <a:ext cx="8229600" cy="5716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Objetivo central de la política económica: industrialización </a:t>
            </a:r>
            <a:r>
              <a:rPr b="0" lang="es-MX" sz="2000" spc="-1" strike="noStrike">
                <a:solidFill>
                  <a:srgbClr val="000000"/>
                </a:solidFill>
                <a:latin typeface="Calibri"/>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70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Estrategia general de política económica…2</a:t>
            </a:r>
            <a:endParaRPr b="0" lang="en-US" sz="4000" spc="-1" strike="noStrike">
              <a:solidFill>
                <a:srgbClr val="000000"/>
              </a:solidFill>
              <a:latin typeface="Calibri"/>
            </a:endParaRPr>
          </a:p>
        </p:txBody>
      </p:sp>
      <p:pic>
        <p:nvPicPr>
          <p:cNvPr id="88" name="Table 4" descr=""/>
          <p:cNvPicPr/>
          <p:nvPr/>
        </p:nvPicPr>
        <p:blipFill>
          <a:blip r:embed="rId1"/>
          <a:stretch/>
        </p:blipFill>
        <p:spPr>
          <a:xfrm>
            <a:off x="639720" y="1219320"/>
            <a:ext cx="8077320" cy="4925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70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Estrategia general de política económica…3</a:t>
            </a:r>
            <a:endParaRPr b="0" lang="en-US" sz="4000" spc="-1" strike="noStrike">
              <a:solidFill>
                <a:srgbClr val="000000"/>
              </a:solidFill>
              <a:latin typeface="Calibri"/>
            </a:endParaRPr>
          </a:p>
        </p:txBody>
      </p:sp>
      <p:pic>
        <p:nvPicPr>
          <p:cNvPr id="90" name="Table 4" descr=""/>
          <p:cNvPicPr/>
          <p:nvPr/>
        </p:nvPicPr>
        <p:blipFill>
          <a:blip r:embed="rId1"/>
          <a:stretch/>
        </p:blipFill>
        <p:spPr>
          <a:xfrm>
            <a:off x="639720" y="1000080"/>
            <a:ext cx="8077320" cy="5748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Calibri"/>
              </a:rPr>
              <a:t>Contenido</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Calibri"/>
              </a:rPr>
              <a:t>1930-1940: política contra cíclica</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Calibri"/>
              </a:rPr>
              <a:t>	</a:t>
            </a:r>
            <a:r>
              <a:rPr b="0" lang="es-MX" sz="3000" spc="-1" strike="noStrike">
                <a:solidFill>
                  <a:srgbClr val="000000"/>
                </a:solidFill>
                <a:latin typeface="Calibri"/>
              </a:rPr>
              <a:t>- fin de la revolución</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Calibri"/>
              </a:rPr>
              <a:t>1940-1970: edad de oro de la industrialización</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Calibri"/>
              </a:rPr>
              <a:t>	</a:t>
            </a:r>
            <a:r>
              <a:rPr b="0" lang="es-MX" sz="3000" spc="-1" strike="noStrike">
                <a:solidFill>
                  <a:srgbClr val="000000"/>
                </a:solidFill>
                <a:latin typeface="Calibri"/>
              </a:rPr>
              <a:t>- El </a:t>
            </a:r>
            <a:r>
              <a:rPr b="0" i="1" lang="es-MX" sz="3000" spc="-1" strike="noStrike">
                <a:solidFill>
                  <a:srgbClr val="000000"/>
                </a:solidFill>
                <a:latin typeface="Calibri"/>
              </a:rPr>
              <a:t>boom </a:t>
            </a:r>
            <a:r>
              <a:rPr b="0" lang="es-MX" sz="3000" spc="-1" strike="noStrike">
                <a:solidFill>
                  <a:srgbClr val="000000"/>
                </a:solidFill>
                <a:latin typeface="Calibri"/>
              </a:rPr>
              <a:t>de la guerra (1941-1945)</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Calibri"/>
              </a:rPr>
              <a:t>	</a:t>
            </a:r>
            <a:r>
              <a:rPr b="0" lang="es-MX" sz="3000" spc="-1" strike="noStrike">
                <a:solidFill>
                  <a:srgbClr val="000000"/>
                </a:solidFill>
                <a:latin typeface="Calibri"/>
              </a:rPr>
              <a:t>- Crecimiento con ciclos de inflación y devaluación (1956-1970)</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Calibri"/>
              </a:rPr>
              <a:t>	</a:t>
            </a:r>
            <a:r>
              <a:rPr b="0" lang="es-MX" sz="3000" spc="-1" strike="noStrike">
                <a:solidFill>
                  <a:srgbClr val="000000"/>
                </a:solidFill>
                <a:latin typeface="Calibri"/>
              </a:rPr>
              <a:t>- Desarrollo con estabilidad macroeconómica (1956-1970)</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70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Estrategia general de política económica…4</a:t>
            </a:r>
            <a:endParaRPr b="0" lang="en-US" sz="4000" spc="-1" strike="noStrike">
              <a:solidFill>
                <a:srgbClr val="000000"/>
              </a:solidFill>
              <a:latin typeface="Calibri"/>
            </a:endParaRPr>
          </a:p>
        </p:txBody>
      </p:sp>
      <p:pic>
        <p:nvPicPr>
          <p:cNvPr id="92" name="Table 4" descr=""/>
          <p:cNvPicPr/>
          <p:nvPr/>
        </p:nvPicPr>
        <p:blipFill>
          <a:blip r:embed="rId1"/>
          <a:stretch/>
        </p:blipFill>
        <p:spPr>
          <a:xfrm>
            <a:off x="639720" y="1000080"/>
            <a:ext cx="8077320" cy="3535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70920"/>
            <a:ext cx="9144000" cy="178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Calibri"/>
              </a:rPr>
              <a:t>Evolución del proceso de sustitución de importaciones </a:t>
            </a:r>
            <a:endParaRPr b="0" lang="en-US" sz="4400" spc="-1" strike="noStrike">
              <a:solidFill>
                <a:srgbClr val="000000"/>
              </a:solidFill>
              <a:latin typeface="Calibri"/>
            </a:endParaRPr>
          </a:p>
        </p:txBody>
      </p:sp>
      <p:sp>
        <p:nvSpPr>
          <p:cNvPr id="94" name=""/>
          <p:cNvSpPr txBox="1"/>
          <p:nvPr/>
        </p:nvSpPr>
        <p:spPr>
          <a:xfrm>
            <a:off x="485640" y="2357280"/>
            <a:ext cx="8229600" cy="2857680"/>
          </a:xfrm>
          <a:prstGeom prst="rect">
            <a:avLst/>
          </a:prstGeom>
          <a:noFill/>
          <a:ln w="0">
            <a:noFill/>
          </a:ln>
        </p:spPr>
        <p:txBody>
          <a:bodyPr anchor="t">
            <a:normAutofit fontScale="99000"/>
          </a:bodyPr>
          <a:p>
            <a:pPr marL="339480" indent="-3394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No todo el período de oro de la industrialización es igual</a:t>
            </a:r>
            <a:endParaRPr b="0" lang="en-US" sz="2200" spc="-1" strike="noStrike">
              <a:solidFill>
                <a:srgbClr val="000000"/>
              </a:solidFill>
              <a:latin typeface="Calibri"/>
            </a:endParaRPr>
          </a:p>
          <a:p>
            <a:pPr marL="339480" indent="-3394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A lo largo de las diferentes etapas se observan diferentes motores que explican el crecimiento al tiempo que se observan factores de desaceleración que al final explicarán el desgaste del modelo de sustitución de importaciones</a:t>
            </a:r>
            <a:endParaRPr b="0" lang="en-US" sz="2200" spc="-1" strike="noStrike">
              <a:solidFill>
                <a:srgbClr val="000000"/>
              </a:solidFill>
              <a:latin typeface="Calibri"/>
            </a:endParaRPr>
          </a:p>
          <a:p>
            <a:pPr marL="339480" indent="-3394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El boom de la guerra (1941-1945)</a:t>
            </a:r>
            <a:endParaRPr b="0" lang="en-US" sz="2200" spc="-1" strike="noStrike">
              <a:solidFill>
                <a:srgbClr val="000000"/>
              </a:solidFill>
              <a:latin typeface="Calibri"/>
            </a:endParaRPr>
          </a:p>
          <a:p>
            <a:pPr marL="339480" indent="-3394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Crecimiento con ciclos de inflación-devaluación (1946-1955)</a:t>
            </a:r>
            <a:endParaRPr b="0" lang="en-US" sz="2200" spc="-1" strike="noStrike">
              <a:solidFill>
                <a:srgbClr val="000000"/>
              </a:solidFill>
              <a:latin typeface="Calibri"/>
            </a:endParaRPr>
          </a:p>
          <a:p>
            <a:pPr marL="339480" indent="-3394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Desarrollo con estabilidad macroeconómica (1956-1970)</a:t>
            </a:r>
            <a:endParaRPr b="0" lang="en-US" sz="2200" spc="-1" strike="noStrike">
              <a:solidFill>
                <a:srgbClr val="000000"/>
              </a:solidFill>
              <a:latin typeface="Calibri"/>
            </a:endParaRPr>
          </a:p>
          <a:p>
            <a:pPr marL="339480" indent="-3394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214200"/>
            <a:ext cx="91440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El boom de la guerra (1941-1945)</a:t>
            </a:r>
            <a:endParaRPr b="0" lang="en-US" sz="4000" spc="-1" strike="noStrike">
              <a:solidFill>
                <a:srgbClr val="000000"/>
              </a:solidFill>
              <a:latin typeface="Calibri"/>
            </a:endParaRPr>
          </a:p>
        </p:txBody>
      </p:sp>
      <p:graphicFrame>
        <p:nvGraphicFramePr>
          <p:cNvPr id="96" name=""/>
          <p:cNvGraphicFramePr/>
          <p:nvPr/>
        </p:nvGraphicFramePr>
        <p:xfrm>
          <a:off x="357120" y="941400"/>
          <a:ext cx="8286840" cy="5702400"/>
        </p:xfrm>
        <a:graphic>
          <a:graphicData uri="http://schemas.openxmlformats.org/drawingml/2006/table">
            <a:tbl>
              <a:tblPr/>
              <a:tblGrid>
                <a:gridCol w="2687760"/>
                <a:gridCol w="5599080"/>
              </a:tblGrid>
              <a:tr h="470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alibri"/>
                        </a:rPr>
                        <a:t>Elemento</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alibri"/>
                        </a:rPr>
                        <a:t>Descripción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r>
              <a:tr h="465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Crecimiento del PIB</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6% anual </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3.2% anual per-capita</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Producción manufacturera</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10.2% por año se constituye como el motor de crecimiento</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Producción agropecuaria</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3.3% por año</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r h="1006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Motor del crecimiento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Producción manufacturera dirigida por la demanda externa (exportaciones) más que por la sustitución de importaciones</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Diferente al resto de LA  </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A pesar de la apreciación del tipo de cambio</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Exportaciones manufactureras pasaron del 7% a casi al 40%. Sobre todo textile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Importaciones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Crecieron pero se rezagaron las importaciones de textiles, químicos y vehículos lo que generó oportunidades para productores nacionales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Estímulos públicos a la industria</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Inversión pública creció a un 14%  anual llevando a un boom de la construcción acompañado también de inversión privada</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Se duplicaron las vialidades y las áreas de riego</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Inversión pública en industrias manufacturera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Otras cosa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Nuevo grupo de empresario industrialistas: pequeñas plantas manufactureras, con capital local y orientadas hacia el mercado doméstico y con un enfoque proteccionista</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Reforzada por la migración derivada de la guerra: capital y/o habilidades</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Desplazamiento de inversión en la agricultura</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Inflación</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Presiones inflacionarias derivadas de la guerra : escasez de algunos bienes e impacto de excedentes del comercio y entrada de capitales (políticas monetarias incipientes), aumentos salariale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Distribución del ingreso</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Deterioro: los salarios pasaron de 29.1% del PIB a 22.6%</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Oferta de trabajo proveniente de la agricultura e inexistencia de sindicatos fuertes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360"/>
            <a:ext cx="91440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Calibri"/>
              </a:rPr>
              <a:t>Crecimiento con ciclos de devaluación e inflación (1946-1955)</a:t>
            </a:r>
            <a:endParaRPr b="0" lang="en-US" sz="2800" spc="-1" strike="noStrike">
              <a:solidFill>
                <a:srgbClr val="000000"/>
              </a:solidFill>
              <a:latin typeface="Calibri"/>
            </a:endParaRPr>
          </a:p>
        </p:txBody>
      </p:sp>
      <p:graphicFrame>
        <p:nvGraphicFramePr>
          <p:cNvPr id="98" name=""/>
          <p:cNvGraphicFramePr/>
          <p:nvPr/>
        </p:nvGraphicFramePr>
        <p:xfrm>
          <a:off x="357120" y="1452600"/>
          <a:ext cx="8286840" cy="5048280"/>
        </p:xfrm>
        <a:graphic>
          <a:graphicData uri="http://schemas.openxmlformats.org/drawingml/2006/table">
            <a:tbl>
              <a:tblPr/>
              <a:tblGrid>
                <a:gridCol w="2687760"/>
                <a:gridCol w="5599080"/>
              </a:tblGrid>
              <a:tr h="469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alibri"/>
                        </a:rPr>
                        <a:t>Elemento</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alibri"/>
                        </a:rPr>
                        <a:t>Descripción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Producción manufacturera</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6.3% anual</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r>
              <a:tr h="3196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Producción agropecuaria</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Importante crecimiento de cultivos 5.7% anual y ganadero 3.7% anual.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Incremento en el área cultivable tanto secano como de riego. Incremento del área cultivable por la reforma agrari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Incremento en rendimientos por ha por mejoras en semillas, fertilizantes, pesticidas y maquinaria. Neutralizó el efecto de la baja en los precios agrícola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Introducción de cultivos de mayor valor en áreas de riego</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Contribución a la industrialización: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alimentos para la creciente població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Provisión de materias primas y generación de divisas que servían para importar bienes necesarios para la industrializació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Aumentar la oferta de mano de obra  que estuviera dispuesta a trabajar a bajos salarios para cumplir con la demanda creciente de la industria y los servicio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Generación de ahorro a canalizar por el sistema bancario hacia infraestructura e inversión en industri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Términos de intercambio favorables a la industri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Expansión dl mercado para la producción industrial a través de una pequeña clase media rural</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Motor del crecimiento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Sustitución de importaciones: factores domésticos, industrialización impulsada por protección comercial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Pierde terreno el impulso por exportacione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Importaciones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Sustitución de importaciones  de bienes de consumo</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Aumento de importaciones de bienes de capital</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9" name=""/>
          <p:cNvGraphicFramePr/>
          <p:nvPr/>
        </p:nvGraphicFramePr>
        <p:xfrm>
          <a:off x="357120" y="1733400"/>
          <a:ext cx="8286840" cy="4695840"/>
        </p:xfrm>
        <a:graphic>
          <a:graphicData uri="http://schemas.openxmlformats.org/drawingml/2006/table">
            <a:tbl>
              <a:tblPr/>
              <a:tblGrid>
                <a:gridCol w="2687760"/>
                <a:gridCol w="5599080"/>
              </a:tblGrid>
              <a:tr h="476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alibri"/>
                        </a:rPr>
                        <a:t>Elemento</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alibri"/>
                        </a:rPr>
                        <a:t>Descripción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r>
              <a:tr h="595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Estímulos públicos a la industria</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Incremento de tarifas a bienes de consumo</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Sin restricciones fuertes los bienes de capital y las materias prima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r>
              <a:tr h="789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Otras cosa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Inversión extranjera posterior a la postguerra</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Empresario diferente: produce manufacturas y no se dedica a comprar bonos del gobierno o de empresas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2835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Evidencia de desgaste</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Dualidad en la agricultura: brecha entre producción privada en el norte y noroeste y producción ejidal en el centro y sur.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Norte-Noroeste: exportación y beneficiados por inversión en riego y avances tecnológico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Centro-Sur: orientado al mercado doméstico, métodos tradicionales. Crecimiento de la población presionó la tenencia de la tierra.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Pero todos los tipos de agricultura  crecen. </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Se empiezan a enfrentar déficits comerciales: reducción de la demanda de la demanda externa por el fin de la 2ª Guerra Mundial y caída en los términos de intercambio después de la Guerra de Korea.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 Pero se contaba con los instrumentos  y recursos para impulsar la recuperación económica a través  de devaluación (crecimiento de exportaciones) y aumento de gasto público (aumento de demanda interna)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 Impuesto inflacionario ante la ausencia de reformas en el lado de los ingresos fiscales: Inflación promedio anual de 9.3%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bl>
          </a:graphicData>
        </a:graphic>
      </p:graphicFrame>
      <p:sp>
        <p:nvSpPr>
          <p:cNvPr id="100" name="Title 1"/>
          <p:cNvSpPr/>
          <p:nvPr/>
        </p:nvSpPr>
        <p:spPr>
          <a:xfrm>
            <a:off x="0" y="357120"/>
            <a:ext cx="9144000" cy="857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Calibri"/>
              </a:rPr>
              <a:t>Crecimiento con ciclos de devaluación e inflación </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Calibri"/>
              </a:rPr>
              <a:t>(1946-1955)…2</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214200"/>
            <a:ext cx="91440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Calibri"/>
              </a:rPr>
              <a:t> </a:t>
            </a:r>
            <a:r>
              <a:rPr b="0" lang="es-MX" sz="2800" spc="-1" strike="noStrike">
                <a:solidFill>
                  <a:srgbClr val="ff0000"/>
                </a:solidFill>
                <a:latin typeface="Calibri"/>
              </a:rPr>
              <a:t>Desarrollo con estabilidad macroeconómica    </a:t>
            </a:r>
            <a:br>
              <a:rPr sz="2800"/>
            </a:br>
            <a:r>
              <a:rPr b="0" lang="es-MX" sz="2800" spc="-1" strike="noStrike">
                <a:solidFill>
                  <a:srgbClr val="ff0000"/>
                </a:solidFill>
                <a:latin typeface="Calibri"/>
              </a:rPr>
              <a:t>(1956-1970)</a:t>
            </a:r>
            <a:endParaRPr b="0" lang="en-US" sz="2800" spc="-1" strike="noStrike">
              <a:solidFill>
                <a:srgbClr val="000000"/>
              </a:solidFill>
              <a:latin typeface="Calibri"/>
            </a:endParaRPr>
          </a:p>
        </p:txBody>
      </p:sp>
      <p:graphicFrame>
        <p:nvGraphicFramePr>
          <p:cNvPr id="102" name=""/>
          <p:cNvGraphicFramePr/>
          <p:nvPr/>
        </p:nvGraphicFramePr>
        <p:xfrm>
          <a:off x="357120" y="1125360"/>
          <a:ext cx="8286840" cy="4668840"/>
        </p:xfrm>
        <a:graphic>
          <a:graphicData uri="http://schemas.openxmlformats.org/drawingml/2006/table">
            <a:tbl>
              <a:tblPr/>
              <a:tblGrid>
                <a:gridCol w="2687760"/>
                <a:gridCol w="5599080"/>
              </a:tblGrid>
              <a:tr h="4737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alibri"/>
                        </a:rPr>
                        <a:t>Elemento</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alibri"/>
                        </a:rPr>
                        <a:t>Descripción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r>
              <a:tr h="469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Crecimiento del PIB y otros dato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6.7% anual </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inflación 3% anual</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Producción manufacturera</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9% de crecimiento promedio anual</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Paso del 17.5% de la producción total al 23.3%</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Producción agropecuaria</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Por debajo del crecimiento de la población</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r h="33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Motor del crecimiento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Mercado doméstico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Importaciones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Sustitución de importaciones en bienes pesados, intermedios y bienes de consumo durables: industria automotriz, maquinaria , aparatos eléctricos, químicos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Exportacione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Aumento de las exportaciones de los bienes anteriores a través de  transnacionales y maquiladora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1736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Estímulos públicos a la industria</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Al objetivo de la industrialización se incorpora el de estabilidad de precios y de balanza de pagos</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Los factores que facilitaron  la reducción de la inflación: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 Crecimiento de la producción agrícola, al inicio del período, reducción de precios    agrícola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 Debilidad de indización salarial (ajuste cada dos año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 Inversión pública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 Reforma financiera: recursos obligatorios al sector público vía reservas bancarias    (solución al déficit fiscal)</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3" name=""/>
          <p:cNvGraphicFramePr/>
          <p:nvPr/>
        </p:nvGraphicFramePr>
        <p:xfrm>
          <a:off x="357120" y="1682640"/>
          <a:ext cx="8286840" cy="3643560"/>
        </p:xfrm>
        <a:graphic>
          <a:graphicData uri="http://schemas.openxmlformats.org/drawingml/2006/table">
            <a:tbl>
              <a:tblPr/>
              <a:tblGrid>
                <a:gridCol w="2687760"/>
                <a:gridCol w="5599080"/>
              </a:tblGrid>
              <a:tr h="476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alibri"/>
                        </a:rPr>
                        <a:t>Elemento</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alibri"/>
                        </a:rPr>
                        <a:t>Descripción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r>
              <a:tr h="788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Otras cosa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Ausencia de shocks externos: sin impactos positivos o negativos de guerras ni shocks agrícolas negativos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Distribución del ingreso</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Salarios reales crecieron al 4.5% anual </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Reducción de la pobreza alimentaria paso del 64.3% al 24.3% de la población</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Emergencia de una clase media: aumento del uso de televisión (17.5 a 58.5 por cada mil), teléfonos (14.1 a 29.6), automóviles (12.9 a 24.1).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1554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Evidencia de desgaste</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Declinación de la producción agrícola por debajo del aumento de la población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 caída en la inversión pública en el agro</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 reducción de precios de bienes agrícolas en relación con precios de bienes industriale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 crédito público al agro escaso y reduciendo su participación en el crédito público total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 reducción de impacto de la reforma agraria: distribución de tierras menos productiva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bl>
          </a:graphicData>
        </a:graphic>
      </p:graphicFrame>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Calibri"/>
              </a:rPr>
              <a:t> </a:t>
            </a:r>
            <a:r>
              <a:rPr b="0" lang="es-MX" sz="2800" spc="-1" strike="noStrike">
                <a:solidFill>
                  <a:srgbClr val="ff0000"/>
                </a:solidFill>
                <a:latin typeface="Calibri"/>
              </a:rPr>
              <a:t>Desarrollo con estabilidad macroeconómica    </a:t>
            </a:r>
            <a:br>
              <a:rPr sz="2800"/>
            </a:br>
            <a:r>
              <a:rPr b="0" lang="es-MX" sz="2800" spc="-1" strike="noStrike">
                <a:solidFill>
                  <a:srgbClr val="ff0000"/>
                </a:solidFill>
                <a:latin typeface="Calibri"/>
              </a:rPr>
              <a:t>(1956-1970)…2</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71280"/>
            <a:ext cx="9144000" cy="121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0000"/>
                </a:solidFill>
                <a:latin typeface="Calibri"/>
              </a:rPr>
              <a:t>Evaluación del modelo de sustitución de importaciones </a:t>
            </a:r>
            <a:endParaRPr b="0" lang="en-US" sz="3600" spc="-1" strike="noStrike">
              <a:solidFill>
                <a:srgbClr val="000000"/>
              </a:solidFill>
              <a:latin typeface="Calibri"/>
            </a:endParaRPr>
          </a:p>
        </p:txBody>
      </p:sp>
      <p:sp>
        <p:nvSpPr>
          <p:cNvPr id="106" name=""/>
          <p:cNvSpPr txBox="1"/>
          <p:nvPr/>
        </p:nvSpPr>
        <p:spPr>
          <a:xfrm>
            <a:off x="485640" y="1214280"/>
            <a:ext cx="8229600" cy="385776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Proceso típico de sustitución de importaciones liderado por una política industrial estatal</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La industria respondió con gran dinamismo basado en: </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cumulación de capital: comparable con lo que paso en el sudeste asiático</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Sin embargo, la productividad del trabajo no mostro tal dinamismo. Productividad bajo en general y muy diferente entre sectores de baja y gran escala. </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La contribución de la manufactura al aumento en productividad se debe a un efecto asignación más que a una productividad generalizada. </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71280"/>
            <a:ext cx="9144000" cy="121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0000"/>
                </a:solidFill>
                <a:latin typeface="Calibri"/>
              </a:rPr>
              <a:t>Obstáculos que no se removieron </a:t>
            </a:r>
            <a:endParaRPr b="0" lang="en-US" sz="3600" spc="-1" strike="noStrike">
              <a:solidFill>
                <a:srgbClr val="000000"/>
              </a:solidFill>
              <a:latin typeface="Calibri"/>
            </a:endParaRPr>
          </a:p>
        </p:txBody>
      </p:sp>
      <p:sp>
        <p:nvSpPr>
          <p:cNvPr id="108" name=""/>
          <p:cNvSpPr txBox="1"/>
          <p:nvPr/>
        </p:nvSpPr>
        <p:spPr>
          <a:xfrm>
            <a:off x="485640" y="1214280"/>
            <a:ext cx="8229600" cy="54295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Mala distribución del ingreso: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1968: 40% más pobre 11% del ingreso</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10% más rico     42% del ingreso</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1970: 24% de malnutrición</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45% sin acceso a salud</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22% de la población de 14 años o más analfabetos  </a:t>
            </a:r>
            <a:r>
              <a:rPr b="0" lang="es-MX" sz="2200" spc="-1" strike="noStrike">
                <a:solidFill>
                  <a:srgbClr val="000000"/>
                </a:solidFill>
                <a:latin typeface="Calibri"/>
              </a:rPr>
              <a:t>	</a:t>
            </a:r>
            <a:r>
              <a:rPr b="0" lang="es-MX" sz="2200" spc="-1" strike="noStrike">
                <a:solidFill>
                  <a:srgbClr val="000000"/>
                </a:solidFill>
                <a:latin typeface="Calibri"/>
              </a:rPr>
              <a:t>o sin terminar primaria</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Abandono de agricultura, problemas evidentes después de 1965.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Términos de intercambio adverso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Baja en la inversión pública y en crédito</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Poco estimulo al potencial exportador: exportaciones como % del PIB de 7.3% en 1945 a 3.6% en 1970</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Protección comercial y apreciación del tipo de cambio</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71280"/>
            <a:ext cx="9144000" cy="121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0000"/>
                </a:solidFill>
                <a:latin typeface="Calibri"/>
              </a:rPr>
              <a:t>Obstáculos que no se removieron…2 </a:t>
            </a:r>
            <a:endParaRPr b="0" lang="en-US" sz="3600" spc="-1" strike="noStrike">
              <a:solidFill>
                <a:srgbClr val="000000"/>
              </a:solidFill>
              <a:latin typeface="Calibri"/>
            </a:endParaRPr>
          </a:p>
        </p:txBody>
      </p:sp>
      <p:sp>
        <p:nvSpPr>
          <p:cNvPr id="110" name=""/>
          <p:cNvSpPr txBox="1"/>
          <p:nvPr/>
        </p:nvSpPr>
        <p:spPr>
          <a:xfrm>
            <a:off x="485640" y="1214280"/>
            <a:ext cx="8229600" cy="5429520"/>
          </a:xfrm>
          <a:prstGeom prst="rect">
            <a:avLst/>
          </a:prstGeom>
          <a:noFill/>
          <a:ln w="0">
            <a:noFill/>
          </a:ln>
        </p:spPr>
        <p:txBody>
          <a:bodyPr anchor="t">
            <a:normAutofit fontScale="97000"/>
          </a:bodyPr>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Sustitución de importaciones sin desarrollo en bienes de capital.  </a:t>
            </a:r>
            <a:endParaRPr b="0" lang="en-US" sz="2200" spc="-1" strike="noStrike">
              <a:solidFill>
                <a:srgbClr val="000000"/>
              </a:solidFill>
              <a:latin typeface="Calibri"/>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Máquinas y herramientas con un contenido de importaciones del 90%, en Brasil 20%</a:t>
            </a:r>
            <a:endParaRPr b="0" lang="en-US" sz="2200" spc="-1" strike="noStrike">
              <a:solidFill>
                <a:srgbClr val="000000"/>
              </a:solidFill>
              <a:latin typeface="Calibri"/>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Protección industrial</a:t>
            </a:r>
            <a:endParaRPr b="0" lang="en-US" sz="2200" spc="-1" strike="noStrike">
              <a:solidFill>
                <a:srgbClr val="000000"/>
              </a:solidFill>
              <a:latin typeface="Calibri"/>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no fue temporal para estimular nuevas empresas o industrias tendió a ser permanente. </a:t>
            </a:r>
            <a:endParaRPr b="0" lang="en-US" sz="2200" spc="-1" strike="noStrike">
              <a:solidFill>
                <a:srgbClr val="000000"/>
              </a:solidFill>
              <a:latin typeface="Calibri"/>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Sin reforma fiscal y precios de bienes y servicios públicos congelados: </a:t>
            </a:r>
            <a:endParaRPr b="0" lang="en-US" sz="2200" spc="-1" strike="noStrike">
              <a:solidFill>
                <a:srgbClr val="000000"/>
              </a:solidFill>
              <a:latin typeface="Calibri"/>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Carga fiscal más baja de América Latina</a:t>
            </a:r>
            <a:endParaRPr b="0" lang="en-US" sz="2200" spc="-1" strike="noStrike">
              <a:solidFill>
                <a:srgbClr val="000000"/>
              </a:solidFill>
              <a:latin typeface="Calibri"/>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Sistema regresivo: carga en ingresos laborales y no en </a:t>
            </a:r>
            <a:r>
              <a:rPr b="0" lang="es-MX" sz="2200" spc="-1" strike="noStrike">
                <a:solidFill>
                  <a:srgbClr val="000000"/>
                </a:solidFill>
                <a:latin typeface="Calibri"/>
              </a:rPr>
              <a:t>	</a:t>
            </a:r>
            <a:r>
              <a:rPr b="0" lang="es-MX" sz="2200" spc="-1" strike="noStrike">
                <a:solidFill>
                  <a:srgbClr val="000000"/>
                </a:solidFill>
                <a:latin typeface="Calibri"/>
              </a:rPr>
              <a:t>ingresos a la propiedad</a:t>
            </a:r>
            <a:endParaRPr b="0" lang="en-US" sz="2200" spc="-1" strike="noStrike">
              <a:solidFill>
                <a:srgbClr val="000000"/>
              </a:solidFill>
              <a:latin typeface="Calibri"/>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Consecuencias:</a:t>
            </a:r>
            <a:endParaRPr b="0" lang="en-US" sz="2200" spc="-1" strike="noStrike">
              <a:solidFill>
                <a:srgbClr val="000000"/>
              </a:solidFill>
              <a:latin typeface="Calibri"/>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Restricción de gasto social frente a una población creciente </a:t>
            </a:r>
            <a:r>
              <a:rPr b="0" lang="es-MX" sz="2200" spc="-1" strike="noStrike">
                <a:solidFill>
                  <a:srgbClr val="000000"/>
                </a:solidFill>
                <a:latin typeface="Calibri"/>
              </a:rPr>
              <a:t>	</a:t>
            </a:r>
            <a:r>
              <a:rPr b="0" lang="es-MX" sz="2200" spc="-1" strike="noStrike">
                <a:solidFill>
                  <a:srgbClr val="000000"/>
                </a:solidFill>
                <a:latin typeface="Calibri"/>
              </a:rPr>
              <a:t>¿educación y salud?</a:t>
            </a:r>
            <a:endParaRPr b="0" lang="en-US" sz="2200" spc="-1" strike="noStrike">
              <a:solidFill>
                <a:srgbClr val="000000"/>
              </a:solidFill>
              <a:latin typeface="Calibri"/>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Finanzas públicas débiles y dependientes de deuda externa</a:t>
            </a:r>
            <a:endParaRPr b="0" lang="en-US" sz="2200" spc="-1" strike="noStrike">
              <a:solidFill>
                <a:srgbClr val="000000"/>
              </a:solidFill>
              <a:latin typeface="Calibri"/>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Balanza de pagos vulnerable a flujos de capital. </a:t>
            </a:r>
            <a:endParaRPr b="0" lang="en-US" sz="2200" spc="-1" strike="noStrike">
              <a:solidFill>
                <a:srgbClr val="000000"/>
              </a:solidFill>
              <a:latin typeface="Calibri"/>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endParaRPr b="0" lang="en-US" sz="2200" spc="-1" strike="noStrike">
              <a:solidFill>
                <a:srgbClr val="000000"/>
              </a:solidFill>
              <a:latin typeface="Calibri"/>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Calibri"/>
              </a:rPr>
              <a:t>Antecedentes</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Entre 1920 y 1932 el gobierno había seguido una política económica ortodoxa (pro-cíclica)</a:t>
            </a:r>
            <a:endParaRPr b="0" lang="en-US" sz="32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 se dejo que la oferta monetaria se contrajera</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 se buscaba un balance fiscal e incluso excedentes al reducir el empleo público, reducción de salario de empleados públicos y aumento de impuestos</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A partir de 1933 cambio radical de la política económica: de contra-cíclica a pro-cíclic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71280"/>
            <a:ext cx="9144000" cy="121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0000"/>
                </a:solidFill>
                <a:latin typeface="Calibri"/>
              </a:rPr>
              <a:t>México en comparación internacional: PIB percapita de México como porcentaje del PIB percapita de otros países </a:t>
            </a:r>
            <a:endParaRPr b="0" lang="en-US" sz="3200" spc="-1" strike="noStrike">
              <a:solidFill>
                <a:srgbClr val="000000"/>
              </a:solidFill>
              <a:latin typeface="Calibri"/>
            </a:endParaRPr>
          </a:p>
        </p:txBody>
      </p:sp>
      <p:sp>
        <p:nvSpPr>
          <p:cNvPr id="112" name=""/>
          <p:cNvSpPr txBox="1"/>
          <p:nvPr/>
        </p:nvSpPr>
        <p:spPr>
          <a:xfrm>
            <a:off x="485640" y="1214280"/>
            <a:ext cx="8229600" cy="54295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aphicFrame>
        <p:nvGraphicFramePr>
          <p:cNvPr id="113" name=""/>
          <p:cNvGraphicFramePr/>
          <p:nvPr/>
        </p:nvGraphicFramePr>
        <p:xfrm>
          <a:off x="1714680" y="1536840"/>
          <a:ext cx="5814720" cy="3606840"/>
        </p:xfrm>
        <a:graphic>
          <a:graphicData uri="http://schemas.openxmlformats.org/drawingml/2006/table">
            <a:tbl>
              <a:tblPr/>
              <a:tblGrid>
                <a:gridCol w="1161720"/>
                <a:gridCol w="1163880"/>
                <a:gridCol w="1162080"/>
                <a:gridCol w="1163520"/>
                <a:gridCol w="1163520"/>
              </a:tblGrid>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alibri"/>
                        </a:rPr>
                        <a:t>Paí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alibri"/>
                        </a:rPr>
                        <a:t>191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alibri"/>
                        </a:rPr>
                        <a:t>1926</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alibri"/>
                        </a:rPr>
                        <a:t>194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alibri"/>
                        </a:rPr>
                        <a:t>197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Brasi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220.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197.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148.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141.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Perú</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173.7</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156.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101.6</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113.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Colombi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145.8</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148.6</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97.7</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139.6</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Chil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68.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72.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56.8</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81.6</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Uruguay</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54.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58.6</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50.6</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83.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Venezuel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191.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80.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45.8</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40.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Argentin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44.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49.8</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44.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59.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Estados Unido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34.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30.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26.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28.7</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bl>
          </a:graphicData>
        </a:graphic>
      </p:graphicFrame>
      <p:sp>
        <p:nvSpPr>
          <p:cNvPr id="114" name="Text Box 58"/>
          <p:cNvSpPr/>
          <p:nvPr/>
        </p:nvSpPr>
        <p:spPr>
          <a:xfrm>
            <a:off x="1714680" y="5143680"/>
            <a:ext cx="54003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Calibri"/>
              </a:rPr>
              <a:t>Moreno-Brid J.C and J.Ros, 2007</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Calibri"/>
              </a:rPr>
              <a:t>Fuentes</a:t>
            </a:r>
            <a:endParaRPr b="0" lang="en-US" sz="4400" spc="-1" strike="noStrike">
              <a:solidFill>
                <a:srgbClr val="000000"/>
              </a:solidFill>
              <a:latin typeface="Calibri"/>
            </a:endParaRPr>
          </a:p>
        </p:txBody>
      </p:sp>
      <p:sp>
        <p:nvSpPr>
          <p:cNvPr id="116" name="TextBox 3"/>
          <p:cNvSpPr/>
          <p:nvPr/>
        </p:nvSpPr>
        <p:spPr>
          <a:xfrm>
            <a:off x="1071720" y="1357200"/>
            <a:ext cx="7715160" cy="642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Moreno-Brid J.C and J.Ros, (2007), </a:t>
            </a:r>
            <a:r>
              <a:rPr b="0" lang="en-US" sz="1800" spc="-1" strike="noStrike">
                <a:solidFill>
                  <a:srgbClr val="000000"/>
                </a:solidFill>
                <a:latin typeface="Calibri"/>
              </a:rPr>
              <a:t>Mexico’s Economic Development in Historical Perspectiv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Características de la política contra-cíclica</a:t>
            </a:r>
            <a:endParaRPr b="0" lang="en-US" sz="4000" spc="-1" strike="noStrike">
              <a:solidFill>
                <a:srgbClr val="000000"/>
              </a:solidFill>
              <a:latin typeface="Calibri"/>
            </a:endParaRPr>
          </a:p>
        </p:txBody>
      </p:sp>
      <p:graphicFrame>
        <p:nvGraphicFramePr>
          <p:cNvPr id="55" name=""/>
          <p:cNvGraphicFramePr/>
          <p:nvPr/>
        </p:nvGraphicFramePr>
        <p:xfrm>
          <a:off x="928800" y="1539720"/>
          <a:ext cx="7572240" cy="5212080"/>
        </p:xfrm>
        <a:graphic>
          <a:graphicData uri="http://schemas.openxmlformats.org/drawingml/2006/table">
            <a:tbl>
              <a:tblPr/>
              <a:tblGrid>
                <a:gridCol w="2428920"/>
                <a:gridCol w="5143320"/>
              </a:tblGrid>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alibri"/>
                        </a:rPr>
                        <a:t>Área de política económic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alibri"/>
                        </a:rPr>
                        <a:t>Políticas utilizada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r>
              <a:tr h="3660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Política monetari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Expansiva: bajo la acción del gobierno la oferta monetaria creció 31% en 1932 y 15% en 1933</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Tasa de interés pasó del 12% en 1931 al 8% en 1932</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a:t>
                      </a:r>
                      <a:r>
                        <a:rPr b="0" lang="es-MX" sz="1800" spc="-1" strike="noStrike">
                          <a:solidFill>
                            <a:srgbClr val="000000"/>
                          </a:solidFill>
                          <a:latin typeface="Calibri"/>
                        </a:rPr>
                        <a:t>Tipo de cambio : depreciación (1932-1933) y 1938 impulsando las exportaciones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a:t>
                      </a:r>
                      <a:r>
                        <a:rPr b="0" lang="es-MX" sz="1800" spc="-1" strike="noStrike">
                          <a:solidFill>
                            <a:srgbClr val="000000"/>
                          </a:solidFill>
                          <a:latin typeface="Calibri"/>
                        </a:rPr>
                        <a:t>* Entre 1929 y 1939 el precio relativo de los bienes de consumo importados vs similares productos nacionales subió en 91%</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b0f0"/>
                          </a:solidFill>
                          <a:latin typeface="Calibri"/>
                        </a:rPr>
                        <a:t>     </a:t>
                      </a:r>
                      <a:r>
                        <a:rPr b="1" lang="es-MX" sz="1800" spc="-1" strike="noStrike">
                          <a:solidFill>
                            <a:srgbClr val="00b0f0"/>
                          </a:solidFill>
                          <a:latin typeface="Calibri"/>
                        </a:rPr>
                        <a:t>* Se detonó un proceso de sustitución de importaciones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b0f0"/>
                          </a:solidFill>
                          <a:latin typeface="Calibri"/>
                        </a:rPr>
                        <a:t>     </a:t>
                      </a:r>
                      <a:r>
                        <a:rPr b="1" lang="es-MX" sz="1800" spc="-1" strike="noStrike">
                          <a:solidFill>
                            <a:srgbClr val="00b0f0"/>
                          </a:solidFill>
                          <a:latin typeface="Calibri"/>
                        </a:rPr>
                        <a:t>* Dado que se detonó a partir de la depreciación del tipo de cambio se trata de una sustitución de importaciones dirigido por la demanda.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Política fiscal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Se permitieron déficits fiscales, 0.6% en 1933.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Entre 1934-1940 los déficits se usaron para financiar inversión productiva y social.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Características de la política contra-cíclica…2</a:t>
            </a:r>
            <a:endParaRPr b="0" lang="en-US" sz="4000" spc="-1" strike="noStrike">
              <a:solidFill>
                <a:srgbClr val="000000"/>
              </a:solidFill>
              <a:latin typeface="Calibri"/>
            </a:endParaRPr>
          </a:p>
        </p:txBody>
      </p:sp>
      <p:graphicFrame>
        <p:nvGraphicFramePr>
          <p:cNvPr id="57" name=""/>
          <p:cNvGraphicFramePr/>
          <p:nvPr/>
        </p:nvGraphicFramePr>
        <p:xfrm>
          <a:off x="928800" y="1539720"/>
          <a:ext cx="7572240" cy="1920960"/>
        </p:xfrm>
        <a:graphic>
          <a:graphicData uri="http://schemas.openxmlformats.org/drawingml/2006/table">
            <a:tbl>
              <a:tblPr/>
              <a:tblGrid>
                <a:gridCol w="2428920"/>
                <a:gridCol w="5143320"/>
              </a:tblGrid>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alibri"/>
                        </a:rPr>
                        <a:t>Área de política económic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alibri"/>
                        </a:rPr>
                        <a:t>Políticas utilizada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Política comercia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A partir de 1930 incremento del nivel de las tarifas a productos de exportación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Política de deuda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Durante todos los años 30 México permaneció en default con su deuda extern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0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Diferente impacto de las crisis externas dependiendo el tipo de política</a:t>
            </a:r>
            <a:endParaRPr b="0" lang="en-US" sz="4000" spc="-1" strike="noStrike">
              <a:solidFill>
                <a:srgbClr val="000000"/>
              </a:solidFill>
              <a:latin typeface="Calibri"/>
            </a:endParaRPr>
          </a:p>
        </p:txBody>
      </p:sp>
      <p:sp>
        <p:nvSpPr>
          <p:cNvPr id="59" name=""/>
          <p:cNvSpPr txBox="1"/>
          <p:nvPr/>
        </p:nvSpPr>
        <p:spPr>
          <a:xfrm>
            <a:off x="457200" y="1285920"/>
            <a:ext cx="8229600" cy="164304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Recesión de EU en 1937 y salida de capitales en 1938 (año de expropiación petrolera).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Magnitud similar a la Gran Depresión pero el impacto fue mucho menor</a:t>
            </a:r>
            <a:endParaRPr b="0" lang="en-US" sz="2200" spc="-1" strike="noStrike">
              <a:solidFill>
                <a:srgbClr val="000000"/>
              </a:solidFill>
              <a:latin typeface="Calibri"/>
            </a:endParaRPr>
          </a:p>
          <a:p>
            <a:pPr marL="343080" indent="-3430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c000"/>
                </a:solidFill>
                <a:latin typeface="Calibri"/>
              </a:rPr>
              <a:t>Comparación entre la Gran Depresión y la recesión de 1938</a:t>
            </a:r>
            <a:endParaRPr b="0" lang="en-US" sz="2200" spc="-1" strike="noStrike">
              <a:solidFill>
                <a:srgbClr val="000000"/>
              </a:solidFill>
              <a:latin typeface="Calibri"/>
            </a:endParaRPr>
          </a:p>
          <a:p>
            <a:pPr marL="343080" indent="-343080">
              <a:lnSpc>
                <a:spcPct val="80000"/>
              </a:lnSpc>
              <a:spcBef>
                <a:spcPts val="55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60" name="Table 3" descr=""/>
          <p:cNvPicPr/>
          <p:nvPr/>
        </p:nvPicPr>
        <p:blipFill>
          <a:blip r:embed="rId1"/>
          <a:stretch/>
        </p:blipFill>
        <p:spPr>
          <a:xfrm>
            <a:off x="1450800" y="2852640"/>
            <a:ext cx="6242400" cy="2914920"/>
          </a:xfrm>
          <a:prstGeom prst="rect">
            <a:avLst/>
          </a:prstGeom>
          <a:ln w="0">
            <a:noFill/>
          </a:ln>
        </p:spPr>
      </p:pic>
      <p:sp>
        <p:nvSpPr>
          <p:cNvPr id="61" name="Text Box 58"/>
          <p:cNvSpPr/>
          <p:nvPr/>
        </p:nvSpPr>
        <p:spPr>
          <a:xfrm>
            <a:off x="1428840" y="5786280"/>
            <a:ext cx="54007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Calibri"/>
              </a:rPr>
              <a:t>Moreno-Brid J.C and J.Ros, 2007</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0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Diferente impacto de las crisis externas dependiendo el tipo de política</a:t>
            </a:r>
            <a:endParaRPr b="0" lang="en-US" sz="4000" spc="-1" strike="noStrike">
              <a:solidFill>
                <a:srgbClr val="000000"/>
              </a:solidFill>
              <a:latin typeface="Calibri"/>
            </a:endParaRPr>
          </a:p>
        </p:txBody>
      </p:sp>
      <p:sp>
        <p:nvSpPr>
          <p:cNvPr id="63" name=""/>
          <p:cNvSpPr txBox="1"/>
          <p:nvPr/>
        </p:nvSpPr>
        <p:spPr>
          <a:xfrm>
            <a:off x="457200" y="1285920"/>
            <a:ext cx="8229600" cy="164304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Recesión de EU en 1937 y salida de capitales en 1938 (año de expropiación petrolera).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Magnitud similar a la Gran Depresión pero el impacto fue mucho menor</a:t>
            </a:r>
            <a:endParaRPr b="0" lang="en-US" sz="2200" spc="-1" strike="noStrike">
              <a:solidFill>
                <a:srgbClr val="000000"/>
              </a:solidFill>
              <a:latin typeface="Calibri"/>
            </a:endParaRPr>
          </a:p>
          <a:p>
            <a:pPr marL="343080" indent="-3430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c000"/>
                </a:solidFill>
                <a:latin typeface="Calibri"/>
              </a:rPr>
              <a:t>Comparación entre la Gran Depresión y la recesión de 1938</a:t>
            </a:r>
            <a:endParaRPr b="0" lang="en-US" sz="2200" spc="-1" strike="noStrike">
              <a:solidFill>
                <a:srgbClr val="000000"/>
              </a:solidFill>
              <a:latin typeface="Calibri"/>
            </a:endParaRPr>
          </a:p>
          <a:p>
            <a:pPr marL="343080" indent="-343080">
              <a:lnSpc>
                <a:spcPct val="80000"/>
              </a:lnSpc>
              <a:spcBef>
                <a:spcPts val="55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64" name="Table 3" descr=""/>
          <p:cNvPicPr/>
          <p:nvPr/>
        </p:nvPicPr>
        <p:blipFill>
          <a:blip r:embed="rId1"/>
          <a:stretch/>
        </p:blipFill>
        <p:spPr>
          <a:xfrm>
            <a:off x="1450800" y="2852640"/>
            <a:ext cx="6242400" cy="2914920"/>
          </a:xfrm>
          <a:prstGeom prst="rect">
            <a:avLst/>
          </a:prstGeom>
          <a:ln w="0">
            <a:noFill/>
          </a:ln>
        </p:spPr>
      </p:pic>
      <p:sp>
        <p:nvSpPr>
          <p:cNvPr id="65" name="Text Box 58"/>
          <p:cNvSpPr/>
          <p:nvPr/>
        </p:nvSpPr>
        <p:spPr>
          <a:xfrm>
            <a:off x="1428840" y="5786280"/>
            <a:ext cx="54007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Calibri"/>
              </a:rPr>
              <a:t>Moreno-Brid J.C and J.Ros, 2007</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Calibri"/>
              </a:rPr>
              <a:t>Qué fue diferente</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Contexto internacional</a:t>
            </a:r>
            <a:endParaRPr b="0" lang="en-US" sz="32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 Recuperación de los términos de intercambio de dos productos importantes: plata y petróleo</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	</a:t>
            </a:r>
            <a:r>
              <a:rPr b="0" lang="es-MX" sz="2400" spc="-1" strike="noStrike">
                <a:solidFill>
                  <a:srgbClr val="000000"/>
                </a:solidFill>
                <a:latin typeface="Calibri"/>
              </a:rPr>
              <a:t>	</a:t>
            </a:r>
            <a:r>
              <a:rPr b="0" lang="es-MX" sz="2400" spc="-1" strike="noStrike">
                <a:solidFill>
                  <a:srgbClr val="000000"/>
                </a:solidFill>
                <a:latin typeface="Calibri"/>
              </a:rPr>
              <a:t>Permitió poner fin al ciclo perverso: reducción </a:t>
            </a:r>
            <a:r>
              <a:rPr b="0" lang="es-MX" sz="2400" spc="-1" strike="noStrike">
                <a:solidFill>
                  <a:srgbClr val="000000"/>
                </a:solidFill>
                <a:latin typeface="Calibri"/>
              </a:rPr>
              <a:t>	</a:t>
            </a:r>
            <a:r>
              <a:rPr b="0" lang="es-MX" sz="2400" spc="-1" strike="noStrike">
                <a:solidFill>
                  <a:srgbClr val="000000"/>
                </a:solidFill>
                <a:latin typeface="Calibri"/>
              </a:rPr>
              <a:t>	</a:t>
            </a:r>
            <a:r>
              <a:rPr b="0" lang="es-MX" sz="2400" spc="-1" strike="noStrike">
                <a:solidFill>
                  <a:srgbClr val="000000"/>
                </a:solidFill>
                <a:latin typeface="Calibri"/>
              </a:rPr>
              <a:t>del stock monetario, de los ingresos fiscales y del  </a:t>
            </a:r>
            <a:r>
              <a:rPr b="0" lang="es-MX" sz="2400" spc="-1" strike="noStrike">
                <a:solidFill>
                  <a:srgbClr val="000000"/>
                </a:solidFill>
                <a:latin typeface="Calibri"/>
              </a:rPr>
              <a:t>	</a:t>
            </a:r>
            <a:r>
              <a:rPr b="0" lang="es-MX" sz="2400" spc="-1" strike="noStrike">
                <a:solidFill>
                  <a:srgbClr val="000000"/>
                </a:solidFill>
                <a:latin typeface="Calibri"/>
              </a:rPr>
              <a:t>	</a:t>
            </a:r>
            <a:r>
              <a:rPr b="0" lang="es-MX" sz="2400" spc="-1" strike="noStrike">
                <a:solidFill>
                  <a:srgbClr val="000000"/>
                </a:solidFill>
                <a:latin typeface="Calibri"/>
              </a:rPr>
              <a:t>gasto público y del producto total. </a:t>
            </a:r>
            <a:endParaRPr b="0" lang="en-US" sz="24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Diversificación de las exportaciones: productos alimenticios, frutas tropicales, minerales a diferencia de países como Colombia y Chile que eran monoexportador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Calibri"/>
              </a:rPr>
              <a:t>Qué fue diferente…1</a:t>
            </a: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Manufactura sector más dinámico de la economía. Tasa de crecimiento promedio anual de 8.1% entre 1932 y 1940</a:t>
            </a:r>
            <a:endParaRPr b="0" lang="en-US" sz="32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	</a:t>
            </a:r>
            <a:r>
              <a:rPr b="0" lang="es-MX" sz="2400" spc="-1" strike="noStrike">
                <a:solidFill>
                  <a:srgbClr val="000000"/>
                </a:solidFill>
                <a:latin typeface="Calibri"/>
              </a:rPr>
              <a:t>- Oleada de empresarios con visión industrializadora que llegaron escapando de la guerra y las persecuciones: judíos europeos, libaneses, sirios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 Desplazamiento de la inversión agropecuaria a la manufactura en parte por la Reforma Agraria</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 Gasto gubernamental en infraestructur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30T15:09:13Z</dcterms:created>
  <dc:creator>Your User Name</dc:creator>
  <dc:description/>
  <dc:language>en-US</dc:language>
  <cp:lastModifiedBy>.</cp:lastModifiedBy>
  <dcterms:modified xsi:type="dcterms:W3CDTF">2009-11-05T16:02:23Z</dcterms:modified>
  <cp:revision>315</cp:revision>
  <dc:subject/>
  <dc:title>La revolución mexicana</dc:title>
</cp:coreProperties>
</file>