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3255-A680-4F5D-B597-D58ED68C8F1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FF29-BCE1-4A19-8A49-3C232A5DAC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302B-E8EF-4E35-80D3-DD91282FA2F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DD92-CFCF-4AEE-A290-9C59DA2CAF5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F73B-6B4C-4D68-997A-930E65D8F1C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B37B-FD3E-4CEE-B160-EBF6892E145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0B59-DAE2-4823-AAD5-963BB4E0BC4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777D-8CDF-42D7-8496-CBDFCD15007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B150-E0BD-4606-B2BD-07F19873BD4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385-D88E-497C-AC63-65B7A49ADD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C725-2394-49EB-BE31-9E5BC362D76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A85E-ECF0-4494-8A92-63AA4F268E2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E454-14EF-4B8F-8C4E-EA5245C7C4C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17F-D77D-4864-8088-DACF58D2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F4A-D256-4EA5-BF15-82BEA1D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7A4-49FD-476A-993A-067FFEFD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7C7-BD0B-4988-8F6A-C851C2A7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90D-47AB-4153-9069-3672F74C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167-901F-4E5E-A561-30B27E9D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F97-38E8-42F3-8862-48125F9D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587-A76A-43CC-94EE-F2828B60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141-2BEA-421E-9207-81EB4F17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603-2E68-40B2-B834-29DAD6AD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941-890D-42D2-9255-CBE951B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037-C50A-4CA8-9B66-E1B9B77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5564-A3D5-48EC-8007-6D7E07DA4B1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Niveles</a:t>
            </a: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 de responsabilidad individual y colectiva en el fenómeno del Femicidio en el Chile del siglo XX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Tomás Ley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Amaranta Vandeper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Álvaro Viver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071880" y="6215040"/>
            <a:ext cx="29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Teoría sociológica y estructura social de Ch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Primavera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Users\alvaro\Desktop\logo.jpg"/>
          <p:cNvPicPr/>
          <p:nvPr/>
        </p:nvPicPr>
        <p:blipFill>
          <a:blip r:embed="rId1"/>
          <a:stretch/>
        </p:blipFill>
        <p:spPr>
          <a:xfrm>
            <a:off x="420840" y="353880"/>
            <a:ext cx="2657160" cy="938520"/>
          </a:xfrm>
          <a:prstGeom prst="rect">
            <a:avLst/>
          </a:prstGeom>
          <a:ln w="0">
            <a:noFill/>
          </a:ln>
        </p:spPr>
      </p:pic>
      <p:sp>
        <p:nvSpPr>
          <p:cNvPr id="52" name="8 CuadroTexto"/>
          <p:cNvSpPr/>
          <p:nvPr/>
        </p:nvSpPr>
        <p:spPr>
          <a:xfrm>
            <a:off x="2928960" y="50004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Instituto de Asunt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cuela de Gobierno y Gestión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atrones cultu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Concepto de Moral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“(…)TODO DEPENDE DEL MEDIO CULTURAL EN EL QUE LOS SUJETOS ESTEN INSERTOS Y DE SU ADAPTACIÓN AL MISM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FUENTE: Farmer, W (1974). “Cultural development and the mankind”  Ed. Egreccia. trad. Cristiano,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sujetos crean cultura, y por ende, patrones cultura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patrones comunes son una adaptación mayor a patrones arcaicos y presencia de  neurosis en los agre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victimización del género femenino, es un sesgo que obstaculiza una solución de igualdad entre géne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ospeccion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50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uevo prisma para analizar el femicidio y los problemas de gén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Un largo camino queda para redefinir el concepto de femicidio de modo que la nueva definición disminuya la cantidad de femicidios, pero contribuya a encontrar las verdaderas causas de e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egunta de Investigación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Calibri"/>
              </a:rPr>
              <a:t>¿Cuáles son los grados de responsabilidad individual y colectiva en el fenómeno del Femicidio en el Chile del siglo XX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4288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ETIVOS GE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r el rol de HOMBRE y de MUJER susceptible de Femicidi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JETIVOS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Hombre tendiente al Femici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Mujer susceptible de Femicid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ción de los Tipos de Femicid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DESVENTAJA DE LA MUJER EN LA SOCIEDA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0253f"/>
                </a:solidFill>
                <a:latin typeface="Calibri"/>
              </a:rPr>
              <a:t>Supuesto fundamental de las investigaciones previ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ualitat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icativ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orato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o experimen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1357200"/>
            <a:ext cx="885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Revisión bitácora del Femicidio en Chile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: Construida en base al SERNAM Y los Mass Me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isión bibliográfica y recolección de Teorí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os mecanismos de análisis de estos da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. “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Análisis de discurso crítico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” 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Norman Fairclough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(análisis semántic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b. Construcción del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cuadro Ideológico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Teun Van Dijk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. Universidad de Glasgow: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Glasgow Media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DESVALORIZACIÓN DE LA EXPRESIVIDAD FEMENINA FRENTE A LA INSTITUCIONALIDAD MASCULINA SE ENCUENTRA EXTENDIDA EN TODA LA CULTURA Y LA ESPERANZA DEL FUNCIONALISMO ES QUE PUEDA HABER UNA REVALORACIÓN SISTÉMICA DE LA EXPRESIVIDAD FEMENINA”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UENTE: GUZMÁN, M. ET ALTERI. (2007) “TEORÍA DE GÉNERO Y DEMARCACIÓN CIENTÍFICA”.  </a:t>
            </a:r>
            <a:br>
              <a:rPr sz="16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oderío mascul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Surgimiento de los caracteres del género masculi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Ilusiones de omnipotencia: fru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Materialización en otredad y consecuente culpa (suicidi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Rol Femen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ubordinación del género femenino al masculino a partir del aprendizaje derivado de la socialización primaria de la cr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erta preeminencia del rol femenino en el desarrollo de los individuos, que luego hacen cultura y, por extensión, susceptibles de femicid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7:20:47Z</dcterms:created>
  <dc:creator>alvaro</dc:creator>
  <dc:description/>
  <dc:language>en-US</dc:language>
  <cp:lastModifiedBy>alvaro</cp:lastModifiedBy>
  <dcterms:modified xsi:type="dcterms:W3CDTF">2008-11-17T14:15:53Z</dcterms:modified>
  <cp:revision>49</cp:revision>
  <dc:subject/>
  <dc:title>Niveles de responsabilidad individual y colectiva en el fenómeno del Femicidio en el Chile del siglo XXI</dc:title>
</cp:coreProperties>
</file>