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4C1-2A1B-4EB1-A1AE-13231720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A28-71D4-44A5-ADF3-2A696C9E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F6167-D9D4-4A84-8EAC-4D6BF482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78998-F3F9-4222-812B-82AAE723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92CF5-0D4E-491F-808E-2AAB4084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7DC11-9A25-4CF9-B20A-3D7C9A9F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D6D32-542D-42E9-87DF-A078982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422AB-77A7-4CFC-A94E-59B2D4A3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E467B-78B1-4326-9E23-2B7D3310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EAD6-26A5-4B97-9976-B9B35615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7E253-84CA-4439-932D-1C27EF2F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620BB-3E9E-4522-86AB-B8C4521C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00A-28A9-4080-BBCB-A1D5823C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E167F-2F72-404F-A70E-2C5BD257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2CB89-BF0A-4D0C-9518-F3C305DF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E8B2E-0343-45D4-A57B-E07DFC5C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F20CE-6F8E-4386-8AE3-10BC12A8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9208F-1394-41E2-B57D-72029B87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3CB94-C13F-4067-9DC3-0B78019E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A5A20-4C29-4F39-8875-086E992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3A223-59DC-4AC3-8698-D31EE0EE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6CCEC-D6EF-4F50-B0AA-453BDF30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1709A-6B0F-4108-BE6C-FF92BBC0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D07-16CE-4F8F-AC8A-191D1BB3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8ACD5-3F24-4DD0-8EB9-3F6CDBD8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8C9E4-BCFD-41CA-97D6-81ACB547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9CE97-4FC8-4F64-AD7D-C638D552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27320-E87C-4E9A-A1DE-7F288B01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30602-AB4C-4A2A-AA87-9E3518EE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CF4D-69CD-41AE-94B9-863C6BB4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98908-B045-47D9-B152-4FBE0D5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1E30D-61DB-4722-85B1-09F563C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D9C51-5E04-45E5-AD43-A84C58C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203B0-A93B-4B44-B1F6-AFDBD7DB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11C3-069A-47D3-8B92-8E11CC23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14A7E-BA73-4EF4-8029-0D061B32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5E85-5C94-43F6-936C-1604B5BE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3E953-3998-4520-9F44-FE9237B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BFCD-F92D-4289-B7B4-4EBF32A8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AA50-446E-4264-BCCE-9349AE73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4121-760F-4B30-BFEA-FABCA99C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477D-34D2-43B8-BF3B-B74F47CC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8E00-221D-4DDA-91DE-4EAA2BE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879-CFDB-44A3-99F1-140E667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699-0C91-47B2-AEFE-3480174F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86F0-9285-47C7-98EF-03870C6F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DAC6-BBEA-4D61-97B4-77CBF94D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7260-A48F-4E59-811E-1BDC86B3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69EB-0AEE-4E93-AA4A-3B5A8AB0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A3EB-A2D6-4FF9-9CA7-736EEB5D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48AB-F365-497A-9E0B-757DD200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3093-D6AB-4BEF-A78F-0198765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D1B6E-4C2D-4836-A5CE-7FB6E65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183FA-0DD3-42F2-96DB-A1E38FE8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7063-7B1A-4390-B2E2-F6175D04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3C5-020B-4AFF-9036-23807F3E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0093-98F6-4629-9717-F2FE2FA3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5ED1-EC11-463D-8CA6-BCB95120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394A5-FC09-4940-9A42-762EBF60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EE79-590D-4B81-9DA9-40138AD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29598-661C-4ECA-9171-8E34BECA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67BB-4C60-4293-818D-F2BD9234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ED00-1A0B-471A-8997-1275A966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D564-B51A-4145-B51A-5626AF30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C471F-D91F-4E63-AE6B-2F2F026F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2DF28-EA52-492D-8B98-189E6DE8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35A-D9C6-425C-A739-837C143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66FA-1774-4269-90CF-8535DD5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2C3AB-4437-43DF-AF7B-E4062EA9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28913-F6BD-4F9C-ABC2-232BB862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76FFD-DBA0-4AEA-92F0-174C184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3ECC-832B-40A5-AFA5-7865105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BDCFE-2E2D-4701-BE06-58B51CEF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9830-C1D0-4CB9-8388-31986DB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7242-21E0-45A9-A1B7-137FC8AC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4FB5-82C8-4E8A-B493-A4F54172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40F4-EA1B-455F-8B06-1770A666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409-5DFF-4D22-977C-1BCEAE7F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D692-22A1-458A-9D6D-918C1D8B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62749-8A31-4118-85A5-B0D36865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F846-4392-4C1B-9E64-18967DF0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0B51C-15F1-429B-8D48-6DC1DC26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DEAAD-FED1-49EA-9ADC-0F799395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AFCE-C4FC-40F2-BE2E-E46BBB2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44FE-D54A-44AD-B574-88409B0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09541-20F4-4E0A-9B86-9870C517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B8051-1FC0-4901-96BD-7848091A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603C7-571B-44BE-8922-9626766F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607-A798-4D81-A060-D6B56E39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52988-C592-4472-9919-9CE3A769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43E43-0537-4502-82B9-C5499E28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5F5C1-2013-4E1D-960C-46CD5FE8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70DAD-6785-4FF0-856B-0E62CEA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4F15-0C53-4C07-8DE5-114E216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3880-AC37-4860-A850-DB461E5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CB56-AFA0-436C-983F-76EEF615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A82C0-77CA-4CF9-995C-BB1198C8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52DDE-FC69-4CBA-BD57-A2C3EBDF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F0F8-1A9E-4E15-A64B-3F00AFA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89CB-8E9E-4F2A-AE83-F789465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B7AF7-8445-41B1-96D8-A5FF3B8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B436F-4A38-4FB7-9B68-DA57EC1A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10F87-250E-4194-B2EA-4195F057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65D7-0B7A-468F-A63F-C4747147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B721-7ACC-45E3-AFFF-7FCD0FE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F4FC-9D5A-4967-8D8A-E4FE0739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9EE3-6595-414F-91E3-03059137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55D0B-E19C-4B48-BE13-6B7A9E8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189B-FF92-4563-8FF9-0A84984B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7F67B-951C-4962-AFE6-D3FE3CB2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093-3D98-4B7C-BADD-B6E46F9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BC686-1933-4AEC-8FCC-B35358B7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9761D-7A8F-47EF-8EED-2371470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A53CC-1096-44B9-A93E-869A8CB8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3CB0C-B1DF-4C7C-89CC-8A96FEC0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6029A-9006-4A27-B494-A20BD2BC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BD7E5-434D-4DA0-9C32-67C4D97D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4B63-E996-4A64-8253-B0B65DD0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303AE-1933-4FB1-BDDF-EC12B303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8632-1929-4442-A2D2-FFDCA888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691BB-8D12-4E6A-853B-6AE4CB7C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346-CA04-43A9-B195-C61F13CF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D222A-4E7B-49C6-9962-D548DC7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81E8E-D4F9-4FB7-9EE7-290A5770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60C68-8612-4DFC-AE19-AF87208B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39D15-ECEA-447A-9157-037D3AF1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4AC5A-86A0-4C68-8BF7-EF2FCF93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6479A-E701-4E47-A285-54543B10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95F1D-E306-4197-9E95-34D1D971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ABC62-A5D6-4320-B616-A4046909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D0AEA-3295-40B5-B8DC-50F75F1A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FC952-E823-43C1-A58E-7CD10084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7F6-592F-46BA-8B8A-DEA231CF911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9699-F95B-4BF3-A8CD-1DE3BC22101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94C-ACA6-4AAC-BA57-A60AF758EB0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0205-C615-416C-88C1-3823251A567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DC01-A152-4532-8EA9-4B0B3DDDBD23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2E1B-073C-4C2B-8825-6AC486ABF60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8C10-D671-4D6C-8DFF-7B510D86221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6C67-A10C-47D9-9345-FCFBFBE662E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871-7FAB-4919-A03A-0837CE160781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5189-2913-4300-980F-6C008BA6922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F1B-F8B4-4C2E-9A87-001E2CEA79E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YAKG8jmx6C0&amp;feature=related" TargetMode="External"/><Relationship Id="rId3" Type="http://schemas.openxmlformats.org/officeDocument/2006/relationships/hyperlink" Target="http://www.youtube.com/watch?v=YAKG8jmx6C0&amp;feature=related" TargetMode="External"/><Relationship Id="rId4" Type="http://schemas.openxmlformats.org/officeDocument/2006/relationships/hyperlink" Target="http://www.youtube.com/watch?v=YAKG8jmx6C0&amp;feature=related" TargetMode="External"/><Relationship Id="rId5" Type="http://schemas.openxmlformats.org/officeDocument/2006/relationships/hyperlink" Target="http://www.youtube.com/watch?v=YAKG8jmx6C0&amp;feature=related" TargetMode="External"/><Relationship Id="rId6" Type="http://schemas.openxmlformats.org/officeDocument/2006/relationships/hyperlink" Target="http://www.youtube.com/watch?v=YAKG8jmx6C0&amp;feature=related" TargetMode="External"/><Relationship Id="rId7" Type="http://schemas.openxmlformats.org/officeDocument/2006/relationships/hyperlink" Target="http://www.youtube.com/watch?v=YAKG8jmx6C0&amp;feature=related" TargetMode="External"/><Relationship Id="rId8" Type="http://schemas.openxmlformats.org/officeDocument/2006/relationships/hyperlink" Target="http://www.youtube.com/watch?v=YAKG8jmx6C0&amp;feature=related" TargetMode="External"/><Relationship Id="rId9" Type="http://schemas.openxmlformats.org/officeDocument/2006/relationships/hyperlink" Target="http://www.youtube.com/watch?v=YAKG8jmx6C0&amp;feature=related" TargetMode="External"/><Relationship Id="rId10" Type="http://schemas.openxmlformats.org/officeDocument/2006/relationships/hyperlink" Target="http://www.youtube.com/watch?v=YAKG8jmx6C0&amp;feature=related" TargetMode="External"/><Relationship Id="rId11" Type="http://schemas.openxmlformats.org/officeDocument/2006/relationships/hyperlink" Target="http://www.youtube.com/watch?v=YAKG8jmx6C0&amp;feature=related" TargetMode="External"/><Relationship Id="rId12" Type="http://schemas.openxmlformats.org/officeDocument/2006/relationships/hyperlink" Target="http://www.youtube.com/watch?v=hBiiZQNmbc4&amp;NR=1" TargetMode="External"/><Relationship Id="rId13" Type="http://schemas.openxmlformats.org/officeDocument/2006/relationships/hyperlink" Target="http://www.youtube.com/watch?v=hBiiZQNmbc4&amp;NR=1" TargetMode="External"/><Relationship Id="rId14" Type="http://schemas.openxmlformats.org/officeDocument/2006/relationships/hyperlink" Target="http://www.youtube.com/watch?v=hBiiZQNmbc4&amp;NR=1" TargetMode="External"/><Relationship Id="rId15" Type="http://schemas.openxmlformats.org/officeDocument/2006/relationships/hyperlink" Target="http://www.youtube.com/watch?v=hBiiZQNmbc4&amp;NR=1" TargetMode="External"/><Relationship Id="rId16" Type="http://schemas.openxmlformats.org/officeDocument/2006/relationships/hyperlink" Target="http://www.youtube.com/watch?v=hBiiZQNmbc4&amp;NR=1" TargetMode="External"/><Relationship Id="rId17" Type="http://schemas.openxmlformats.org/officeDocument/2006/relationships/hyperlink" Target="http://www.youtube.com/watch?v=hBiiZQNmbc4&amp;NR=1" TargetMode="External"/><Relationship Id="rId18" Type="http://schemas.openxmlformats.org/officeDocument/2006/relationships/hyperlink" Target="http://www.youtube.com/watch?v=hBiiZQNmbc4&amp;NR=1" TargetMode="External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ara la Prueba Rosen</a:t>
            </a:r>
            <a:br>
              <a:rPr sz="50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conomía del Bienestar, Cap4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Bienes públicos, Cap 5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xternalidades, Cap 6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dad, Cap 8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los ingresos son mayores que sus niveles de tendencia esperados, se 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estos caen por debajo de la tendencia, se des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tiendo ahorrar                                                       en años buenos y                                                        gastar en períodos                                                            malo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tigando el Cic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4572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8974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Fis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a distinguir aquellos cambios en los ingresos permanentes de los tempora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nanciar Gasto Corriente únicamente con ingresos perman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rar los ingresos temporales o utilizarlos en la adquisición de bienes de capi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blemas Exist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creci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Nulo o Esca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Fluctua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muestra como determinantes del crecimiento al ahorro, la inversión y la investigación y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estado potencia el crecimiento económico de largo plazo al estimular estos determin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bligando a las personas a ahorrar (AF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ndo el ahorro con exoneraciones de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nalizando y estimulando inversiones (Corf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trayendo capitales (ProChil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nanciando investigación aplicada (InnovaChile, Conicy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emple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propio de las economías, se reconocen cuatro tipos bás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ructural: cuando existen cambios en la estructura produc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íclico: propio de los ciclos econó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acional: asociado a períodos productivos (Ej. Temporer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riccional: tasa natural de desempl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on pocas las herramientas que un estado moderno tiene, los apoyos se centran en facilitar al mercado la solución del probl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líticas contra cíclic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pacitando al desemple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jorando la información (Bolsas de emple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conversión Industr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ímulos tributarios a la contratación de grupos obje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pleos temporales de emergencia (en épocas de crisi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fl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l alza sostenida de los precios, inflaciones elevadas distorsionan el papel orientador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n esencia un problema monetario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V=PQ (Teoría cuantitativa del diner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Banco Central tiene el monopolio de la emisión monetaria y maneja herramientas para controlar la cantidad de dinero en circul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isión Prima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enc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redescu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Cambio (Compra-Venta de divis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Mercado Abierto (Compra – venta de papeles financie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as clases hemos visto las justificaciones teóricas que dan cabida a la intervención del Estado en una economía de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veremos como se financian estas intervenciones y porque no siempre es conveniente y/o falla la intervención esta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ara Ilustrarnos; La crisis crediticia visualizad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YAKG8jmx6C0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&amp;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feature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hBiiZQNmbc4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&amp;NR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iclos Económ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desarrollo económico no es lineal, este está compuesto por ciclos con etapas de crecimiento (auge) y  de decrecimiento (cris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ser el Gasto Público uno de los componentes del PIB, este tiende el potencial de ahondar los ciclos o hacer que estos sean menos pronunciados.  Lo mismo sucede con el financiamiento públ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o la existencia de rendimientos decrecientes, las etapas de crisis generan proporcionalmente mayores caídas en el bienestar que las etapas de au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teoría económica recomienda al estado hacer uso de la política fiscal y de la política monetaria para atenuar los cic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n embargo, en términos prácticos, los gobiernos tienden a tener políticas pro- cic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ando aumenta el ingreso nacional (PIB), también lo hacen los ingresos públ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emás existe una mayor disposición a prestar por parte de los acreedores cuando las cosas marchan b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el lado de la política y de la ciudadanía existen presiones para aumentar el gasto y/o para disminuir los impues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opuesto ocurre durante las rece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 caer el ingreso nacional, cae la recaud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an las presiones por el gasto fiscal: seguros de desempleo, mayor consumo de bienes y servicios provistos por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disposición a prestar por parte de los acreedores se deterio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í se provocan presiones para que caigan los gastos discrecionales ahondando la recesión, en situaciones extremas incluso pueden caer los gastos habi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515880" y="-892080"/>
            <a:ext cx="10320480" cy="82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países han aprendido la lección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hile destaca a nivel mundial por su política anticíclica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.conocida como la Regla del Superávit Estruc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cual se ahorra en períodos buenos (haciendo que el auge sea menos fuerte) y se gasta en períodos malos (evitando una caída muy pronunci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Balance Fiscal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oncepto es gastar únicamente el componente tendencial de los ingre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ngresos (cobre y no cobre) tienen un componente cíclico y de t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60520" y="3521160"/>
            <a:ext cx="3724200" cy="2284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572000" y="3451320"/>
            <a:ext cx="3960720" cy="2425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1954080" y="57340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No 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6363360" y="580536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27T22:07:37Z</dcterms:modified>
  <cp:revision>121</cp:revision>
  <dc:subject/>
  <dc:title>Economía del Sector Público</dc:title>
</cp:coreProperties>
</file>