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1C7-38E4-4FFB-B451-2A7510DA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573-EFDE-4D3B-99F7-9060A37E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5A2-18B0-4DC0-A629-A56EDA1B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B6D-1095-4B4D-BDC6-91DD9DBA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40AA-A2FA-492F-8A79-ED40210E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5989-7087-415A-B6C9-BC251E91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E61E-CB42-45A0-84EF-797F271F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5F21-B40E-40D4-B574-AA4E17AC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0761-061D-4CC4-81EB-DE38C296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2DC9-E328-467A-A957-A66E8FC4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5994-3B0D-4C74-9F0E-F9BD9BA1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852-8DAD-4803-97EB-193AB43B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860E-3409-4D73-A7DB-3D376085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2B58-8559-4DA0-B643-80B1D04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27C6-BF61-4296-A25F-4A4EE3C9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973A-C823-4336-A013-C2CD5DB5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FA66-332D-4BC1-82A4-7BFC5A17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676-C520-43DF-B201-26AF5598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6FC-7085-4158-B597-99506068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296-27CE-4293-AD78-9B95EF20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DD4-8CBC-4184-AF91-AEFFCB5F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518-6947-43EE-A2C4-686CA13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B8C-7C4B-4E36-9AF7-1F2D8CB3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7EB-792F-4E00-ADB8-178442EC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445C-6329-421F-B12B-494E69E3996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B946-912D-4CD4-8844-CB9CBAE03C2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FF43-1FEF-4591-B0AF-327D86BA015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993E-D3CA-4C57-9AE9-6D918E5BEA9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sume que las funciones públicas no son perfectamente predecibles, sino que son producto de la interacción entre funcionarios y usuarios / destinatarios / cli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punta a generar alteraciones en las funciones y roles que asume el estado, y en la forma como se distribuye el poder entre las instituciones y entre estas y la ciudadaní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del Estado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2410-96CC-41F6-BE7B-3BC9C75F18D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tienen dos momento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olíticas destinadas a enfrentar la crisis económica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políticas macroeconómicas y de ajuste de balanza de pag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o enfocan aspecto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cluyen política de privatizaciones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de las instituciones públicas para enfrentar desafíos políticos actu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rvicios son reformados, reconstruidos o se crean nue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2FBF-21B8-4DD1-9124-1775AFA1C2A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sinónimo de reducción de intromisión no deseada en los mercados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incremento de eficiencia burocrática, privatizaciones, reducción de regulac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ircunscri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para “expansión” selectiva de la acción pública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mejorar provisión de infraestructura, de servicios de salud y educación, enfrentar pobreza y desemple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on nueva capacidad regulado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5272-B9B4-4148-801C-EE5E304B4F1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transformación de las relaciones de poder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fortalecer poder legislativo, mejorar justicia, fortalecer gobiernos regionales y locales, responsabilidad pública y participación. Es enfoque más polí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más democrá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C6A3-752A-4BC7-9E88-67E2E02F72D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s presidencialista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grado de conflicto o cooperación entre presidente y legislatura y poderes presidenci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coherencia de reformas es producto de mayor sintonía entre ambos pode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 de partidos político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fragmentación de partidos vrs partidos o coaliciones cohesion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o menor posibilidad de apoyo a procesos de reform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A9C8-1164-4F80-B383-A87F45D1661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Delegación de facultade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desde parlamento a ejecutivo y desde presidente a agencias o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Falacia tecnocrática: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 suponer que es posible solucionar difíciles problemas políticos removiendo de toma de decisiones a políticos y grupo de presión y reemplazarlos por tecnócra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3B75-EB91-4EA4-93AA-002C3F24B22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Reformas al servicio civil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como recorte del tamaño del servicio civil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ciertos países se acompañó de mejoras en la eficiencia organizaci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Introducción de incentivos al desempeño y al esfuerzo de funcionari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Incentivos positivos vía descomprimir escalas salariales, sistemas de promoción más competitivos, sistemas de evaluación más discriminadores, sanciones a la corrupción y a abu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 Reforma y modernización del Estado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40B5-7540-4BBC-BCD5-7C2AEBD6C01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Gestión de los recursos human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A mayor descentralización de gestión de personal, se requiere mayor capacidad administrativ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 constata sobrecentralización en gestión de personal, de decisiones sobre gastos, asignación de vacantes, aprobaciones de reclutamiento, despidos, promociones, ajustes salariales, sistemas de calificación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rgos de confianza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Designaciones políticas en cargos superiores de las administraciones.  Esto cumple tres objetivos: garantizar beneficios a partidarios; asegurar apoyo de legisladores; garantizar orientaciones político - programá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81FF-E704-4FC4-9FD2-51BBC3ED97C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Diseño de servicios administrativos y reguladores</a:t>
            </a:r>
            <a:r>
              <a:rPr b="1" i="1" lang="es-ES_tradnl" sz="23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Cambio de rol del Estado de productor de bienes y servicios a rol normativo, regulador y fiscalizador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stado interviene menos directamente en los mercados y asume función reguladora; privatizaciones separa empresas del Estado, que deben ser fiscalizadas de forma nueva; crecen demandas por regular nuevos sectores (salud, medio ambiente, seguridad laboral, etc.)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en entidades administrativas y reguladoras requiere delegación de la autoridad política a autoridade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la autoridad monetaria en Banco Centr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programas de pobreza en Fondos Soci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C5EA-6CA0-49C2-8C48-860B56717D7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bate sobre cuan centralizado o cuan descentralizado debe ser un gobierno tiene que ver con quién y dónde se toman decis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ferencia de responsabilidades en planificación, gerencia y asignación de recursos desde el gobierno central a servicios nacionales, corporaciones públicas autónomas, autoridades regionales o locales, tercer sector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sconcentra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areas y autoridad son delegadas hacia abajo dentro de un servicio, para obtener mayor efici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010-5528-4685-9FDE-0A9F4857DA6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2863-2B46-44E7-B40E-E6E8792A097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volu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ransferencia de capacidad de decisión desde nivel central a gobiernos regionales y locales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ederalismo (Venezuela, Brasil, Argentin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gionalismo (Chile, Colombi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ocesos de descentralización están afectados por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Qué se transfiere primero: funciones o recur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construye capacidad gerencial en niveles regionales y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ejerce control desde el centro sobre entes descentraliz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resuelve la descentralización fiscal: federalismo o centralismo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57E5-A613-4EC9-AC88-BBBFF4080DE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Gestión pública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omo tener una gest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egunta tiene que ver con como gestionar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os principales tópicos se refieren 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7A4A-B142-4FB1-A746-71A81545441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1. Marco conceptual.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 Se refiere a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uncionamiento del sistema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rocesos de toma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2.Requie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tructura que permita transparencia;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bjetivos claros y transpar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sponsabilidades, procedimientos y reg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y control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F7E3-D293-4395-A2D9-7C7ADD6D592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3. Supone participación y rendición de cuentas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Transparencia está ligada a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ceso a la inform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ndición de cuentas o accountabil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xistencia de controles internos, separación de poderes y controles externos a la administr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003A-4657-4E90-9CCE-D8155C3F440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98D2-8597-4795-80B0-04AEBFE6306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Un objetivo esencial del proceso de reformas ha sido 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lograr que el Estado desarrolle la capacidad de diseñar y ejecutar eficazmente las políticas públicas apropi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5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ECAF-3668-4A47-B1DD-7B45CA46276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Se han caracterizado por ser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 procesos </a:t>
            </a: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que han apuntado a: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fortalecer los procesos polít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haber abarcado ámbitos institucionales y normativ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star enfocados tanto a políticas de mayor equidad como de mayor desarrollo económico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ser procesos altamente dependientes de factores polític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mostrar la necesidad de tener esfuerzos de largo plazo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xistir algunas áreas críticas a modernizar como condición para avanzar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609A-31EC-4C69-852C-92008CEB74A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Estos procesos se han expresado en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royectos específ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muchas veces han generado visiones fragmentaria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on altamente dependientes de las capacidades institucionales, de las disponibilidades de recursos humanos y financier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ufren del cambio continuo de interlocutores en los gobiern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están diseñados en formatos rígidos y poco flexibles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5C26-FE07-42F7-B052-A8E2883AA4A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La Agenda sobre Reforma y Modernización del Estado se ha ido ampliando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desde un inicio en que estuvo concentrada en mejoras administrativa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a un temario más comprehensivo, que cubre el sistema de gobierno en su conjunto, la participación de la ciudadanía, las mejoras en la gestión y la transparencia y probidad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188E-DEEE-425B-8F7A-822B8CAAD49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5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rtalecimiento del sistema democrát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judici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legislativ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elector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contro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CFC9-0DF2-4979-807C-3B3549FAE01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ambio continuo y discontinuo en el esta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continuos son transformaciones que no cuestionan la lógica dominante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ni la identidad del estado en sus formas y actu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on cambios por adaptación, espontáneos, periféric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discontinuos alteran el modo de razonamiento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, el carácter del estado, aportando nuevos valores y nuevos principios que obligan a cambios en el comportamiento de los actor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s se caracterizan por ser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cambios discontinu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DF07-BCAF-487D-A609-AB1CDBC37A4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6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nsolidar el estado de derech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Administración de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fensa de los derechos de los ciudadan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juríd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olución de controversias y conflict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gualdad de acceso a la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trol de ilícitos, delitos financieros y lavado de diner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78E7-4E61-4526-92D7-1D6BF07670E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7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578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a administración pública 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rvicio civil y gerencia públ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938-6EE7-47BC-A4F1-28256DE0ACC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(8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8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3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estado que apoye el desarrollo económico, la equidad y el funcionamiento de los mercados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rtalecimiento de autoridades macroeconóm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alación y ajuste en sistemas regulator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Reglas del juego mercantiles, financieras y de inform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pens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estión de empresas estat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rocedimientos administrativos facilitador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líticas fiscales y tributarias adecu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mento productivo y de la competitividad y el emprendimien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AD50-9032-4867-A0B8-C7832279C1D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l Informe sobre el desarrollo mundial 1997 se dedica al papel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as principales directrices son las siguiente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Reconsiderar el papel del estado: “qué produce” y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“cómo lo produce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estado debería ser facilitador del merc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Hacer coincidir el papel del estado con su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apacidad; usar los recursos del mercado y de la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13EE-7B94-48CB-989F-120F2323CF5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2088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Los estados débiles se deberían concentrar en lo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sencial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rechos de propi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abilidad macroeconóm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ntrol de enfermedad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ua pota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ami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tección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 a los más necesi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E117-3076-4396-8718-E47D0708FAD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542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Construir un mejor sector públ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una capacidad central para formular y coordinar polític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ción de sistemas eficientes y efectivos de provisión de servicios a través de una variedad de medios: valorar el desempeño, meritocracias, mejores sistem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ucha contra la corrupción, vía un ataque múltiple que contemple menor regulación, mayor transparencia, mayor uso de mercados y mejor supervis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personal motivado y capacitado vía políticas de retribución adecuadas y formación de equip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8CFD-2079-4F90-869B-C6425E3D2B3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Pensar la secuencia de las reforma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segurar que reglas anunciadas sean reales, especialmente el control macroeconóm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Introducir con cautela nuevas técnicas de administración. Mayor flexibilidad en la medida que exista control efectivo de insumos y resul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Mejorar formulación y coordinación de políticas, al mismo tiempo de implementar un servicio público profesionalizado y de utilizar mecanismos de mercado.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2)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3E5D-B467-4AB5-AC1E-B37CAA036A8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viene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eparar la toma de decisione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pertenece al mundo de las políticas públicas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e la ejecución y prestación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l servicio, pues cuando ambas esferas se mezclan se generan toda clase de vic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s mejo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arle facultades a las organizaciones ciudadanas que servirlas directam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pues la experiencia demuestra que las pequeñas unidades autogestionadas por sus “dueños” suelen ser más eficaces que las pesadas maquinaria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inyectar competitividad e innovación en la prestación de servicios públicos, haciéndol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competir entre si y con tercer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F06-9793-45B0-8F17-43B84B91FC5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0640" indent="-3506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buscar la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transformación de las organizaciones regidas por regla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n última instancia tienen como propósito fundamental su autopreservación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en organizaciones orientadas a resultados,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que es lo que le interesa a la ciudadaní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bem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financiar el producto final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s lo que le interesa a la ciudadanía, en lugar de los datos e indicadores intermedios, que es lo que le interesa a la burocra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Las organizaciones públicas deben procura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ganar en lugar de gastar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introduciendo criterios emprendedores en su gest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atisfacer las necesidades del cli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be ser un principio ordenador fundament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2661-B621-4A9D-ADDF-886D6D8F983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ás vale gastar un kilogramo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even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que una tonelada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u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iseñemos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gobierno verdaderamente descentraliz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en su toma de decisiones, y por tanto cercano a los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voquemos el cambio a través del mercado cada vez que se pueda,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mo por ejemplo en el caso de los permisos de emisión transables, que buscan controlar la contaminación mediante ese tipo de regl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2245-F293-4D2F-AD0E-C08E1F0376F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La amplitud del objeto de la reform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lnSpc>
                <a:spcPct val="9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afectan el diseño y funcionamiento de las institucion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es decir, la manera como se organizan y articulan los poderes del Estado para elaborar y ejecutar políticas públicas.  Se centran en los proces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institucional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La reforma liberal.  Separa poderes, asegura libertades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transforman el contenido de la acción pública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redefiniendo finalidad, objetivo y alcanc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sustantiva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El estado de bienestar, cambia contenido de acción pública y pone énfasis en redistribución, solidaridad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E978-73F6-420A-9EBE-9978F8B96B5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érmino surge en el 1989 propuesto por Hood en Inglaterra y se implementa en diversos países desarroll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lementos constitutivos de esta propuesta so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)  Énfasis en 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ivilegiar economía, eficiencia y eficaci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la gestión de los gobier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dimensionamiento de la estructura administrativ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buscando aligerar organización enfocándola a lograr fines específicos y metas precis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de decisiones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hacia mandos subalternos, con el necesario empoderamiento y responsabilización por result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FBE-27C4-4C0B-9BA4-D4153C2FFF2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agencias públic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independientes y estructuradas de manera no burocrá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istinción entre formular políticas e implementar polític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; distinción entre “timonera” y “remar”. Insistir en carácter estratégico de alta dirección del gobierno y en la posibilidad de externalizar provisión de insumos y realizaión de contratos. Distinguir entre proveer financiamiento público y realizar acciones con dichos recurs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so de mecanismos de mercado tanto como incentiv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para la mejor gestión como para ofrecer mayor posibilidades de elección a usuar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57C8-3577-4751-AD40-6EFE60E50BC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g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Orienta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tanto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polític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definen objetivos) y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de usuari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aceptan la utilidad del servicio), incorporando expectativas, intereses y calidad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fasis en los resultados y el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más que sólo en observar procedimientos y norm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i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Implantación de sistemas de medición y evaluación de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lo que obliga a definir actividades, productos y resultados y crear estándares e  indicadores de desempeñ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9210-E668-4A10-9D4B-6B0A7F64909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a surgido un nuevo paradigma de la gestión pública, que se centra en la promoción de una cultura orientada a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un sector público menos centralizado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ructuras administrativas y patrones directivos tradicionales son ineficaces; esto obliga a un cambio radical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vise el ámbito y el modo de la intervención gubernamental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mejore la calidad analítica de las decisiones de políticas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haga la relación costo/beneficio – efectividad de las acciones públicas y que renueve normas e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D1A1-E2A6-43A8-B5D9-F01882256F7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calización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 la acc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los resultad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nforme a criterios de eficiencia, eficacia y calidad del servic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Sustitución de estructuras organizativas jerárquicas y centralizadas por estructur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para acercar la toma de decisiones a la prestación de servicios y se posibilite la retroalimentación de los clientes y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lexibilizar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ones de prestación directa de servicios públicos y de la regulación, a fin de bajar costos de las prest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C53D-E4FF-4958-B489-E0DB0B287FA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Priorizar la eficienci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los servicios proveídos por el sector público, para lo cual se deben definir metas y crear entornos competitivos intra e inter servici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Reforzar las capacidades estratégicas de la alta dirección del gobiern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para poder conducir la evolución del estado y responder con rapidez, flexibilidad y a bajo costo  a cambios externos y a nuevas deman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A59D-C879-4DE1-B27F-5B00073B952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os medios para lograr esta agenda son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ejorar la dirección estratégic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financiera y de calidad de los servicios prestad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regulación o re-regulación apropiad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normas aplicadas a diversos sect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ntroducción de 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incentivos de mercad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en la operación administrativa de los servic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5D64-DAFA-4F50-98DC-30B0EC280E5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(5)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Visión de la OCDE sobre la futura administración públic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“ 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en las décadas por venir, el sector público será radicalmente diferente en apariencia y actuación: se involucrará cada vez menos en la prestación directa de los servicios; se concentrará más en establecer un marco flexible que favorezca las actividades económicas; regulará mejor al disponer de una información más completa sobre los impactos de la regulación; evaluará de manera permanente la eficacia de las políticas; desarrollará funciones de planeación y liderazgo estratégico para dar respuestas a los desafíos económicos y sociales; y tendrá un enfoque más participativo de la gobernabilidad. 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37B4-EB08-4174-A223-5A5F452A96F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2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Hechas las distinciones del caso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política vs. gest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sustancial vs. reforma institucional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política vs. administrativa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y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vs. modernizac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es sano volver a la vaga e inclusiva definición de Pollit y Bouckaert: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“Son cambios deliberados a las estructuras y procesos del sector público, con el objeto de hacer que funcione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mejor en algún sentido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n definitiva, de eso se trata, de que funcionen mejor para los ciudadanos, y también para los trabajadore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Reforma y modernización del Estado: Perspectiva histórica y Conceptos General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7043-B10F-4121-B5A6-8B24052765B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BE8A-F5D0-4C32-8206-E129E99A51B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distinguen reformas políticas y reformas administrativ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política consiste en cambio discontinuo en lo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so de dictadura a democrac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ambio de estado unitario a estado feder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tegración supranacional en un nuevo est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versión de régimen presidencial a parlamentar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AD9E-36A1-41E9-8574-C604FD3E439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dministrativa consiste en cambios en la administración pública, en la forma como el poder ejecutivo realiza sus tare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rganización de estructuras gubernament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égimen y gestión del funcionari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ón financiera y presupuestar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la gest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8B13-45C3-40F7-8E21-D789E218214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plicación de principios organizacionales a la administr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mite mejoras en procesos rutinarios, sencillos, predecib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Desconoce especificidad de gest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 interpretación simplificada de la complejidad del sector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35E-0776-4A8F-A433-70CAF858695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7040" indent="-34704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366640" indent="-21924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caracteriza por rejuvenecimiento físico, organizativo, introducción de nuevas tecnologí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o supone un cambio de la institucionalidad, ni de las funciones ni de los roles de la administr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 veces permite hacer eficientemente lo incorrect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gerencial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asocia con “modernización de la gestión pública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D37E-EBB7-4175-AFD8-7A7D395C7D9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naliza relación de la administración con el resto del Estado y su legitimidad democrática.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ntiende que lo administrativo y lo político están íntimamente lig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conoce que la acción gubernamental se caracteriza por la interconexión entre servicios e instancias públicas y priv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5-28T15:42:55Z</dcterms:modified>
  <cp:revision>940</cp:revision>
  <dc:subject/>
  <dc:title>GESTION PUBLICA Y MODERNIZACION DEL ESTADO</dc:title>
</cp:coreProperties>
</file>