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88E8-5E91-4E3B-B5F0-462F67B166E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7C66-780A-4A0D-9DC3-65D1BFFF681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3AF3-683C-42BF-B61E-BEA0BC6B6D2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8C71-7CDF-40D1-B272-56B1D798CF8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0428-F359-45A9-9AC1-81FECA6A9A7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AFA4-64DC-430F-8AF4-988DC4B7260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F05A-3A18-4637-AC01-FD650D6F040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80BC-14B8-4721-9690-34AFF670ADB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687-5EAB-46A7-B462-9FADA81E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6BD-DEDA-400B-96C8-997F915D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D37-23AE-4C63-8D8A-EE54FD17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347-D6B1-4294-98A4-24DE07A6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B9AE-B1A9-4DAB-BBA8-044029BC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471E-3D56-466E-AE6F-6E10395C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FD9C-4927-4A5C-8367-86F34323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D308-2747-4829-96DD-01BC574E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B6F5-D5AC-42B0-9385-C8EB652F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BAD2-527F-43B5-B228-757D3CB9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28EA-66B2-4CE8-9C8A-63E6BD74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CB4-DCE0-44A7-9E54-D9C4A689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B4CA-C768-4B18-8ADD-8E0287A6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B95D-C1C9-437C-9244-6C864F34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DBD7-1092-4F21-970B-6880EB89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DA61-AB37-4183-99C3-F22D5F22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D1C5-179A-421C-956B-0FC32557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C29-8C5B-4A83-BE29-479B0165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C68-82C9-40BA-A9D3-0116798D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AE4-0DE8-4AFE-ACA5-56425050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C57-AA63-4787-84B8-F4F880B2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910-5C38-46A9-913A-91A0D140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1A6-508D-49D2-B929-DCD033E8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7D8-20C1-42EC-A5D3-DE3B271B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9FC2-E350-49E8-B35D-02C3159FAAE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50F6-2131-4372-9718-52738C83505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ramitefacil.gov.cl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5321-55CB-40AD-8062-DD601AC7F05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136000" cy="172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2. La experiencia chilena en los últimos 20 años. </a:t>
            </a: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El estado de la Reforma del Estado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33320" y="4581360"/>
            <a:ext cx="7655040" cy="136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8A3D-D51A-4989-A625-59EC62A3AB0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Reformas de la institucionalidad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Nueva institucionalidad de salud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Ministerio de Salud como órgano rector con Subsecretaría de Redes y Subsecretaría de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uperintendencia de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Autoridades regionales de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Hospitales públicos autogestion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Nueva institucionalidad de la cultur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onsejo Nacional de la Cultura presidido por Ministr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onsejos Regionales de la Cultura y las Art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omité Consultivo Nacional y diversos Fon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1B67-2DCC-4DF5-9839-02FB901D8CD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descentralizadora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Inversión pública de decisión regional del 57%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FNDR aumenta en 140% y Fondo Común Municipal en 68%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oyecto de Reforma Constitucional para democratizar Core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oyecto de creación de nuevas regione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Ley de casinos de beneficio municipal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Municipios se incorporan a Chilecompra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ogramas de inversión regional: sanitaria, convenios de programación, electrificación rural, PMU, PMB, Profir, Profim, Cideze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AE8C-D3F6-4C19-AC40-8120B3BAAA4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3399"/>
                </a:solidFill>
                <a:latin typeface="Arial"/>
              </a:rPr>
              <a:t>Recurso humanos y Dirección Públic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Creación de la Dirección Nacional del Servicio Civil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Creación del Sistema de Alta Dirección Pública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Consejo de Alta Dirección Pública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Sistema de concursos y selección de directivo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Puesta en marcha del proceso de concursos y selección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Formación de altos directivo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Carrera funcionaria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Concurso de cargos de tercer nivel directivo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3399"/>
                </a:solidFill>
                <a:latin typeface="Arial"/>
              </a:rPr>
              <a:t>Política de remuneraciones.</a:t>
            </a:r>
            <a:endParaRPr b="1" i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Incentivos al desempeño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Asignación para funciones crítica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Bonificación al retiro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73CA-65F1-462F-87A0-C95E5525D1C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Modernización en finanza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trol de gestión y presupuesto por resultad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ceso presupuestario e indicadores de desempeñ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valuación de programas e institu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Balances Integrales de gestión BGI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gramas de mejoramiento de gest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Transparencia fisc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gulación de gastos reserv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omisión Mixta Permanente de Presupuest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ntrega de información por parte del ejecutiv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Implantación del SIGFE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C800-8B53-4A69-82E0-8294813B68A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Modernización en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ey de Bases de los Procedimientos Administrativ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Sistema de compra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Marco normativo y plataforma electrónica para compr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Tribunal de Contratación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Gobierno electrónico y nuevas tecnologí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genda de gobierno electrón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tención a ciudadanos: Portal TrámiteFácil y trámites en líne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cceso a la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54F1-9C9D-44B3-AFF2-A83B098A3D6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6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Transparencia y derechos ciudadan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Declaración de patrimonio de autoridade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Regulación del financiamiento de la polít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oyecto de lobby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Regulación de relación entre función pública a actividades privad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venciones internacionales contra la corrupc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C88F-5005-499F-9B59-E66D7AACB3A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7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sejo Ciudadano para el fortalecimiento de la sociedad civi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lan de fortalecimiento de la sociedad civi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ondo de iniciativas de la sociedad civi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ondo de capacitación de dirigentes soci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Instructivo Presidencial sobre participación ciudadan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oyecto de ley de asociaciones y participación en la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MG de atención a usuarios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26560" y="18864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. Avances en reforma del estado en gobierno de R.Lagos.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E879-2113-420E-B8CC-1722263FB8A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DFE4-FEB4-445F-B32B-CEA79B00A094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Nueva institucionalidad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Consejo para la Competitividad y la Innovac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Ministerio de Energí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Régimen de gobierno corporativo para empresas privadas y nuevo estatuto de Codelc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a ley de concesiones de OOPP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Ministerio de Medio Ambiente, transformación de Conama y Coremas, Servicio de Evaluación Ambiental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Red de Protección Soci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a institucionalidad para reforma prevision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1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E478-3BDB-4A6F-8687-91F84F3CACD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3A38-4CFB-4BA9-97BB-1B269BE6A0C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Nueva institucionalidad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a institucionalidad del sector turismo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Nuevo diseño del Ministerio de Defensa, con creación de nuevas subsecretarí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Reforma a la institucionalidad de la discapacidad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2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BC4C-99C4-4D04-8703-696593A42B2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844A-23D4-4EA4-B758-7ADCD8B04901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2. </a:t>
            </a:r>
            <a:r>
              <a:rPr b="1" i="1" lang="es-MX" sz="2400" spc="-1" strike="noStrike">
                <a:solidFill>
                  <a:srgbClr val="ff9900"/>
                </a:solidFill>
                <a:latin typeface="Trebuchet MS"/>
              </a:rPr>
              <a:t>Descentraliz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Creación de fondos especiales de decisión regional ( Inversión para competitividad FIC; Inversión local FRIL)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Transferencia de competencias; creación de División de Planificación y Desarrollo Regional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Agencias Regionales de Desarroll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Elección directa de Consejeros regionale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Nuevas Regiones : Arica y Parinacota y Los Rio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9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Territorios especiales de Isla de Pascua y Juan Fernández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252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3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5045-D23A-44EC-8DEA-A314A268DEB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1. Gobierno del Presidente P.Aylwin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485720"/>
            <a:ext cx="806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Aylwin (1990-1994): transición a la democracia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3399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reación de instituciones básicas para el desarrollo de políticas públicas prioritarias.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 Ejemplo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inisterio Secretaría General de la Presiden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nstitucionalidad social: Mujer y Familia, Indígenas, Solidaridad e Inversión Social, Juventud, Discapacitad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nstitucionalidad para la Cooper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dio Ambiente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13E1-9592-4899-90E6-2EACC9D2A8D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998F-F1BB-456A-87ED-C511DABDD64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3. </a:t>
            </a:r>
            <a:r>
              <a:rPr b="1" i="1" lang="es-MX" sz="2400" spc="-1" strike="noStrike">
                <a:solidFill>
                  <a:srgbClr val="ff9900"/>
                </a:solidFill>
                <a:latin typeface="Trebuchet MS"/>
              </a:rPr>
              <a:t>Sector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Nueva ley general de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Consejo Nacional de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Agencia de Calidad de la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Superintendencia de Educación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Sistema nacional de competencias laborales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4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7765-7657-400D-9E17-CBEF52DF609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94BF-4E5B-472C-B52A-3B62C2C876F8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4. </a:t>
            </a:r>
            <a:r>
              <a:rPr b="1" i="1" lang="es-MX" sz="2400" spc="-1" strike="noStrike">
                <a:solidFill>
                  <a:srgbClr val="ff9900"/>
                </a:solidFill>
                <a:latin typeface="Trebuchet MS"/>
              </a:rPr>
              <a:t>Transparenci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Ley de transparencia y acceso a la Información Públic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Consejo para la Trasparenci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Trebuchet MS"/>
              </a:rPr>
              <a:t>Introducción del principio de la “Transparencia activa”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5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20A7-9CB5-4AF6-B80C-BE71FB3A198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7EEF-C390-4923-B22B-956C527D8515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5. 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Derechos Humanos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Creación del Instituto de los Derechos Human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6. </a:t>
            </a:r>
            <a:r>
              <a:rPr b="1" i="1" lang="es-MX" sz="2200" spc="-1" strike="noStrike">
                <a:solidFill>
                  <a:srgbClr val="ff9900"/>
                </a:solidFill>
                <a:latin typeface="Trebuchet MS"/>
              </a:rPr>
              <a:t>Modernización de gestión pública y recursos human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Evaluación de programas públic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Fondo de modernización de la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Gobierno electrónic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1375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Trebuchet MS"/>
              </a:rPr>
              <a:t>Portal de Trámites del estado. Chilecli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Código de Buenas Prácticas Laborale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Trebuchet MS"/>
              </a:rPr>
              <a:t>Traspaso de personal de honorarios a contrat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6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804D-21D1-43D4-8C32-D726E9EABCD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2228-5B96-4FD3-A7CD-6B850169B6B4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7. </a:t>
            </a:r>
            <a:r>
              <a:rPr b="1" i="1" lang="es-MX" sz="2000" spc="-1" strike="noStrike">
                <a:solidFill>
                  <a:srgbClr val="ff9900"/>
                </a:solidFill>
                <a:latin typeface="Trebuchet MS"/>
              </a:rPr>
              <a:t>Participación ciudadan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Sistema integral de Atención a Ciudadanos SIAC (ex OIRS)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Agenda de participación ciudadanas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170 Compromisos de particip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700 iniciativas de particip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Instructivo sobre participación ciudadana en la gestión pública. 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2520" indent="-452520" algn="just">
              <a:lnSpc>
                <a:spcPct val="8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Trebuchet MS"/>
              </a:rPr>
              <a:t>Nuevas formas de consulta ciudadana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para la reforma prevision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presidencial sobre la calidad en la educ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para la educación superior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48520" indent="-452520" algn="just">
              <a:lnSpc>
                <a:spcPct val="80000"/>
              </a:lnSpc>
              <a:spcBef>
                <a:spcPts val="1250"/>
              </a:spcBef>
              <a:buClr>
                <a:srgbClr val="00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Trebuchet MS"/>
              </a:rPr>
              <a:t>Consejo asesor sobre el trabajo y la equidad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4. Los logros del Gobierno de M.Bachelet. 7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D7BD-41EA-404C-8240-94C5C364743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1. Adecuación de la institucionalidad a las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necesidades de un Estado Modern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 u="sng">
                <a:solidFill>
                  <a:srgbClr val="0099cc"/>
                </a:solidFill>
                <a:uFillTx/>
                <a:latin typeface="Arial"/>
              </a:rPr>
              <a:t>Institucionalidad central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reación de instituciones básicas para el desarrollo de políticas públicas prioritari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ortalecimiento institucional políticas extrema pobrez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rreglos institucionales en sistema de control de calidad en la gestión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organización Sistema de Empres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Modernización judicial: procesal penal, trabajo, familia, competenci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diseño del sector salu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1692-5C3D-44D1-8657-3A307F6EF07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i="1" lang="es-CL" sz="2200" spc="-1" strike="noStrike">
                <a:solidFill>
                  <a:srgbClr val="0033cc"/>
                </a:solidFill>
                <a:latin typeface="Arial"/>
              </a:rPr>
              <a:t>Un Gobierno más cerca de las personas. La Descentralizac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Énfasis mayor en desconcentr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Rediseño de mecanismo de redistribución de recursos municip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Fortalecimiento y modernización Gobiernos Region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Descentralización ejecución programas soci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Modernización financiamiento municip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Modernización normas gestión administrativa y de recursos humanos en gobiernos loc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Nuevas Reg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A369-0E5D-465E-A30C-D3D3CABC5F6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3. Facilitar la relación de las personas con 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spcBef>
                <a:spcPts val="201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Lo central son los “trámites”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mplificación de procedimientos administrativos establecida por ley.  Silencio administrativ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Rediseño de proce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Portal </a:t>
            </a:r>
            <a:r>
              <a:rPr b="0" lang="es-ES_tradnl" sz="2200" spc="-1" strike="noStrike" u="sng">
                <a:solidFill>
                  <a:srgbClr val="d88100"/>
                </a:solidFill>
                <a:uFillTx/>
                <a:latin typeface="Arial"/>
                <a:hlinkClick r:id="rId1"/>
              </a:rPr>
              <a:t>www.tramitefacil.gov.cl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s-ES_tradnl" sz="2200" spc="-1" strike="noStrike">
                <a:solidFill>
                  <a:srgbClr val="f4b144"/>
                </a:solidFill>
                <a:latin typeface="Arial"/>
              </a:rPr>
              <a:t>Chilecli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2" marL="1085760" indent="-37296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1.600 trámites en el Port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Número de trámites en línea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360 y 400 formulari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Implementación de documento, firma electrónicos y factura electrón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3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1A45-F17F-4809-80A2-315F94B93FC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00000" y="1485720"/>
            <a:ext cx="80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1" i="1" lang="es-CL" sz="22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i="1" lang="es-ES_tradnl" sz="2200" spc="-1" strike="noStrike">
                <a:solidFill>
                  <a:srgbClr val="0033cc"/>
                </a:solidFill>
                <a:latin typeface="Arial"/>
              </a:rPr>
              <a:t>n servicio público más eficiente y eficaz: mejoras en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mportantes avances en implantación de cultura orientada a resultados y al servicio de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nstrumentos de gestión de amplio uso: PMG, Balances de Gestión, Sigf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 de evaluación de control de gestión financier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 de Compras públicas vía Internet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ransparencia fisc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Gobierno electrónico en desarroll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0" algn="just">
              <a:spcBef>
                <a:spcPts val="550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4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8337-CD4E-4D76-88B2-BDB0D54EEAB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1" i="1" lang="es-CL" sz="2200" spc="-1" strike="noStrike">
                <a:solidFill>
                  <a:srgbClr val="0033cc"/>
                </a:solidFill>
                <a:latin typeface="Arial"/>
              </a:rPr>
              <a:t>El desarrollo de las personas en </a:t>
            </a:r>
            <a:r>
              <a:rPr b="1" i="1" lang="es-ES_tradnl" sz="2200" spc="-1" strike="noStrike">
                <a:solidFill>
                  <a:srgbClr val="0033cc"/>
                </a:solidFill>
                <a:latin typeface="Arial"/>
              </a:rPr>
              <a:t>el sector públic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514600" indent="0" algn="just">
              <a:spcBef>
                <a:spcPts val="99"/>
              </a:spcBef>
              <a:buNone/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Profesionalización servicio público: concursos, mérito v/s antigüe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reación del Sistema Alta Dirección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reación Dirección Nacional del Servicio Civi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onsolidación legal normativa presupuestaria sobre gestión de person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 descentralizado de formación de recursos huma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digo de Buenas Prácticas Labor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5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D62C-469D-47CA-B439-8371A01A3AE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6. </a:t>
            </a:r>
            <a:r>
              <a:rPr b="1" i="1" lang="es-CL" sz="2600" spc="-1" strike="noStrike">
                <a:solidFill>
                  <a:srgbClr val="0033cc"/>
                </a:solidFill>
                <a:latin typeface="Arial"/>
              </a:rPr>
              <a:t>Avances en </a:t>
            </a:r>
            <a:r>
              <a:rPr b="1" i="1" lang="es-ES_tradnl" sz="2600" spc="-1" strike="noStrike">
                <a:solidFill>
                  <a:srgbClr val="0033cc"/>
                </a:solidFill>
                <a:latin typeface="Arial"/>
              </a:rPr>
              <a:t>rol regulador del Estado. 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 reducido el rol del estado de  productor directo de bienes y servici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n perfeccionado los marcos regulatorios de los servicios de utilidad pública, en normativa, fiscalización y sancione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 definido sistemas regulatorios para las relaciones público – privados en áreas de interés público abiertas a la inversión privad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99"/>
                </a:solidFill>
                <a:latin typeface="Arial"/>
              </a:rPr>
              <a:t>Se ha avanzado en modernizar el rol regulador del estado no sólo en la esfera productiva sino también en la soci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6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D5E0-0999-4140-A3BF-1A8FDDF84FA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1. Gobierno del Presidente P.Aylwin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486080"/>
            <a:ext cx="80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Presidente Aylwin (1990-1994): transición a la democraci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99"/>
                </a:solidFill>
                <a:latin typeface="Arial"/>
              </a:rPr>
              <a:t>Inicio de procesos de modernización de gestión pública en grandes servicios</a:t>
            </a: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: Impuestos Internos, Tesorería, Fondo de Salud, Registro Civil, etc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99"/>
                </a:solidFill>
                <a:latin typeface="Arial"/>
              </a:rPr>
              <a:t>Mejoramiento de condiciones de trabajo en el sector público</a:t>
            </a: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. Ejemplos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Incrementos salariale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Reconocimiento y formalización de asociaciones de funcionarios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99"/>
                </a:solidFill>
                <a:latin typeface="Arial"/>
              </a:rPr>
              <a:t>Democratización de los Gobiernos locales y regional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C5C7-3E56-4752-8E63-0C3A88FF4C1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7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Cuánto se está escuchando a las person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Establecimiento del Defensor Ciudadano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Comisión Asesora Presidencial para la Protección de los Derechos de las Person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Reforma Constitucional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en tramitación en el Congres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Participación Ciudadana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ortalecimiento Sociedad Civil y Participación ciudadana en la gestión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proyecto de ley en el Parlamento; instructivo presidencial sobre particip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istemas de Información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1500 Oficinas de Información y Reclamos en todos los servicios públic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400 Sitios web gubernamental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7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8E40-BEF2-4FA3-98C0-3FA3A987183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8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Un estado más probo y transparente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Financiamiento de la política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Transparencia en el financiamiento de la polític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Regulación de publicidad y difusión programas público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Regulación del lobby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Ley Transparenc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nstitucionalidad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royecto de Modernización Contralorí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erfeccionamiento fiscalización municip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ortalecimiento derecho ciudadano a la información: Declaración de patrimoni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85760" indent="-37296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ortalecimiento ética funcionaria: </a:t>
            </a:r>
            <a:r>
              <a:rPr b="1" lang="es-ES_tradnl" sz="2000" spc="-1" strike="noStrike">
                <a:solidFill>
                  <a:srgbClr val="003399"/>
                </a:solidFill>
                <a:latin typeface="Arial"/>
              </a:rPr>
              <a:t>Código de Ét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53352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Ley de Transparencia y Acceso a la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042920" y="244080"/>
            <a:ext cx="7902720" cy="10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5. Avances en la modernización del Estado (8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00CB-E584-45E6-98FB-D75DDA516A1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 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500" spc="-1" strike="noStrike">
                <a:solidFill>
                  <a:srgbClr val="0033cc"/>
                </a:solidFill>
                <a:latin typeface="Arial"/>
              </a:rPr>
              <a:t>1</a:t>
            </a:r>
            <a:endParaRPr b="1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3399"/>
                </a:solidFill>
                <a:latin typeface="Arial"/>
              </a:rPr>
              <a:t>1.  Autoridad política.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99"/>
                </a:solidFill>
                <a:latin typeface="Arial"/>
              </a:rPr>
              <a:t>Avanzar en la reforma del estado tiene como requisito fundamental que exista una autoridad política encargada de esta tarea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99"/>
                </a:solidFill>
                <a:latin typeface="Arial"/>
              </a:rPr>
              <a:t>Esta autoridad debe tener rango ministerial (Subsecretario) y debe tener autoridad sobre todas las instituciones transversales responsables de procesos de modernización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4DE6-41D6-4514-AA47-77571C548F9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2. Ordenar la agenda de modernizaciones de la institucionalidad 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- Las transformaciones institucionales deben priorizars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Se debe concordar cuales serán posibles de aprobar en este mandato presidencial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Modernización de la Cancillería. Subsecretario de Comercio Exterior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Ministerio de la Agricultura y la Aliment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Subsecretaría de Seguridad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Autoridad Metropolitana Central de Transporte Público de Pasajer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La institución del Defensor Ciudadan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9713-65B1-40C7-8CB3-DF2219F8F00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2.  Ordenar la agenda de modernizaciones de la institucionalidad.  (2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Agencia para la Calidad de las Políticas Públic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99"/>
                </a:solidFill>
                <a:latin typeface="Arial"/>
              </a:rPr>
              <a:t>Instituto del Patrimoni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Dirección de fiscalización electoral especializada en fiscalización y supervigilanc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Ministerio de asuntos Indígenas y Consejo Nacional de Pueblos Indígen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CAC3-4344-474D-81CF-AC066025A24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3. Avanzar en el nuevo trato laboral: Las personas que trabajan para el estad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Definir política clara sobre vinculación laboral: plantas y contratas. Crear estatuto para contratas similar al Código del Trabaj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Facilitar la jubilación de personal en edad de jubilar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Recrear sistema de evaluaciones y de calificaciones y hacerlo operar eficazment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Superar rigidez de diversos estatutos especiales : docente, municip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Incentivos a la formación y perfeccionamiento (pasantías, e-learning)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D306-8F91-4E3A-BFDC-C589E38B4C5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5490a8"/>
                </a:solidFill>
                <a:latin typeface="Arial"/>
              </a:rPr>
              <a:t>4. </a:t>
            </a:r>
            <a:r>
              <a:rPr b="1" i="1" lang="es-MX" sz="2800" spc="-1" strike="noStrike">
                <a:solidFill>
                  <a:srgbClr val="003399"/>
                </a:solidFill>
                <a:latin typeface="Arial"/>
              </a:rPr>
              <a:t>Fortalecer la capacidad </a:t>
            </a:r>
            <a:r>
              <a:rPr b="1" i="1" lang="es-ES_tradnl" sz="2800" spc="-1" strike="noStrike">
                <a:solidFill>
                  <a:srgbClr val="003399"/>
                </a:solidFill>
                <a:latin typeface="Arial"/>
              </a:rPr>
              <a:t>institucional para dirigir mejor: fortalecimiento del poder ejecutivo.</a:t>
            </a:r>
            <a:r>
              <a:rPr b="1" i="1" lang="es-ES_tradnl" sz="2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332000" y="2924280"/>
            <a:ext cx="7488000" cy="36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Mejorar la coordinación central de gobierno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Completar donde falte la diferenciación institucional: formulación de políticas, ejecución, regulación y fiscalizació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Actualización marco jurídico ministerial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Mejorar la coordinación en temas transversale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2389-DBAB-4C38-89A0-06269EEFEFC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5. Definir una interpretación clara sobre la descentralización</a:t>
            </a:r>
            <a:r>
              <a:rPr b="0" i="1" lang="es-MX" sz="2400" spc="-1" strike="noStrike">
                <a:solidFill>
                  <a:srgbClr val="0033cc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4804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99"/>
              </a:solidFill>
              <a:latin typeface="Verdana"/>
            </a:endParaRPr>
          </a:p>
          <a:p>
            <a:pPr lvl="1" marL="804240" indent="-365400" algn="just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Fortalecimiento y modernización de gobiernos region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04240" indent="-36540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finir política sobre creación de Servicios region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Desarrollo soci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Infraestructura y transporte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Desarrollo productiv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07080" indent="-3290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lanificación regional y ordenamiento territori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4240" indent="-365400" algn="just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Modernización municipal. Evaluar el modelo actual, proponer ajustes y definir plan de acción de mediano plaz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04240" indent="-365400" algn="just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finir cambios en modelo político de la descentraliz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C77E-F29F-409E-A45D-6BE97AD8FDE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6. Completar la reforma a la justicia</a:t>
            </a:r>
            <a:r>
              <a:rPr b="0" i="1" lang="es-MX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reación tribunales de lo contencioso administrativ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Modernización Judicatura Civil.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Gestionar adecuadamente reformas en implementación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Procesal pen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Famil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Trabaj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Competenc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99"/>
                </a:solidFill>
                <a:latin typeface="Arial"/>
              </a:rPr>
              <a:t>Tributari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9D84-B652-44AF-B4C1-3FEDF060B16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7. Perfeccionar la institucionalidad y las capacidades regulatorias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1337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Verdana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Fortalecimiento entes reguladores actualmente establecid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erfeccionar el modelo de autonomía de entes regulado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A6FE-E86F-4328-9B35-92641E22C88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2. Gobierno del Presidente E.Frei R-T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Frei (1994-2000): modernización de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99"/>
              </a:solidFill>
              <a:latin typeface="Verdana"/>
            </a:endParaRPr>
          </a:p>
          <a:p>
            <a:pPr marL="35784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reación de Comité Interministerial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1994)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Recursos human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Incentivos vinculados a calidad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puesta de sistema de gerencia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Mejoras en capacit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alidad de servicio y participación ciudadana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Simplificación de trámit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Cartas de derechos ciudadan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emio nacional a la calidad de servicios públic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emio a la innovación en gestión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CA0E-1B43-4B79-8B01-1246FD8BF26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8. Mantener y perfeccionar avances logrados en la gestión pública.</a:t>
            </a:r>
            <a:r>
              <a:rPr b="1" i="1" lang="es-MX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Nuevas tecnologías: permanente ajuste y actualización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.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vanzar en la interoperabilidad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istema decisional: ley de procedimientos hecha proces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trol de gestión. Evaluar herramientas actuales, simplificarlas y hacerlas más releva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Buenas prácticas en gestión: recopilación y aprendizajes a partir de ell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7752-B51A-48E8-85EE-4A5040BF53B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9. Instalar en forma real la 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1337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99"/>
              </a:solidFill>
              <a:latin typeface="Verdana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Incorporación legal de los ciudadanos en procesos decision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ctualizar instructivo sobre 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erfeccionar los sistema de información sobre la acción estatal: nuevo impulso a las OIR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instalar las cartas de derechos ciudadanos en los servicio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2AD7-534A-4AF4-8E4C-609E24D16BB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Temas pendientes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11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10.  Completar la agenda de probidad y transparencia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La ética como sustento de la participación en el servicio públ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Rediseño de los sistemas de contro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Resolver los conflictos de interés de altos funcionarios de gobiern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15DB-5EBD-4BEE-98AE-6934F7D6675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 El Consorcio para la Reforma del Estado.  1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La meta: un Estado de clase mundial al servicio de las person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ntecedentes a considerar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Sociedad chilena tiene nuevos desafíos y mayores aspir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Ciudadanos le exigen al estado calidad y diversidad de servic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Empresas requieren relacionarse de nuevas formas con el estad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País debe adaptarse a la globaliz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Si bien hay avances en el tipo de estado, es insuficiente para enfrentar el futur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1583-C2BB-42AA-9A74-CDBBF75751C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2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ntecedentes a considerar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Estado presenta estructuras anticuadas; la gestión de políticas públicas es ineficiente; crecimiento ha sido inorgánico; hay malas práct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Para avanzar al desarrollo se requiere reformas institucionales que mejoren eficiencia y eficacia en la gestión; diseño de políticas públicas que respondan a necesidades de personas; transformaciones que ejecuten de forma coherente; se debe asegurar flexibilidad al aparato estat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Reformas como las planteadas permitirían aumentar el ingreso por habitante, mejorar la equidad y la protección social, y ofrecer mejores oportunidades a todos los chile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E07E-798F-45C1-987D-A13ECF78C7F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3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genda de reformas propuesta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550"/>
              </a:spcBef>
              <a:buClr>
                <a:srgbClr val="00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Liderazgo integrador y eficaz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que ayude a superar la fragmentación del estado chileno; que facilite el ejercicio de las facultades presidenciales; que separe las tareas de estado de las de un gobiern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550"/>
              </a:spcBef>
              <a:buClr>
                <a:srgbClr val="00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Ejecución efectiva de la estrategia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para producir los impactos esperados la ejecución debe estar coordinadas y orientadas a los resultados; debe existir buena coordinación intersectorial; se debe contar con mayor flexibilidad organizacional; mejorar proceso de diseño, presupuesto, ejecución y evaluación de polít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4740-A0BD-4447-A74A-5B80BC7DF64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4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genda de reformas propuesta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Personas - profesionalizar el estado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esarrollar carrera profesional de servicio público que privilegie el mérito; instaurar la movilidad horizontal entre servicios; expandir la selección de directivos a nuevas áreas institucion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Los ciudadanos como protagonistas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eben ser el centro de la acción estatal; crear espacios de opinión, elección y participación; profundizar transparencia en gestión pública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Fortalecer la primera línea del estado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esarrollar a nivel municipal entrega de servicios públicos; fortalecer capacidades municipales y flexibilizar estructur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F714-4272-423B-9B2A-5F896CEB6AC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5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Liderazgo integrador y eficaz.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Separar la definición de políticas de su ejecución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Evitar conflictos de interés cuando en una institución se ejercen simultáneamente roles de juez, fiscalizador y evaluador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Definición de políticas corresponde al Presidente y su Gabinete; ejecución debe recaer en unidades permanentes del estado. *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Se deben profesionalizar entidades ejecutoras, se debe revisar dependencias institucionales, descentralización ayuda en este proceso, mejorar instrumentos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Mejorar herramientas al servicio del Presidente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: El centro de gobierno presta servicio directo al Presidente; proponen crear “Oficina de la Presidencia” fusionando Segpres y Segegob; coordinar políticas intersectoriales vía Consejos de Ministr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FA49-2625-4800-97A4-0030EF6C45F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6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Ejecución efectiva de la estrategia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Estrategias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 deben expresarse en metas con indicadores para medir impactos. Estrategias requieren mantener integralidad de las políticas (diversas instituciones deben operar con mismas directrices); funciones de diseño, ejecución, fiscalización y evaluación deben evitar conflictos de interes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Contratos de ejecución de políticas transversales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. Ministros son responsables políticos de políticas transversales, deben contratar ejecución de productos asociados a metas estratégicas con agencias públicas o empresas privadas, esto introduce incentivos para mejorar calidad y eficiencia. Potenciales descoordinaciones deben resolverse por Oficina del Presidente. Esto evita crear nuevas instituciones por nuevos problem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943D-06A2-478B-9C6E-8A29DECCF91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7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Ejecución efectiva de la estrategi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Convenios de desempeño de los servicios públicos: 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Para alinear gestión de servicios públicos con estrategia gubernamental se deben firmar convenios de desempeño, para evaluar resultados y definir incenti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Función de las Subsecretarías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Separar equipo político de Ministros ( Jefe de Gabinete y asesores) de Subsecretario que debe administrar ministerio y programas no adscritos a servicios; no debe subrogar a Ministr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Proceso presupuestario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Sistema presupuestario debe contemplar gestión anual y planificación plurianual. Debe valorar servicios prestados, imputar activos y facilitar transparencia y eficiencia públ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FE5C-162A-42E6-B4DA-BA136872518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2. Gobierno del Presidente E.Frei R-T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Frei (1994-2000): modernización de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marL="35784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yecto de compras públicas vía electrón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Ley de probidad administrativ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Consejo de Auditoría Interna de Gobiern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Oficinas de información y reclam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ortal del Estad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Gestión estratég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gramas de mejoramiento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rograma de evaluación de proyectos de gobiern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lanes pilotos de mejoramiento de gest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2912-ECAC-4D78-99EE-9E4D53D1971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8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Ejecución efectiva de la estrategi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Evaluación de la acción del estado: 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Al alero de una planificación estratégica del estado, se debe integrar los sistemas de evaluación y gestión existentes. Promover información integrada que permita el control y evaluación de resultados. Esto debe complementarse con una Agencia de Calidad de las Políticas Públicas, independiente, que mida el impacto de políticas, velando por su cali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Control de legalidad y auditoria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Pasar del control exante al control expost, que Contraloría defina y aplique sanciones. Crear sistema judicial administrativo, mecanismos de resolución de contenciosos administrativos. Fortalecer la auditoria intern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1C19-0CD0-49EE-825D-FA8CA2AB52B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.2.  El Consorcio para la Reforma del Estado.  9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Personas: profesionalizar el Estado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Una carrera funcionaria de excelencia: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Mejorar procesos de selección, evaluación y movilidad; establecer movilidad horizontal entre diversas instituciones del estado de todo nivel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Nuevo contrato de carácter indefinido y que accede al seguro de desempleo como sistema de ingreso; no habrá nuevas incorporaciones a actuales plantas; honorarios sólo para labores temporale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D60B-A805-4E45-A1CF-C5510A587CD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9i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Personas: profesionalizar el Estado. 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Una carrera funcionaria de excelencia: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* 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Simplificar sistema de grados y crear bandas de remuneraciones; mejorar sistemas de evaluaciones individuales y grupales; comités de calificaciones con supervisión externa; incentivos de remuneraciones en función de indicadores de calidad de atenció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 Mejorar formación y capacitació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 Instaurar relaciones laborales modernas, con mecanismo descentralizado de negociación reglada y con arbitraje forzoso. 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B003-2E11-4804-A44D-79B0B515745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0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Personas: profesionalizar el Estado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Profundizar el Sistema de Alta Dirección Pública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* 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Expandir el sistema a los servicios nacionales no incorporados, a los gobiernos regionales (directivos de Gores y jefes de servicios regionales) y municipales (administradores municipales y jefes de programas)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* Seleccionar a Subsecretarios por el SADP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* Descentralizar gestión del personal entregando a directivos mayor capacidad de decisiones autónom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3399"/>
                </a:solidFill>
                <a:latin typeface="Arial"/>
              </a:rPr>
              <a:t>Fortalecer Servicio Civil y crear Consejo de Personal</a:t>
            </a:r>
            <a:r>
              <a:rPr b="0" lang="es-MX" sz="2200" spc="-1" strike="noStrike">
                <a:solidFill>
                  <a:srgbClr val="003399"/>
                </a:solidFill>
                <a:latin typeface="Arial"/>
              </a:rPr>
              <a:t>: Darle autonomía al Consejo y transformar el Servicio Civil en servicio autónom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98B8-161F-4CDD-B7FF-CBB41AF9432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1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Los ciudadanos como protagonistas.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Profundizar la transparencia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Evitar costos y riesgos de intervención y captura del estado por intereses particulares, facilitando el control ciudadano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Implementar adecuadamente Ley de Acceso a la Información y Consejo para la Transparencia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Definir claramente funciones y atribuciones de instituciones y hacerlas conocidas por la ciudadaní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Mecanismos de participación efectivos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Participación ciudadana en diseño de políticas, en control de la acción pública y en empoderamiento frente a resultado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Establecer documentos de consulta de políticas y permitir que ciudadanos exijan mejores servici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563E-2E2C-431F-AD59-16D5A13FA5E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2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Reforzar y empoderar a la primera línea del Estado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Servicios públicos en torno al ciudadano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: Rediseñar servicios públicos en torno al ciudadano, agrupando la prestación de servicios en una sola entidad. Estado debe procesar en línea e internamente los requerimientos de ciudadan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Descentralización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: Permite mayor cercanía del estado a las personas, para facilitar el escrutinio público, el recoger necesidades y preferencia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A9B4-D171-46CA-9B8D-858FDC10A48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3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3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zar y empoderar a la primera línea del Estad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-335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Fortalecer el gobierno local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: el liderazgo local es requisito para un gobierno que responda a ciudadan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Se debe dotar a municipios de capacidad de decisión y de gestión en provisión de servicios e inversión local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Se debe lograr correspondencia entre responsabilidades y atribuciones y capacidades y recurs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Dar mayor autonomía en organización interna y contratacione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0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8FC2-BC1C-47F9-B179-13ADBF326ED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4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zar y empoderar a la primera línea del Estad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Fortalecer el gobierno local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Perfeccionar mecanismos de rendición de cuentas. Instituciones nacionales deberán contratar ejecución de servicios a municipios bajo estándares predefinidos y exigible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Traspasar la responsabilidad en temas urbanos a municipios. Entregar recursos en forma directa a municipios sin pasar por el FNDR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*Darle a municipios mayor autonomía en determinación de ingresos. * Perfeccionar política de aportes financieros a municipi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B1C3-A1BB-403D-9042-B1A17FE8487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7  El Consorcio para la Reforma del Estado.  15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Reforzar y empoderar a la primera línea del Estado</a:t>
            </a: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El rol de las regiones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3399"/>
                </a:solidFill>
                <a:latin typeface="Arial"/>
              </a:rPr>
              <a:t>*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Gores tiene rol relevante en coordinación y financiamiento de inversiones y en movilizar recursos privado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Nombramiento de directivos regiones por el SADP. *Instaurar mecanismos de presupuestos plurianuales y con flexibilidad para reasignacione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Mejorar evaluación de rentabilidad social de proyectos regionales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*Revisar convenios de programación para hacerlos coherentes con estrategias regionales de desarrollo. *Eliminar las actuales provincias y posibilitar la instalación de territorios con un coordinador territorial. Mantener nombramiento de intendentes por Presidente, previa consulta a la reg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0EC9-03BF-49F3-BFDD-19A9C8DF65F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1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Una nueva forma de gobernar.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Presidente todo terreno 24/7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Fin al cuoteo polític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Servicio público al servicio de los ciudadanos y no de los partidos políticos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Se impondrá el sentido de urgencia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Rol del Estad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proveedor de bienes públicos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gente promotor de la innovación y el emprendimient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facilitador de la igualdad de oportunidades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regulador del mercado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factor de protección de los más desmejorados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0D1E-83E7-4D09-90B5-04673A2DAC7C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2. Gobierno del Presidente E.Frei R-T (3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Frei (1994-2000): modernización de la gestión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escentralización e institucionali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2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Compromisos de desconcentració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Institucionalidad reguladora de servicios de utilidad pública.</a:t>
            </a: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Nuevas tecnologías de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4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Plan de acción en NTI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Documento electrónico y firma digital en sector públic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99"/>
                </a:solidFill>
                <a:latin typeface="Arial"/>
              </a:rPr>
              <a:t>Intranet gubernament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2F03-813C-4F3C-BC1E-CB71EFF621D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2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oncertación no ha modernizado el estado para adecuarlo a los requerimientos del siglo XXI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Meta es tener mejor estado, fuerte, eficiente y con sentido de urgencia. Rol de funcionarios públicos es fundamental, son ejemplo de servici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5 ejes para la modernizac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2524-D496-4A05-B67D-727B0FD1B77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3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76920" indent="-37692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Mejorar la gestión de la administración superior del estado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reación del Ministerio de Desarrollo Socia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Reestructuración de Segegob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Fortalecer rol coordinador de Segp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Ministros coordinadores para abordar prioridades del gobiern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Superintendentes designados por Sistema de Alta Direc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12960" indent="-37692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reación de Agencia de Auditoría dependiente del PdlR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8425-C717-4BAC-999B-B0A1B26CB65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4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3399"/>
                </a:solidFill>
                <a:latin typeface="Arial"/>
              </a:rPr>
              <a:t>Contar con mejores servidore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Creación de Academia para formar a funcionario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Extensión de selección de Alta Dirección a niveles regionales y municip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Mayor movilidad horizontal y el mérito para el ascens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Incentivos de remuneración variable para funcionarios destacad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-3808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99"/>
                </a:solidFill>
                <a:latin typeface="Arial"/>
              </a:rPr>
              <a:t>Avanzar en transparencia y rendición de cuent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0919-F645-4723-878A-59263D9CB18A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5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3. Mejorar la calidad de los servicios públic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Perfeccionar el sistema de evaluación de proyectos públic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Crear la Agencia Autónoma de Evaluación de Políticas Públicas para evaluación expost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4. Potenciar la Contraloría General de la República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Mejorar control de legalidad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Supervisar buen uso de recursos y probidad.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63B5-E1C0-4FE6-B196-69292D050F3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6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Reformas planteadas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just"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3399"/>
                </a:solidFill>
                <a:latin typeface="Arial"/>
              </a:rPr>
              <a:t>Un Estado moderno al servicio de la gente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5. Modernización de las empresas pública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Regirse por normas de sociedades anónimas abierta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Transformación del SEP en holding autónomo, con directorio representativo de todos los sectores del paí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22320" indent="0" algn="just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3399"/>
                </a:solidFill>
                <a:latin typeface="Arial"/>
              </a:rPr>
              <a:t>- Cambios en gobiernos corporativos de empresas para asegurar autonomía del gobierno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C206-497B-48AF-879A-B3D8F8BDAFF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7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98720" y="1499760"/>
            <a:ext cx="8045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de Modernización. Junio 2010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corta : 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Fortalecimiento del centro de gobiern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Coordinación estratégica (Comités de Ministros y estructuración de estrategia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Calidad de políticas públicas  (Coherencia de mérito, jurídico, programática y presupuestaria; coordinación sectores, Segpres, Dipres; análisis y gestión integrada de evaluación de política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Cumplimiento de políticas públicas ( metas, acciones, plazos y responsables; gestión de cumplimiento de ejes  prioritarios –delivery unit-; seguimiento de cumplimiento ministeria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5EF2-7DEA-4A73-82C5-7C5A440310E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3399"/>
                </a:solidFill>
                <a:latin typeface="Arial"/>
              </a:rPr>
              <a:t>8  El programa de Gobierno de Sebastián Piñera.            8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98720" y="1499760"/>
            <a:ext cx="8045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de Modernización. Junio 2010.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feccionamiento de la institucionalidad del estad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Desarrollo social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Seguridad Públic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Infancia y adolecentes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Dirección del Trabaj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Adulto mayor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Áreas silvestres protegid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Infraestructura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Política indígen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Innovación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3399"/>
                </a:solidFill>
                <a:latin typeface="Arial"/>
              </a:rPr>
              <a:t>Descentralizació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57840" indent="-3578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99"/>
                </a:solidFill>
                <a:latin typeface="Arial"/>
              </a:rPr>
              <a:t>Agenda larga 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feccionamiento Alta Dirección Pública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Perfeccionamiento incentivo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Agencia de calidad de políticas públic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Gobiernos corporativos de empresas pública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99"/>
                </a:solidFill>
                <a:latin typeface="Arial"/>
              </a:rPr>
              <a:t>Nueva institucionalidad del Estado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0998-9D21-47C6-A717-FD9B3BF764A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136000" cy="172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2. La experiencia chilena en los últimos 20 años. </a:t>
            </a: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El estado de la Reforma del Estado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733320" y="4581360"/>
            <a:ext cx="7655040" cy="136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33D2-255A-4146-A41E-AE89789BBB8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3. Gobierno del Presidente R.Lagos  (1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Presidente Lagos (2000-2006): reforma instituciona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99cc"/>
                </a:solidFill>
                <a:latin typeface="Arial"/>
              </a:rPr>
              <a:t>Énfasis del perio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l año 2000 se puso en marcha el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oyecto de Reforma y Modernización del Estad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con un enfoque global sobre transformaciones institucionales y de modernización de la gest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cuerdos de enero de 2003: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Agenda de Modernización consensuada con la oposición revitalizó el proceso de reforma, permitiendo abordar cuestiones fundamentales del orden institucional del Gobiern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5C96-75DD-4BDC-847A-0133E7660A3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3. Gobierno del Presidente R.Lagos  (2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texto político y posibilidades de éxit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mplitud de la agenda y dificultades de implementación simultáne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Situación económica del paí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iderazgo del proyecto de reform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Reforma institucional y limitaciones de sistema político presidencial – parlamentari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Opción por obtener logros menores pero tangib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onclusión: a los dos años se baja el perfil al PRYME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Se opta por desagregar implement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Se  opta por avanzar en lo pos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0C0A-B005-46BC-876C-038DCD3A73C4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3. Gobierno del Presidente R.Lagos  (3)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Mediados 2002 : acusaciones de corrupción en Ministerio de Transportes y Ministerio de Obras Públic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Gobierno opta por clarificar acusacione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Se desata crisis política grave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En centro de explicación de crisis está : </a:t>
            </a:r>
            <a:r>
              <a:rPr b="1" i="1" lang="es-MX" sz="2200" spc="-1" strike="noStrike" u="sng">
                <a:solidFill>
                  <a:srgbClr val="003399"/>
                </a:solidFill>
                <a:uFillTx/>
                <a:latin typeface="Arial"/>
              </a:rPr>
              <a:t>el mal funcionamiento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parece como necesidad el mejorar gestión e institucionalidad pública. 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003399"/>
                </a:solidFill>
                <a:latin typeface="Arial"/>
              </a:rPr>
              <a:t>Aparece como oportunidad el avanzar en la reforma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21:03:08Z</dcterms:created>
  <dc:creator>Rodrigo Egaña</dc:creator>
  <dc:description/>
  <dc:language>en-US</dc:language>
  <cp:lastModifiedBy>..</cp:lastModifiedBy>
  <cp:lastPrinted>2003-02-05T21:45:17Z</cp:lastPrinted>
  <dcterms:modified xsi:type="dcterms:W3CDTF">2010-06-23T20:25:42Z</dcterms:modified>
  <cp:revision>1281</cp:revision>
  <dc:subject/>
  <dc:title>GESTION PUBLICA Y MODERNIZACION DEL ESTADO</dc:title>
</cp:coreProperties>
</file>