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E6F-7234-4072-9714-82170850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2D5-B2EE-4B38-AA6E-963E5D54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51B-C391-4FF2-8891-E38B06BA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82A-AAC8-4809-A200-B99A3EEB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D70-949F-4C03-8E47-BD91F0D4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A83-3F44-4A59-A67A-7038946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74F-F267-4C98-9246-F119FE3A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E67-D27C-44BA-8692-5EF3E9E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878-F0B9-4CB4-A075-84C610E9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8F6-6EBD-4C53-A988-004F195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6D0-A447-41E0-BBC3-76982FE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089-AEFD-46D5-85C8-C40AF2A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100-039D-4D1B-A86C-6EE3ECEDE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La Construcción de la República: el imaginario de orden y lega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. Marco Mor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s comienzos de la República no fueron fác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rá marcado por conflictos (que van desde resolver situaciones heredadas del período colonial hasta lograr la cohesión de los grupos dirigentes para configurar un nuevo orden político y social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  tarea, empezó a tomar forma en las guerras de Independencia, pero en especial durante los gobiernos de conservadores (Prieto, Bulnes y Mont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 basa en la puesta en marcha de una nueva institucionalidad republic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ricto rigor y más allá de las intenciones discursivas el bajo pueblo urbano y rural había permanecido indiferente a los acontecimientos surgidos después de 18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o se dio en gran medida porque la discusión teórica y conceptual sobre la materialización de un Estado republicano era ajena a su realidad inmedia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66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 clase dirigente del período 1810-1840, buscó institucionalizar un Estado republicano con separación de poderes, régimen representativo y reconocimiento del concepto de soberanía pop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a situación dio como resultado que la definición del orden político y social del nuevo Estado republicano estuviera en manos de unos pocos, de una elite que había adoptado un lenguaje revolucionario e igualitario en teoría, pero que una vez en el poder no buscó precisamente extender privilegios o crear instancias de diálog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nuevo orden institucional republicano debía apoyarse sobre un orden so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e orden requería de una cuidadosa elaboración que abarcara toda la organización política, económica y social del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ceptación de un nuevo orden frente al pasado colonial fue un proceso lento que debió poner énfasis en la noción de un cambio gradual que evitase toda forma de descon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palabra “orden” se volvió recurrente a partir de la consolidación institucional que siguió a la batalla de Lircay en 1830, e incluso pudo establecerse una relación con el término “confianza”, que se convertiría en el pilar sobre el que descansaría el consens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í como el orden se oponía a la anarquía, la confianza se oponía la insegur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sensación de que la sociedad se encontraba bajo control y de que el cambio no alteraba los pilares sobre los cuales se apoyaba el poder de la clase dirigente estaba estrechamente vinculada a la noción de ord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oposición entre este concepto y el de “anarquía” había guiado gran parte de la construcción institucional del período, además de constituir una de las bases sobre las que se programaba el aprendizaje político de la N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 orden debía ser institucionalizado y expresado a través de una normativa, con el fin de intentar superar los planteamientos utópicos y tener así una existencia concre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ahí que la institucionalidad republicana debía reflejar este concepto con una mezcla de autoritarismo y libertad, aunque parecieran términos antag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 tal propósito la confianza en la ley y en el derecho era el nexo entre la autoridad necesaria y la “república posibl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caracterización de una República dirigida por una elite que basaba su cohesión en un consenso poco a poco comenzó a sufrir presiones por parte de los grupos que intentaban abrir el espectro político e imponer un sistema más democrátic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1:02Z</dcterms:created>
  <dc:creator>user</dc:creator>
  <dc:description/>
  <dc:language>en-US</dc:language>
  <cp:lastModifiedBy>mmorenop</cp:lastModifiedBy>
  <dcterms:modified xsi:type="dcterms:W3CDTF">2010-04-12T13:52:46Z</dcterms:modified>
  <cp:revision>17</cp:revision>
  <dc:subject/>
  <dc:title>Diapositiva 1</dc:title>
</cp:coreProperties>
</file>