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F86-36E9-411E-9359-51D0BEAE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C20-6F39-4AEC-8AE4-47D282A2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39C-CBB9-4B79-9AD5-345DAA49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617-6021-428F-ACEA-AD25F741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B4A-7636-4157-A859-2DD4A0CE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77E4-2CD6-43E0-AEBB-80DDDF3C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A37-783D-4D55-B2B1-CE21FFCE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AA3-A030-42FB-BFB8-DDF56FFD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164-DF3B-4444-9358-111C83D0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C65-EC90-4A8B-8E13-8C9E4D91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514-751A-4970-B59E-FAD36007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2B4-9DBC-40C0-B1FD-0C4B5AD6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1291-3826-4501-AA56-4BB5451FAF6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TORES E INSTITUCIONES: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N ENFOQUE ANALÍTIC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son un conjunto de reglas formales e informales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orth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son patrones estables de comportamiento organizacional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March y Olse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son convenciones sociales, como símbolos, ritos, costumbres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owell y DiMagg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28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29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0"/>
          <p:cNvSpPr/>
          <p:nvPr/>
        </p:nvSpPr>
        <p:spPr>
          <a:xfrm>
            <a:off x="762120" y="5105520"/>
            <a:ext cx="7848360" cy="703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db2b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 Narrow"/>
              </a:rPr>
              <a:t>Se trata de enfoques complementarios, de dimensiones a tener en cuenta al momento de reformar y/o gestionar lo púb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31"/>
          <p:cNvSpPr/>
          <p:nvPr/>
        </p:nvSpPr>
        <p:spPr>
          <a:xfrm>
            <a:off x="748800" y="194148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 Narrow"/>
              </a:rPr>
              <a:t>¿QUÉ SE ENTIENDE POR INSTITU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160" y="15228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...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tienen un origen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son patrimonio compartido por una sociedad o comunidad relev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persisten en el tiempo, no son efímeras o momentán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establecen restricciones y abren oportun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609480"/>
            <a:ext cx="733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Algunos elementos comunes a los diversos enfoques institucio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institucionalidad soci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 est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 constituida por un conjunto de reglas de juego formales e informales, rutinas organizacionales, normas y costumbres que enmarcan el contenido y din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mica de la pol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í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tica social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Para todos los involucrados, la institucionalidad social representa un entramado que estructura sus l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í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mites y oportunidades de negociaci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ó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n y acci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ó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n, lo cual sin embargo no clausura las posibilidades para que se avance en transformaciones m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 o menos amplias de dicha institucionalidad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ACIA UNA CARACTERIZACIÓN DE LA INSTITUCIONALIDAD SOC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28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29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20:34:20Z</dcterms:created>
  <dc:creator>Annabella Gaggero</dc:creator>
  <dc:description/>
  <dc:language>en-US</dc:language>
  <cp:lastModifiedBy>user</cp:lastModifiedBy>
  <cp:lastPrinted>2002-08-12T18:08:10Z</cp:lastPrinted>
  <dcterms:modified xsi:type="dcterms:W3CDTF">2010-03-31T01:34:55Z</dcterms:modified>
  <cp:revision>236</cp:revision>
  <dc:subject/>
  <dc:title>No Slide Title</dc:title>
</cp:coreProperties>
</file>