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F48-1624-448D-A02F-6B085A0D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14F-621C-4152-A6DF-06713CFA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4EC-C81F-4C11-BADC-861BF2FC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2E8-2EB6-457A-9B95-AB5E9528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3C44-C8C5-4EAF-950C-FC40585A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7CB4-25CD-44FB-B25F-03F968D1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61D7-479B-4043-914F-3AB40D1B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2E52-A7B3-4032-8A2E-942A473D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21CB-6FF8-413D-9A34-7F9DAAA4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4CFC-D602-4626-A72F-B1C96165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CD27-EBC8-442C-B4A7-FC98CA3F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498-4F72-4A60-8D0A-4782323C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D8D8-9722-4150-80E3-77A048FB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A499-6E0C-4708-9165-187115D6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52D5-4CBC-4203-B3D6-7571B71F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A4A8-1DF4-422E-99C2-9E1F9B36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A22D-494F-4E40-BE3A-21BDAA51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65E-C1D2-4B62-A926-285F5539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E56-A3CD-42F0-914A-4B4B1040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B09-012E-4BE6-817E-60066956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51A-E26A-4A20-8DB5-D179B47F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6F6-5184-4991-ACFD-3BC8F946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419-233C-46F5-83DE-59B6EB23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727-F8FD-45B0-A650-183C5E87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CE55-D193-4299-8919-D1E91307A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A49F-6469-479B-B5A1-909554B6E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Hacia un Estado Moderno: ejes del proce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ideal Modernizad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s expectativas de la sociedad apuntaban hacia la integración a un mundo que prometía crecientes progresos de orden material y cultur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fiaba en la difusión de nuevas ideas modernizantes y el despliegue de grandes obras públ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Estado marcara la pauta en este proce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ctores clave actuaban a sabiendas que la creación y expansión de instituciones, oficinas y obras públicas a lo largo de todo el país, acentuaría y consolidaría su rol y protagonismo en dicho proceso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recimiento económico derivado de la explotación salitre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expansión de las comunicaciones y los transpor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7640" y="1916280"/>
            <a:ext cx="414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os procesos verificados en el último tercio del siglo XIX, representaron diferentes aspectos del acelerado proceso de modernización en march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junto con constituirse en evidencia empírica del progreso, se instalo en el imaginario colectivo como una aspiración, especialmente intensa en el caso de la elite, que condiciono anhelos, demandas y a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je de la educ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asentamiento del proceso de modernización en la sociedad debía ir acompañado de cambio culturales que permitieran expandir y arraigar el nuevo ideari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educación fue concebida como un agente cla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n las últimas décadas del siglo XIX, se produjo  un acalorado debate en torno al sentido y carácter más apropiado al proceso de enseñanza, a titulo del cual se realizaron numerosas innovaciones en el ámbito educ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Figuras clave en la formulación de la nueva propuesta educativa fueron: Valentín Letelier, José Abelardo Nuñez y Claudio Mat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05T14:04:48Z</dcterms:modified>
  <cp:revision>12</cp:revision>
  <dc:subject/>
  <dc:title>La compleja herencia del siglo XIX</dc:title>
</cp:coreProperties>
</file>