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344-CFAE-420A-BCDA-4002A880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3DA-F7F3-47FA-B41F-62B8648C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20A-C43B-4D61-9E1F-AEBD1480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4F0-6612-45D6-AB25-376B4409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D929-37B6-4B04-9FB3-01F4D46A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621E-9A85-4C6C-A51F-85E3BF35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FEA5-45B5-4736-98C9-1ECEA517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398F-DF28-4C53-A8E7-AAEE43B3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D67A-2E97-4E11-92E1-E61F6692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5ED9-1FC9-4B98-869E-07B8BADF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39DB-C180-48A3-A882-DB07F5F4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4BD5-5468-43C7-AABC-5BE98A08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ED27-3E74-4BDF-8154-135679BD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581F-DC1E-490E-A771-93BFEA01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BF36-52FB-4FD3-939F-B293F498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C422-DA15-40DB-87BD-3083A150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D19D-F11E-45DA-9A51-BCF05FE6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FF8-E6EA-4BAB-83E3-703C389F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781-4728-49E0-900B-5B630122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301-9B43-4B40-AAC9-A2B9C334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C61-6D35-45AD-9621-AF88DA70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CA0-2116-46D5-899B-FB2AEED3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334-D723-474D-ACEE-E99910BB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C4B-CAF4-49C4-A727-18F7E325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AE47-9979-4386-BCAE-75F2B9F98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D512-C0F5-4A8D-BB2D-862E77C79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Hacia un Estado Moderno: ejes del proce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ideal Modernizad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s expectativas de la sociedad apuntaban hacia la integración a un mundo que prometía crecientes progresos de orden material y cultur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fiaba en la difusión de nuevas ideas modernizantes y el despliegue de grandes obras públ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Estado marcara la pauta en este proce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ctores clave actuaban a sabiendas que la creación y expansión de instituciones, oficinas y obras públicas a lo largo de todo el país, acentuaría y consolidaría su rol y protagonismo en dicho proceso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recimiento económico derivado de la explotación salitre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expansión de las comunicaciones y los transpor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7640" y="1916280"/>
            <a:ext cx="414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os procesos verificados en el último tercio del siglo XIX, representaron diferentes aspectos del acelerado proceso de modernización en march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junto con constituirse en evidencia empírica del progreso, se instalo en el imaginario colectivo como una aspiración, especialmente intensa en el caso de la elite, que condiciono anhelos, demandas y a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je de la educ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asentamiento del proceso de modernización en la sociedad debía ir acompañado de cambio culturales que permitieran expandir y arraigar el nuevo ideari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educación fue concebida como un agente cla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n las últimas décadas del siglo XIX, se produjo  un acalorado debate en torno al sentido y carácter más apropiado al proceso de enseñanza, a titulo del cual se realizaron numerosas innovaciones en el ámbito educ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Figuras clave en la formulación de la nueva propuesta educativa fueron: Valentín Letelier, José Abelardo Nuñez y Claudio Mat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05T14:04:48Z</dcterms:modified>
  <cp:revision>12</cp:revision>
  <dc:subject/>
  <dc:title>La compleja herencia del siglo XIX</dc:title>
</cp:coreProperties>
</file>