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4AB-61FB-4539-BD76-CDD2A1BF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6C0-AF41-4E66-83B6-DE2C3E2C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328-1D96-4C6B-8255-9F1F72DD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5CD-F12E-4B9B-847D-65320CB1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7F2A-7B57-493D-98F8-C88BB10E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A984-EBF3-4FAE-8CA9-9D831B9D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69C2-7BA8-4382-A922-B648D8DD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3FD3-550D-4BA9-BD99-D0F3F98D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6A34-A30D-4898-9871-5291AE1B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F79C-3913-461E-BB4C-6EF79127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15AB-8302-4FD2-ADBB-4B74309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EA0-9F16-429E-BD04-BA8B1058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C49D-509E-4B9D-B781-99C1EDD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92FE-2B35-4E1F-9CC1-D3336E5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96A4-F869-4E68-A9C9-88850CB1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0998-DD32-4C6E-A768-9B576BF9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0F43-FC11-4DBD-B564-65B95680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E8C-CA8F-4D94-B717-0DF7C078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ADC-FFB6-4EFB-BF81-6F13EE08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8B7-3BE7-45B1-BAF9-A0763F64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42D-DECB-4556-9C07-7F1B0D3F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CF9-09D7-45CB-999F-98F90208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D6E-13EE-486C-BCC3-9732B779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3CF-E42A-4E9B-83D2-065EDFB0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A562-7AEC-4B10-BFED-1DC5031805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8FE9-943C-47D1-A6DE-5398C02DAD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8984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Desobediencia organizada y caída del Estado excluyen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 fines del siglo XIX y en las primeras décadas del XX, quienes padecían la exclusión comenzaron, de distintas maneras, a alterar el orden creado por las oligarquí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“rotos” tenias razones: la exclusión ya no solo significaba dejarlos al margen de una realidad de privilegios, sino perjudicarlos y, a través del monopolio del Estado, darles sanción institucional, en todo el territorio, a las situaciones de miseria y explot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n la misma medida en que los “rotos”, a través de sus organizaciones y huelgas, cuando no por su simple presencia, comenzaron a hacerse cada vez más visibles y molestos en el orden que las oligarquías habían creado y querían preservar, fueron siendo brutalmente reprim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La ilusión de la legitim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1885 voto un 3,2 % de la población total; un 3,6 en 1888; un 8,6 en 1912 y un 4,4 en 192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te numero de votantes bastaba a las oligarquías de la época para suponer que su monopolio estatal era legiti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b) Miseria, desobediencia y repres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l Chile del cambio de siglo, la realidad social conocida y aceptada por las oligarquías se modificara significativament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la década del 1920, la masividad de la organización obrera dejo en evidencia no solo que la represión era ya un mecanismo ineficaz, sino que también que la institucionalidad era insuficiente, y sobre todo, que el Estado ya no podía seguir operando sobre una matriz excluy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Clases</cp:lastModifiedBy>
  <dcterms:modified xsi:type="dcterms:W3CDTF">2010-05-31T14:27:23Z</dcterms:modified>
  <cp:revision>35</cp:revision>
  <dc:subject/>
  <dc:title>La compleja herencia del siglo XIX</dc:title>
</cp:coreProperties>
</file>