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452C-B983-4469-8189-E2675021FCB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ra los conservadores, el objetivo fue plantar su autoridad en “la participación de instituciones legales de la joven República y en armonía básicamente, con la estructura social sin cambios de la antigua base rural del régimen. Durante este periodo, el prestigio social y el poder político continuó siendo conectado con la posesión de tierras” (Scully, 1992: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8E33-6195-4696-AA40-207FEE552AB1}"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7ACA-F2A8-4574-8431-749C64ED2802}"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EAC50-A542-44D3-B2EE-089EAB173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8DC4B-D365-4E27-993A-B5A580B1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48F41-A6EB-484F-8AB4-F178DBA8E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C186A-B6B1-418D-95F1-9093ACBA3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58677-9CFA-4EFA-9079-39734007C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260EF-F5B9-4DE0-80BD-FC52A37E7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54F5D-6506-48F9-906E-0F2DFA1E7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43A9F-773E-4CE1-A009-C706545CC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27571-C8AE-4C30-B454-188D4C7F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5717-A57F-4A54-8DD3-E3FC6C9DA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3F81E-A12D-48B5-BB0D-091C19F8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A227D-59AF-4A7C-80F0-716D7BA1D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97306-22DC-4A92-BEEB-D7186F9A4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10F9E-7574-4DC2-97DE-7B6E06D51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2B2F8-1C5E-4CAE-90A7-C20751218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D2B40-68F0-4FF6-BC95-624D68503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2AA31-3D45-4622-8E7F-D969D6D3F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C4CCB-1727-4D52-90B2-BA501F97C3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A07D2-BFBE-415E-AD23-D625CC127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3139A-F6A9-4C38-B91E-55E4D3D714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E1F21F-D452-4391-9B12-0BB3F09A1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7285D4-6D41-47CE-8E35-405ACEC0C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7CB76-3224-48F2-B825-A5174CFA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1BD558-19B8-4105-A81A-C383340D2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7F96C-8124-45BC-AF79-EC61ABCE6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399AB-44EE-4D38-A200-29D9B86AA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E517AE-49B8-4895-AAF3-E8BC23D78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91B4A-D347-41CB-BB0E-86A76918B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E36F4-5746-4DFB-9CDB-A0F5935CDF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6E630-0E3A-4B23-8DF2-D34969D746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91907-8F63-4F08-AA9C-0773374EBE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4EFC2-8616-434C-A722-51996A518A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04EFE-2295-4F61-B972-A1C7D1B6E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87CC-DB49-4014-A1C3-42C73A09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E3BEC-8528-4847-B50D-95C7A1F58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2B27A-1D32-4BD6-B272-F6DC7BB5E1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D8934-C37C-4842-A2C5-6175CEC5F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7C933-7A1D-4204-BFCF-51FF111C9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6ABBE-F193-4443-AC01-F31875BACD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25E35-504C-4D95-BF5A-E4BBBCA9C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EA62A-0BEC-4FA8-9BAB-31BBE1304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F2A73-4E53-4435-BA88-76877488ED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25BCF0-7D0D-4879-B7CA-77C86D554D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ADA80-1127-496C-A903-B1EFA4AA6C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3DCAA-B6BC-4CC2-9C81-8AABFAE75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6F9928-7C10-42CD-AF22-402A51F2F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60994-E203-495B-A9CB-0EF7B3062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1CF0D-005E-4744-A855-6E958C50E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0E554-8E0A-4A05-B194-8B6201A55E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9E11D2-81A4-46BE-BB50-6E7039D28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74F5A-CC1B-435D-A2D1-F5F07830F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94E50-E2FA-40D1-A04B-115425F1E6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10761-D498-49F9-95AF-EE5DE952A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AE6802-53E2-4576-AC18-6454472DE6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840F37-650F-46B9-8440-7E2B220685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A10E7-5BBA-4C58-B215-C1C332B5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B0583C-83E9-49FB-863D-1FBCE16DA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CB7B76-ABFA-4F68-A1FA-5C2500393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0A8A3-090E-49E9-89A8-85BEB3F2F1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C9357E-17B7-45C6-B6AC-2477D6EB7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88853-7749-403E-A4F9-FCBECE4A6B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CE06A-F149-4E44-91E1-2430BA4929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88B96-AB73-4E3A-A436-3C17A18EEA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FC765-476A-485B-B786-EC1CB0B71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25F70-3D84-4BFD-9AA3-C78990055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A510E1-19A1-4ECE-9BC1-5B7CFD496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14C98-A406-4D18-A97A-258C36007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A43B5A-6500-4491-8D5D-180B756097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C75A7D-A694-4AD9-84C0-172082D4DC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B5D535-6250-40A6-A763-0BD9631298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17B995-F3AC-4B3F-838B-3E3A3A6923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CD7DD-25A7-45F7-BEED-33FF8936E8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1FE1D-B30F-4336-8182-B98BB3038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BEB7A-B2D8-4E3E-9961-C7EC41D62A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584F30-17F2-4E42-A300-FC299411F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F4703-F970-48F8-9F4D-0D5C02461E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34300-471F-4FF6-8FB8-2058BC436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6C18-5AD8-4793-821B-052343C8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71CB3-C2E6-4659-9030-62F931388E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31943-C9DE-40DB-A70B-82E8929493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E7B8FD-35FF-473F-A56E-91F28E636E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4DD153-D783-4F53-9E25-3CFD8E2D11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A1C8B-DA4D-4486-851F-39433C1133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810B3-AEFF-494C-A9CA-646380B65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F474-2C04-4B0A-A869-0462D6B7786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E99B-AF0B-43E8-9CFB-546E8A3635E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C192-7188-4188-A45C-0D093E74CB6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1229-F798-4E8C-B036-EFF1AA48F3D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1346-CE4C-456B-84A8-59ABAF936AB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58C9-32A3-482D-96FA-F1FF63FE8E7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7FE6-516E-4B3E-B717-DF3B263E121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4423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Colli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pic>
        <p:nvPicPr>
          <p:cNvPr id="329"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1"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o también fue una forma de agregación descrita por Collier como una fusión práctica del tradicionalismo colonial de los conservadores y la constitución de los liberales, así, la victoria sella el acuerdo entre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cto no fue acordado en una forma de una constitución escrita además de la existencia de la Constitución de 1833, pero esto fue un implícito y sólido pacto de sobrevivencia de la República que unió a las facciones y creó una elite unida.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89000" y="152280"/>
            <a:ext cx="8504280" cy="126216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 Más allá de la dimensión institucional pura, el pacto fue consolidado por el desarrollo de los símbolos nacionales de unidad. En este contexto, </a:t>
            </a:r>
            <a:r>
              <a:rPr b="1" lang="es-CL" sz="2700" spc="-1" strike="noStrike">
                <a:solidFill>
                  <a:srgbClr val="ffffff"/>
                </a:solidFill>
                <a:latin typeface="Corbel"/>
              </a:rPr>
              <a:t>Loveman y Lirasostienen sostienen </a:t>
            </a:r>
            <a:r>
              <a:rPr b="0" lang="es-CL" sz="2700" spc="-1" strike="noStrike">
                <a:solidFill>
                  <a:srgbClr val="ffffff"/>
                </a:solidFill>
                <a:latin typeface="Corbel"/>
              </a:rPr>
              <a:t>que la forma chilena de reconciliación política empieza desde esta particular coyuntura crítica en la </a:t>
            </a:r>
            <a:r>
              <a:rPr b="0" lang="es-CL" sz="2700" spc="-1" strike="noStrike">
                <a:solidFill>
                  <a:srgbClr val="f0ad00"/>
                </a:solidFill>
                <a:latin typeface="Corbel"/>
              </a:rPr>
              <a:t>promulgación de la Constitución y la guerra contra Perú y Bolivia</a:t>
            </a:r>
            <a:r>
              <a:rPr b="0" lang="es-CL" sz="2700" spc="-1" strike="noStrike">
                <a:solidFill>
                  <a:srgbClr val="ffffff"/>
                </a:solidFill>
                <a:latin typeface="Corbel"/>
              </a:rPr>
              <a:t>, añadir que la resolución del conflicto intra-elite ha sido construido dentro de la base de 1) los hitos nacionales y los simbolismos, 2) las reformas políticas y constitucionales y 3) los ajustes pragmáticos que por un proceso acumulativo asegura estabilidad y gobernabilidad luego de cada crisis.</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l patrón de dependencia creado en la sociedad chilena desde que este acuerdo seminal cimentó el tipo de acuerdos o pactos que podrían ser común entre la elite política del país en los tiempos por venir.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ste proceso podría incluir el hacer cumplir un nuevo acuerdo dentro de las constituciones o sumando enmiendas importantes para la existencia de la constitución, mayor amnistías para el bando derrotado en la guerra civil y las revueltas.</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nstituido por las diferencias entre la relación del Estado y la clerecía, luego de la guerra de 1859.</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yuntura crítica, de acuerdo con Scully, comienza con la controversia del Sacristán en 1857 y termina con el gobierno más liberal de J.J. Pérez en 1861.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219240" y="-6480"/>
            <a:ext cx="8474040" cy="142740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Corbel"/>
              </a:rPr>
              <a:t>Chile no satisface ninguno de estos criterios, considerando que la primera constitución de 1833, donde el texto es el resultado de una imposición autoritaria conservadora hecha por los conservadores pelucones</a:t>
            </a:r>
            <a:endParaRPr b="0" lang="en-US" sz="3200" spc="-1" strike="noStrike">
              <a:solidFill>
                <a:srgbClr val="ffffff"/>
              </a:solidFill>
              <a:latin typeface="Corbel"/>
            </a:endParaRPr>
          </a:p>
          <a:p>
            <a:pPr marL="438120" indent="-318960" algn="ct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elite logró establecer un sistema donde el voto fue censitario, con mas limitaciones para los interesados en postularse a puestos público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impuso dos tipos de clases de ciudadanos: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1.-los que tienen el ejercicio de los derechos ciudadanos y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	</a:t>
            </a:r>
            <a:r>
              <a:rPr b="0" lang="es-CL" sz="3200" spc="-1" strike="noStrike">
                <a:solidFill>
                  <a:srgbClr val="ffffff"/>
                </a:solidFill>
                <a:latin typeface="Corbel"/>
              </a:rPr>
              <a:t>2.- quienes no los tienen.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Constitución representa los intereses de la oligarquía preservando el sistema social en el cual se impuso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1.-un sentido de orden y jerarquía desde el estado, y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2.-una clara cadena de mando para los militar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219240" y="152280"/>
            <a:ext cx="869940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000" spc="-1" strike="noStrike">
                <a:solidFill>
                  <a:srgbClr val="ffffff"/>
                </a:solidFill>
                <a:latin typeface="Corbel"/>
              </a:rPr>
              <a:t>“</a:t>
            </a:r>
            <a:r>
              <a:rPr b="0" i="1" lang="es-CL" sz="3000" spc="-1" strike="noStrike">
                <a:solidFill>
                  <a:srgbClr val="ffffff"/>
                </a:solidFill>
                <a:latin typeface="Corbel"/>
              </a:rPr>
              <a:t>La Democracia, que tanto sienten los nativos, es un sinsentido para los países americanos, llenos de vicios y donde todos los ciudadanos carecen de las virtudes para saber como una apropiada República puede ser establecida. La monarquía está no también en concordancia con los ideales americanos: ¿debemos dejar un sistema terrible para adentrarnos en otro similar? la república es el sistema para adoptar, pero tú sabes como yo entiendo que esto debiera ser? </a:t>
            </a: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3" name=""/>
          <p:cNvSpPr txBox="1"/>
          <p:nvPr/>
        </p:nvSpPr>
        <p:spPr>
          <a:xfrm>
            <a:off x="457200" y="1774800"/>
            <a:ext cx="8229600" cy="4626000"/>
          </a:xfrm>
          <a:prstGeom prst="rect">
            <a:avLst/>
          </a:prstGeom>
          <a:noFill/>
          <a:ln w="0">
            <a:noFill/>
          </a:ln>
        </p:spPr>
        <p:txBody>
          <a:bodyPr lIns="54720" rIns="90000" tIns="91440" bIns="4680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Corbel"/>
              </a:rPr>
              <a:t>con un fuerte, centralizado gobierno con hombres quienes son un modelo de virtud y patriotismo, y  que en el camino, enderezar a las personas en el camino del orden y las virtudes. Una vez moralizados y solo ahí, puede un gobierno liberal, libre y lleno de ideales, llegar donde todos los ciudadanos participen.</a:t>
            </a: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Corbel"/>
              </a:rPr>
              <a:t>Diego Portales</a:t>
            </a:r>
            <a:endParaRPr b="0" lang="en-US" sz="2000" spc="-1" strike="noStrike">
              <a:solidFill>
                <a:srgbClr val="ffffff"/>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ntro de los siguientes 40 años, esto será la República Autoritaria, generando grandes retornos para las formas republicanas basadas en la regla de la ley, aunque las normas fueron  puestas por solo unos pocos y no por la mayoría de la gente. </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219240" y="152280"/>
            <a:ext cx="855972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illalobos</a:t>
            </a:r>
            <a:r>
              <a:rPr b="0" lang="es-CL" sz="2700" spc="-1" strike="noStrike">
                <a:solidFill>
                  <a:srgbClr val="ffffff"/>
                </a:solidFill>
                <a:latin typeface="Wingdings"/>
                <a:ea typeface="Wingdings"/>
              </a:rPr>
              <a:t></a:t>
            </a:r>
            <a:r>
              <a:rPr b="0" lang="es-CL" sz="2700" spc="-1" strike="noStrike">
                <a:solidFill>
                  <a:srgbClr val="ffffff"/>
                </a:solidFill>
                <a:latin typeface="Corbel"/>
              </a:rPr>
              <a:t> la inflexión del líder, termina con su propia muerte, puesto que luego de ella, los preceptos de un duro gobierno conservador, se reblandecen</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Valenzuela</a:t>
            </a:r>
            <a:r>
              <a:rPr b="0" lang="es-CL" sz="2700" spc="-1" strike="noStrike">
                <a:solidFill>
                  <a:srgbClr val="ffffff"/>
                </a:solidFill>
                <a:latin typeface="Wingdings"/>
                <a:ea typeface="Wingdings"/>
              </a:rPr>
              <a:t></a:t>
            </a:r>
            <a:r>
              <a:rPr b="0" lang="es-CL" sz="2700" spc="-1" strike="noStrike">
                <a:solidFill>
                  <a:srgbClr val="ffffff"/>
                </a:solidFill>
                <a:latin typeface="Corbel"/>
              </a:rPr>
              <a:t> Exageración de la relevancia de Portales; 1.-Portales fue solo un funcionario por tres años (1830-1831; 1835-1837), lo cual significa que no tiene directa influencia en el borrador de la Constitución de 1833, 2.- luego de un año y medio al servicio del Ministerio del Interior y de Guerra, Portales fue asesinado en medio de disturbios y la disidencia.</a:t>
            </a: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04:45:09Z</dcterms:created>
  <dc:creator>Tava</dc:creator>
  <dc:description/>
  <dc:language>en-US</dc:language>
  <cp:lastModifiedBy>Tava</cp:lastModifiedBy>
  <dcterms:modified xsi:type="dcterms:W3CDTF">2009-05-11T11:32:42Z</dcterms:modified>
  <cp:revision>6</cp:revision>
  <dc:subject/>
  <dc:title>Slide 1</dc:title>
</cp:coreProperties>
</file>