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559D3-DB73-4258-831F-7023990FE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AACC7-D056-476C-85F9-8EE38CF5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89BF9-72C5-4D83-900B-2992A197B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67D27-E767-4FAE-A7FE-2994A7C45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4C3E9-7450-442E-8E0C-BFA021F42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BE70-A707-4BBD-9291-AC2F41A10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64E4B-8EC0-4555-AD9F-AE03BF2AB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00E32-0363-460E-9E37-B5E7AC835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BB1C-A445-4220-BD4F-F2A8C01D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ECE5-A5C3-49D3-9CDB-58B7A575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887E-4E69-4C6C-9C82-ACB6D0AF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24A0-D430-4343-84BF-A1F04688C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A4FF-C82B-4ABE-A4E4-91D097C67A37}" type="datetime">
              <a:rPr b="0" lang="es-CL" sz="1200" spc="-1" strike="noStrike">
                <a:solidFill>
                  <a:srgbClr val="898989"/>
                </a:solidFill>
                <a:latin typeface="Calibri"/>
              </a:rPr>
              <a:t>29/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4114-20A3-4D71-A178-BA5EBEE7E6A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63A2-B147-49E2-913A-548CBBD25FB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DA88-A3DF-47D3-99B5-9E78ECD23C4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7A73-D723-40BF-99BA-E0FE2BC1F07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91B4-6BE9-4A64-9972-E3AEFBF3482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DAF9-5017-406E-834A-5B944DEA18F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F7AA-CF39-4758-A9E9-0B0DAE6199F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D945-4C38-4699-B6CE-428192FBF84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DAFD-9065-4D7B-ABEF-EA6D4C5D682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100A-BAD1-45F4-93C3-D4725490344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CAFE-4694-42C5-B3F5-32E33A774A5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2A6B-EFFF-490B-B0D5-8819E09AF8F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BD98-3945-4C7F-886A-4880DAEAAEA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A1DD-B8F6-495A-8D4D-A6EE974D610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5DB6-81DA-424E-8D40-5C729F14FBF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093F-28FF-473B-97BE-CA84F80A34B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5032-7B8C-4720-9BD5-33398075991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4F3C-40BF-416F-AB62-07E67A2AB7E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1A64-0EB7-423D-96CC-99F490BDB5E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6D95-3CA4-4CFB-A33E-734AB21909B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F3CF-F4C9-4A73-B1D0-D21858B04F7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EDF2-4100-4F8F-9C8A-95CD5761ED2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1DEB-561A-4BC5-B8AC-0081C1A7FE0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1AF9-3641-417E-99AF-AA17CA79143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DF86-82A4-4902-9FFE-7AE36E48B52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