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7C04-4611-4022-8025-BA8822CF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BBF0-139F-4A87-A8B8-B9EB7E0C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F1AD-7780-4AFE-A91C-8D86A26E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085-5E66-4CA2-8992-123D9939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CAEE-08FB-4958-A862-E2C93791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370C-0101-4543-BC65-9579C6CE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55F3-C06E-49C3-BA67-5634382B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56B4-C3EA-40D0-9357-150F76D7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269E-5E1A-43E8-9EB6-B7E781BC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E632-8AC9-4C46-A71A-94AE839D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C0E4-7848-4CE4-A912-3F92FFF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E18-ADBA-4662-9739-B0DF0F5C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0E3F-ACEF-4A0D-87F1-FE3DEDF9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42AB-B2AD-40BB-AC02-F7E5F601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3785-2C84-4DF1-97C9-E0B010E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037E-0091-4724-94E0-130EEFD7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B3A7-52B3-41A4-A5B7-5C10ECAA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86FB-F1ED-4535-B838-BA42B3E2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59B-AA55-45DB-B056-27547796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1B4-5312-47C5-AE42-B5B69138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19F-A94F-4B7C-A712-472475FB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C0BC-C673-45F0-A88B-733D7F33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F7B-09BD-48A4-BC99-C946FA66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FA5C-D954-4880-9A11-59B0E630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A94C-156B-4A24-B6C5-9A9293909B40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9E34-D32B-4F09-80B0-6B86D98E41B5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Tahoma"/>
              </a:rPr>
              <a:t>MOTIVACION Y ETiOLOGI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agíster en Gobierno y Gerencia Públ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Inap-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Aunque la atracción puede estar fundada en operaciones distintas de la experiencia afectiva, no cabe duda que el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placer y el dolor que experimentan los individuos en su interacción con las cosas forman una parte singularmente profunda de su conducta tanto apetitiva como evitativ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e la verdad indiscutible de que los organismos tienden en líneas generales a </a:t>
            </a: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onseguir placer y evitar el dolor han partido las interpretaciones hedonistas del incentiv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o estas teorías también explican cómo algunos motivos pueden llegar a oponerse a la satisfacción de las necesidades orgánicas básicas e incluso desencadenan comportamientos perjudiciales para el organism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ste tipo de motivación por la búsqueda del placer explicaría, por ejemplo, el consumo de tabaco, el consumo de drogas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os autores como Mc Clelland o James Olds también realizan sus aportaciones a este campo. Para Mc Clelland : "un motivo es una asociación afectiva intensa, caracterizada por una reacción anticipatoria de una meta, en base a la asociación previa de ciertos estímulos clave con reacciones afectivas de placer o dolor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otra parte 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Olds estudia los centros de placer y dolor del cerebro confirmando el gran poder motivacional de las experiencias afectivas que no tienen más función inmediata que el goc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Éste puede funcionar como un fin en sí mismo disociado de toda utilidad homeostática o impulso-reduct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l latín, motus: movimiento; motivación: lo que muev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icho de otra forma,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motivación representa qué es lo que originariamente determina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que una persona inicie una acción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activa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se desplace hacia un objetiv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dirección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601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y persista en sus tentativas para alcanzarlo (</a:t>
            </a:r>
            <a:r>
              <a:rPr b="1" i="1" lang="es-ES" sz="2400" spc="-1" strike="noStrike">
                <a:solidFill>
                  <a:srgbClr val="99cc00"/>
                </a:solidFill>
                <a:latin typeface="Tahoma"/>
              </a:rPr>
              <a:t>mantenimiento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).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Motivació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una inferencia que hacemos a partir de las manifestaciones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udiendo ser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acertada o equivocad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y no existiendo una explicación unánime a tal fenómeno, ya que en ello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están comprometidos valores sociales que afectan a la clase de personas y a su modelo de sociedad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Ball, 197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Definición convencional: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conjunto de procesos implicados en la activación, dirección y mantenimiento de la conduct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a definición tiene el mérito de destacar sus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tres dimensiones esenciales: activadora, directiva y persistente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; pero también presenta algunas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limitacion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como su carácter de </a:t>
            </a:r>
            <a:r>
              <a:rPr b="0" lang="es-ES" sz="2400" spc="-1" strike="noStrike">
                <a:solidFill>
                  <a:srgbClr val="99cc00"/>
                </a:solidFill>
                <a:latin typeface="Tahoma"/>
              </a:rPr>
              <a:t>constructo hipotético inferencia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por lo que resulta difícilmente observable.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1700280"/>
            <a:ext cx="7543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 inclusión del self (sí mismo) y el establecimiento de interrelaciones entre la cognición, la afectividad y el comportamient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on los rasgos má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aracterísticos  de </a:t>
            </a:r>
            <a:r>
              <a:rPr b="1" lang="es-ES" sz="2400" spc="-1" strike="noStrike">
                <a:solidFill>
                  <a:srgbClr val="99cc00"/>
                </a:solidFill>
                <a:latin typeface="Tahoma"/>
              </a:rPr>
              <a:t>las modernas</a:t>
            </a: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 teorí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sobre l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otivació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latón: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“la motivación fluye desde el alma: tripartita, jerárquicamente constituida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 nivel: Prim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, Aspecto apetitivo del alma: apetitos y deseos corporales (hambre, sed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 Nivel: Elemento Competitivo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Roles socialmente especificados, sentimientos de honor y vergüen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III Nivel: Aspecto Calculador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Capacidad de toma de decisiones, de razón y elec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os diversos aspectos del alma motivaban los diversos terrenos del comport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4343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cDougall (1908) el exponente más característico de las posiciones instintivista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a teoría de McDougall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resuelve el estatus del potencial motivador postulando que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los instintos no sólo impulsan la actividad humana sino que también fijan las metas hacia las que la actividad se dirig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l instinto se define como una tendencia genéticamente programada, de carácter innato y univers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conductas instintivas </a:t>
            </a:r>
            <a:r>
              <a:rPr b="0" lang="es-ES" sz="2000" spc="-1" strike="noStrike">
                <a:solidFill>
                  <a:srgbClr val="99cc00"/>
                </a:solidFill>
                <a:latin typeface="Tahoma"/>
              </a:rPr>
              <a:t>están gobernadas por el sistema nervioso cent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uestionamiento: tratar de explicar la enorme diversidad de conductas humanas con un número reducido de instint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os instintos serían patrones innatos de conducta universales para la especie, independientes de la experiencia y provocados por estímulos o condiciones específicos. Las primeras teorías del instinto fueron duramente criticadas, una de las criticas era que implicaba un razonamiento circular; otra, que las teorías del instinto no explican la amplia variedad del comportamiento human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Observ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Infe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ucha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Los seres 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humanos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n un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stinto de exploración o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curios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 </a:t>
            </a:r>
            <a:r>
              <a:rPr b="1" i="1" lang="es-ES_tradnl" sz="2000" spc="-1" strike="noStrike" u="sng">
                <a:solidFill>
                  <a:srgbClr val="99cc00"/>
                </a:solidFill>
                <a:uFillTx/>
                <a:latin typeface="Tahoma"/>
              </a:rPr>
              <a:t>Explicación</a:t>
            </a: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gente muest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uriosidad por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osee un instinto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xploración o curiosidad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0"/>
          <p:cNvSpPr/>
          <p:nvPr/>
        </p:nvSpPr>
        <p:spPr>
          <a:xfrm>
            <a:off x="4284720" y="256536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11"/>
          <p:cNvSpPr/>
          <p:nvPr/>
        </p:nvSpPr>
        <p:spPr>
          <a:xfrm rot="2443800">
            <a:off x="4858920" y="3789360"/>
            <a:ext cx="289080" cy="1152360"/>
          </a:xfrm>
          <a:prstGeom prst="downArrow">
            <a:avLst>
              <a:gd name="adj1" fmla="val 50000"/>
              <a:gd name="adj2" fmla="val 9965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2843280" y="2997360"/>
            <a:ext cx="288720" cy="934920"/>
          </a:xfrm>
          <a:prstGeom prst="upArrow">
            <a:avLst>
              <a:gd name="adj1" fmla="val 50000"/>
              <a:gd name="adj2" fmla="val 8095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00:27:35Z</dcterms:created>
  <dc:creator>Edmundo Campusano</dc:creator>
  <dc:description/>
  <dc:language>en-US</dc:language>
  <cp:lastModifiedBy>Hewlett-Packard Company</cp:lastModifiedBy>
  <dcterms:modified xsi:type="dcterms:W3CDTF">2018-07-23T15:40:06Z</dcterms:modified>
  <cp:revision>23</cp:revision>
  <dc:subject/>
  <dc:title>Diapositiva 1</dc:title>
</cp:coreProperties>
</file>