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DB2B-F406-4C76-8C5E-0246B839C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CF17-4F77-4330-BE19-C5802567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16E1-8F15-431A-9288-4B6A4614A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8CA9-EDB7-4554-9F2F-040A323D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EC74-4198-4DC9-B049-2E910335D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72C6-EDC0-4B42-8828-DBFAC4E1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7801-0515-46B8-BA63-59386927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008C-1B6B-4091-B306-3D58A194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D25A-2934-42C5-B707-75C14160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887A-15BB-4115-9625-06D0839A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A1E0-7408-4C38-B319-0207A83C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87FD-F6EA-44AF-97FA-0FCEFB46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3E77-9A6C-43A4-BF34-DE526DFF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E4AE-4175-49FD-94F0-3121B700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277D-A677-48D3-A5CA-33E66270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0108-ADB9-44AE-BC51-ECDE41C4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B9B1-CE64-455A-B0FB-D2551B9B5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E225-ABE4-4872-9D3A-FC003F78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9A0D-E948-48C6-BBCA-2EAA3710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B91B-E70E-4C39-A71F-81B53DF1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165B-228F-4F82-8F46-5DE27D89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F3D4-4840-4FAC-9237-AC6B8702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97DA-837C-4E7B-8148-65645507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0BC7-0227-49B6-9448-F8EBF60B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83FB-FE7E-447A-9042-0A6C0DA6EDF9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176B-B7E7-455A-9F84-7C247FFF8951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cc00"/>
                </a:solidFill>
                <a:latin typeface="Tahoma"/>
              </a:rPr>
              <a:t>MOTIVACION Y ETiOLOGI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agíster en Gobierno y Gerencia Públ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nap- U. de Ch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unque la atracción puede estar fundada en operaciones distintas de la experiencia afectiva, no cabe duda que el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placer y el dolor que experimentan los individuos en su interacción con las cosas forman una parte singularmente profunda de su conducta tanto apetitiva como evitativ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 la verdad indiscutible de que los organismos tienden en líneas generales a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onseguir placer y evitar el dolor han partido las interpretaciones hedonistas del incen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ero estas teorías también explican cómo algunos motivos pueden llegar a oponerse a la satisfacción de las necesidades orgánicas básicas e incluso desencadenan comportamientos perjudiciales para el organism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te tipo de motivación por la búsqueda del placer explicaría, por ejemplo, el consumo de tabaco, el consumo de drogas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Otros autores como Mc Clelland o James Olds también realizan sus aportaciones a este campo. Para Mc Clelland : "un motivo es una asociación afectiva intensa, caracterizada por una reacción anticipatoria de una meta, en base a la asociación previa de ciertos estímulos clave con reacciones afectivas de placer o dolor"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or otra parte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Olds estudia los centros de placer y dolor del cerebro confirmando el gran poder motivacional de las experiencias afectivas que no tienen más función inmediata que el goc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 Éste puede funcionar como un fin en sí mismo disociado de toda utilidad homeostática o impulso-reducto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l latín, motus: movimiento; motivación: lo que muev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icho de otra forma, </a:t>
            </a: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la motivación representa qué es lo que originariamente determina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que una persona inicie una acción (</a:t>
            </a:r>
            <a:r>
              <a:rPr b="1" i="1" lang="es-ES" sz="2400" spc="-1" strike="noStrike">
                <a:solidFill>
                  <a:srgbClr val="99cc00"/>
                </a:solidFill>
                <a:latin typeface="Tahoma"/>
              </a:rPr>
              <a:t>activ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se desplace hacia un objetivo (</a:t>
            </a:r>
            <a:r>
              <a:rPr b="1" i="1" lang="es-ES" sz="2400" spc="-1" strike="noStrike">
                <a:solidFill>
                  <a:srgbClr val="99cc00"/>
                </a:solidFill>
                <a:latin typeface="Tahoma"/>
              </a:rPr>
              <a:t>direc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y persista en sus tentativas para alcanzarlo (</a:t>
            </a:r>
            <a:r>
              <a:rPr b="1" i="1" lang="es-ES" sz="2400" spc="-1" strike="noStrike">
                <a:solidFill>
                  <a:srgbClr val="99cc00"/>
                </a:solidFill>
                <a:latin typeface="Tahoma"/>
              </a:rPr>
              <a:t>mantenimiento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)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aeaea"/>
                </a:solidFill>
                <a:latin typeface="Tahoma"/>
              </a:rPr>
              <a:t>Motivació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una inferencia que hacemos a partir de las manifestaciones de la conduct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pudiendo ser </a:t>
            </a: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acertada o equivocad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y no existiendo una explicación unánime a tal fenómeno, ya que en ello </a:t>
            </a: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están comprometidos valores sociales que afectan a la clase de personas y a su modelo de sociedad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(Ball, 197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finición convencional: </a:t>
            </a: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conjunto de procesos implicados en la activación, dirección y mantenimiento de la conduct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ta definición tiene el mérito de destacar sus </a:t>
            </a: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tres dimensiones esenciales: activadora, directiva y persistent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; pero también presenta algunas </a:t>
            </a:r>
            <a:r>
              <a:rPr b="0" lang="es-ES" sz="2400" spc="-1" strike="noStrike">
                <a:solidFill>
                  <a:srgbClr val="99cc00"/>
                </a:solidFill>
                <a:latin typeface="Tahoma"/>
              </a:rPr>
              <a:t>limitacion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como su carácter de </a:t>
            </a:r>
            <a:r>
              <a:rPr b="0" lang="es-ES" sz="2400" spc="-1" strike="noStrike">
                <a:solidFill>
                  <a:srgbClr val="99cc00"/>
                </a:solidFill>
                <a:latin typeface="Tahoma"/>
              </a:rPr>
              <a:t>constructo hipotético inferenci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por lo que resulta difícilmente observable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320" y="1700280"/>
            <a:ext cx="75438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La inclusión del self (sí mismo) y el establecimiento de interrelaciones entre la cognición, la afectividad y el comportamient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son los rasgos má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aracterísticos  de </a:t>
            </a: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las modernas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 teorí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sobre l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otivació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latón: </a:t>
            </a: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“la motivación fluye desde el alma: tripartita, jerárquicamente constituida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I nivel: Primitiv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, Aspecto apetitivo del alma: apetitos y deseos corporales (hambre, sed,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II Nivel: Elemento Competitiv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Roles socialmente especificados, sentimientos de honor y vergüenz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III Nivel: Aspecto Calculador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Capacidad de toma de decisiones, de razón y elec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os diversos aspectos del alma motivaban los diversos terrenos del comportami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4343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cDougall (1908) el exponente más característico de las posiciones instintivista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La teoría de McDougall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resuelve el estatus del potencial motivador postulando que </a:t>
            </a: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los instintos no sólo impulsan la actividad humana sino que también fijan las metas hacia las que la actividad se dirig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El instinto se define como una tendencia genéticamente programada, de carácter innato y univers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s conductas instintivas </a:t>
            </a: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están gobernadas por el sistema nervioso centr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uestionamiento: tratar de explicar la enorme diversidad de conductas humanas con un número reducido de instinto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os instintos serían patrones innatos de conducta universales para la especie, independientes de la experiencia y provocados por estímulos o condiciones específicos. Las primeras teorías del instinto fueron duramente criticadas, una de las criticas era que implicaba un razonamiento circular; otra, que las teorías del instinto no explican la amplia variedad del comportamiento human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_tradnl" sz="2000" spc="-1" strike="noStrike" u="sng">
                <a:solidFill>
                  <a:srgbClr val="99cc00"/>
                </a:solidFill>
                <a:uFillTx/>
                <a:latin typeface="Tahoma"/>
              </a:rPr>
              <a:t>Observ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gente muestra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s-ES_tradnl" sz="2000" spc="-1" strike="noStrike" u="sng">
                <a:solidFill>
                  <a:srgbClr val="99cc00"/>
                </a:solidFill>
                <a:uFillTx/>
                <a:latin typeface="Tahoma"/>
              </a:rPr>
              <a:t>Infe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mucha curiosidad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Los seres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humanos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oseen un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instinto de exploración o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e curios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_tradnl" sz="2000" spc="-1" strike="noStrike" u="sng">
                <a:solidFill>
                  <a:srgbClr val="99cc00"/>
                </a:solidFill>
                <a:uFillTx/>
                <a:latin typeface="Tahoma"/>
              </a:rPr>
              <a:t> </a:t>
            </a:r>
            <a:r>
              <a:rPr b="1" i="1" lang="es-ES_tradnl" sz="2000" spc="-1" strike="noStrike" u="sng">
                <a:solidFill>
                  <a:srgbClr val="99cc00"/>
                </a:solidFill>
                <a:uFillTx/>
                <a:latin typeface="Tahoma"/>
              </a:rPr>
              <a:t>Explicación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gente muest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uriosidad por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osee un instinto 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xploración o curiosidad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4284720" y="256536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AutoShape 11"/>
          <p:cNvSpPr/>
          <p:nvPr/>
        </p:nvSpPr>
        <p:spPr>
          <a:xfrm rot="2443800">
            <a:off x="4858920" y="3789360"/>
            <a:ext cx="289080" cy="1152360"/>
          </a:xfrm>
          <a:prstGeom prst="downArrow">
            <a:avLst>
              <a:gd name="adj1" fmla="val 50000"/>
              <a:gd name="adj2" fmla="val 99658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2843280" y="2997360"/>
            <a:ext cx="288720" cy="934920"/>
          </a:xfrm>
          <a:prstGeom prst="upArrow">
            <a:avLst>
              <a:gd name="adj1" fmla="val 50000"/>
              <a:gd name="adj2" fmla="val 8095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0T00:27:35Z</dcterms:created>
  <dc:creator>Edmundo Campusano</dc:creator>
  <dc:description/>
  <dc:language>en-US</dc:language>
  <cp:lastModifiedBy>Hewlett-Packard Company</cp:lastModifiedBy>
  <dcterms:modified xsi:type="dcterms:W3CDTF">2018-07-23T15:40:06Z</dcterms:modified>
  <cp:revision>23</cp:revision>
  <dc:subject/>
  <dc:title>Diapositiva 1</dc:title>
</cp:coreProperties>
</file>