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5FE9-67E3-4C07-8816-B461D0AFC4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Eduard Munch (1863-1944). El Grito, 189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Egon Schiele (1880-1918). Autorretrato con vestido negro, 191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Vasili Kandinski (1866-1944). Boceto para El Jinete Azul, 191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Vasili Kandinski (1866-1944). Composición VI, 191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Franz Marc (1880- 1916). Tigre, 191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Ernst Ludwig Kirchner (1880-1938).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Autoretrato como soldado, 191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Otto Dix (1891-1969). Tropas de avanzada en el ciclo de la guerra, 192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688-1BB4-4659-A4F3-549E601A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35D-A012-4854-AE38-A3CCA7B4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C98B-253C-41F4-98CA-E54E9669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2C6-0C9D-4E68-AE5A-62BB5510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AFA-7256-4552-9086-F0E1C301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964-071A-4703-85F4-9E86F0AA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F65-71B3-4214-B845-9E1CF3FE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77B0-773E-451A-958D-CFC596CC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612-22C7-4BA9-BE09-1373CC44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886-C92B-469A-B110-CCF958E4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CDA-62EC-4F16-8CF9-55091AB3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8D66-F951-41AE-A230-6CBBAEF4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79A2-D5BF-4F89-AA68-0595C9F8950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unch.scream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73400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chiele.portrait-black-vase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496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lau" descr=""/>
          <p:cNvPicPr/>
          <p:nvPr/>
        </p:nvPicPr>
        <p:blipFill>
          <a:blip r:embed="rId1"/>
          <a:stretch/>
        </p:blipFill>
        <p:spPr>
          <a:xfrm>
            <a:off x="2279520" y="762120"/>
            <a:ext cx="39340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andinsky.comp-6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6294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ger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4753080" cy="61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0kirc" descr="10-Kirchner"/>
          <p:cNvPicPr/>
          <p:nvPr/>
        </p:nvPicPr>
        <p:blipFill>
          <a:blip r:embed="rId1"/>
          <a:stretch/>
        </p:blipFill>
        <p:spPr>
          <a:xfrm>
            <a:off x="2241720" y="533520"/>
            <a:ext cx="4016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7640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dix10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3295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00:05:19Z</dcterms:created>
  <dc:creator>Juan Gabriel Valdes</dc:creator>
  <dc:description/>
  <dc:language>en-US</dc:language>
  <cp:lastModifiedBy>Juan Gabriel Valdes</cp:lastModifiedBy>
  <dcterms:modified xsi:type="dcterms:W3CDTF">2004-05-09T20:58:20Z</dcterms:modified>
  <cp:revision>100</cp:revision>
  <dc:subject/>
  <dc:title>Presentación de PowerPoint</dc:title>
</cp:coreProperties>
</file>