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9B2-EA59-430F-89B2-9CB5EFE6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CAC-B46A-4B9E-8F1F-13FA1DD8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E33-F6BF-432E-995E-F28324D8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36E-2122-45E8-BD45-3D07EA69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41B4-89F2-40C8-BF85-CCE44BEA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7759-DAE5-4CE8-B55A-3E4464476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5D4-3D11-4C82-8D4C-4798DBCF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C9C6-D32B-470E-864B-55E2F8F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A762-877C-4918-A273-6A64AE0F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811A-901E-46B4-96B6-2EE700F5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3F1A-458C-42D4-89C3-C6259908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3AF-3107-40D3-B3D0-AE2EBC80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534A-2B6A-4264-AB34-E7D8D50A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FEBB-F528-428A-9EA0-2B8D0516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EFCE-5F1C-43B5-950A-0495082A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B102-CD69-4515-AA3B-C96C8509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8399-7FAB-4C1D-941B-8B9DDBBB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5F2-3407-4950-B0BD-E7A45FCF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9FA-032A-45FA-8E13-8C658993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765-7B23-47F9-B1DF-58059B19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DCFA-78EC-4495-9699-6CC85F31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74E-AC54-4819-AD4E-C1281BA8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11E0-1475-47A5-9879-C6E4923C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026-8D11-437B-A041-284098C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AC84-56D3-416F-909F-D532DB219A2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96CC-75F6-4439-BD83-74832114043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8120" y="4191120"/>
            <a:ext cx="2828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ancy Lacourl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863880" y="52578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</a:rPr>
              <a:t>junio 200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 txBox="1"/>
          <p:nvPr/>
        </p:nvSpPr>
        <p:spPr>
          <a:xfrm>
            <a:off x="838080" y="121932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nálisis e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ponentes Principal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E82-A8CD-4023-A32E-91E298E4EC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"/>
          <p:cNvGrpSpPr/>
          <p:nvPr/>
        </p:nvGrpSpPr>
        <p:grpSpPr>
          <a:xfrm>
            <a:off x="1014480" y="299880"/>
            <a:ext cx="7815240" cy="6251760"/>
            <a:chOff x="1014480" y="299880"/>
            <a:chExt cx="7815240" cy="6251760"/>
          </a:xfrm>
        </p:grpSpPr>
        <p:sp>
          <p:nvSpPr>
            <p:cNvPr id="671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4923" y="3938"/>
                  </a:moveTo>
                  <a:lnTo>
                    <a:pt x="0" y="0"/>
                  </a:lnTo>
                  <a:lnTo>
                    <a:pt x="0" y="3938"/>
                  </a:lnTo>
                  <a:lnTo>
                    <a:pt x="4923" y="39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14480" y="299880"/>
              <a:ext cx="7815240" cy="6251760"/>
            </a:xfrm>
            <a:custGeom>
              <a:avLst/>
              <a:gdLst/>
              <a:ahLst/>
              <a:rect l="l" t="t" r="r" b="b"/>
              <a:pathLst>
                <a:path w="4923" h="3938">
                  <a:moveTo>
                    <a:pt x="0" y="0"/>
                  </a:moveTo>
                  <a:lnTo>
                    <a:pt x="4923" y="0"/>
                  </a:lnTo>
                  <a:lnTo>
                    <a:pt x="4923" y="39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0720" y="6149880"/>
              <a:ext cx="185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1    (69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45460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8164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09760" y="55864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982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1560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44080" y="558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16200000">
              <a:off x="694080" y="1586520"/>
              <a:ext cx="166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33"/>
                  </a:solidFill>
                  <a:latin typeface="Times New Roman"/>
                </a:rPr>
                <a:t>Factor 3   (7%)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931760" y="495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31760" y="1477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931760" y="2460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931760" y="34434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66240" y="442584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66240" y="5316480"/>
              <a:ext cx="171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502480" y="553248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0" y="23"/>
                  </a:moveTo>
                  <a:lnTo>
                    <a:pt x="23" y="23"/>
                  </a:lnTo>
                  <a:lnTo>
                    <a:pt x="23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2952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946840" y="553248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73520" y="553248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3"/>
                  </a:moveTo>
                  <a:lnTo>
                    <a:pt x="18" y="23"/>
                  </a:lnTo>
                  <a:lnTo>
                    <a:pt x="1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9264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19320" y="5532480"/>
              <a:ext cx="27000" cy="3636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0" y="23"/>
                  </a:moveTo>
                  <a:lnTo>
                    <a:pt x="17" y="23"/>
                  </a:lnTo>
                  <a:lnTo>
                    <a:pt x="17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081160" y="60012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1160" y="15825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081160" y="25653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1160" y="354816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81160" y="45306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1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41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81160" y="5513400"/>
              <a:ext cx="65160" cy="2700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0" y="0"/>
                  </a:moveTo>
                  <a:lnTo>
                    <a:pt x="41" y="0"/>
                  </a:lnTo>
                  <a:lnTo>
                    <a:pt x="41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4027" y="3095"/>
                  </a:moveTo>
                  <a:lnTo>
                    <a:pt x="0" y="0"/>
                  </a:lnTo>
                  <a:lnTo>
                    <a:pt x="0" y="3095"/>
                  </a:lnTo>
                  <a:lnTo>
                    <a:pt x="4027" y="30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128680" y="609480"/>
              <a:ext cx="6392880" cy="4913280"/>
            </a:xfrm>
            <a:custGeom>
              <a:avLst/>
              <a:gdLst/>
              <a:ahLst/>
              <a:rect l="l" t="t" r="r" b="b"/>
              <a:pathLst>
                <a:path w="4027" h="3095">
                  <a:moveTo>
                    <a:pt x="0" y="0"/>
                  </a:moveTo>
                  <a:lnTo>
                    <a:pt x="4027" y="0"/>
                  </a:lnTo>
                  <a:lnTo>
                    <a:pt x="4027" y="30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128680" y="609480"/>
              <a:ext cx="6392880" cy="491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799320" y="15447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435800" y="4670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18040" y="31258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94240" y="209700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376960" y="401472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19920" y="46893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795920" y="258300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621480" y="27892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646520" y="38196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82920" y="5138640"/>
              <a:ext cx="554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30880" y="412740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26120" y="43624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487840" y="3332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426440" y="313524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921800" y="4614840"/>
              <a:ext cx="5688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26200" y="452124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31543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105600" y="245268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925800" y="284652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26200" y="3548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28680" y="5522760"/>
              <a:ext cx="6392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128680" y="609480"/>
              <a:ext cx="1800" cy="491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94600" y="127332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VENEZUE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11720" y="4724280"/>
              <a:ext cx="69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URUG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56000" y="2819520"/>
              <a:ext cx="687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R. DOM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71400" y="182556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ERU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6120" y="3809880"/>
              <a:ext cx="105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RAGUAY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6960" y="4648320"/>
              <a:ext cx="80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PANAM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83280" y="2311560"/>
              <a:ext cx="113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NICARAGU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275520" y="2517840"/>
              <a:ext cx="75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MEXICO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161600" y="3546360"/>
              <a:ext cx="108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ONDURAS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66560" y="4875120"/>
              <a:ext cx="486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HAITI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45760" y="4038480"/>
              <a:ext cx="117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GUATEMAL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801680" y="4419720"/>
              <a:ext cx="1321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L SALV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97840" y="3200400"/>
              <a:ext cx="950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ECUADOR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91320" y="3048120"/>
              <a:ext cx="561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849800" y="4724280"/>
              <a:ext cx="528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UB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84040" y="4248000"/>
              <a:ext cx="1162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STA RIC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67640" y="2971800"/>
              <a:ext cx="39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07160" y="2181240"/>
              <a:ext cx="677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RASIL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87040" y="2573280"/>
              <a:ext cx="74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BOLIVI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72000" y="3505320"/>
              <a:ext cx="1108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RGENTIN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759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DF9-5E06-46F8-98F9-68CA554D89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152280" y="2057400"/>
            <a:ext cx="3505320" cy="35053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2057400"/>
            <a:ext cx="0" cy="35053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280" y="3809880"/>
            <a:ext cx="350532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200400" y="3352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808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57200" y="4343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219320" y="22860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742480" y="3048120"/>
            <a:ext cx="134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% Pob. urba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895840" y="4191120"/>
            <a:ext cx="98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Esperanz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Vid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86360" y="304812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. Inf.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70000" y="2362320"/>
            <a:ext cx="105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Mor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4920" y="396252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Fecund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4200" y="4343400"/>
            <a:ext cx="9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33"/>
                </a:solidFill>
                <a:latin typeface="Times New Roman"/>
              </a:rPr>
              <a:t>Natalidad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659040" y="37339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1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662120" y="173664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33"/>
                </a:solidFill>
                <a:latin typeface="Times New Roman"/>
              </a:rPr>
              <a:t>C.P.2</a:t>
            </a: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4114800" y="304920"/>
            <a:ext cx="5028840" cy="3805200"/>
            <a:chOff x="4114800" y="304920"/>
            <a:chExt cx="5028840" cy="3805200"/>
          </a:xfrm>
        </p:grpSpPr>
        <p:sp>
          <p:nvSpPr>
            <p:cNvPr id="779" name=""/>
            <p:cNvSpPr/>
            <p:nvPr/>
          </p:nvSpPr>
          <p:spPr>
            <a:xfrm>
              <a:off x="7781760" y="305604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63600" y="342432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187520" y="495360"/>
              <a:ext cx="4883040" cy="59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97080" y="426960"/>
              <a:ext cx="22867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3320" y="1467000"/>
              <a:ext cx="6537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745960" y="1467000"/>
              <a:ext cx="6613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9072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6880" y="1467000"/>
              <a:ext cx="6458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07600" y="1467000"/>
              <a:ext cx="70164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393760" y="1467000"/>
              <a:ext cx="67680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107680" y="186840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94800" y="187812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45960" y="186840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9072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76880" y="186840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0760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8393760" y="186840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07680" y="227016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07040" y="228600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745960" y="227016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887800" y="230832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0,10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9072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76880" y="227016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70760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393760" y="227016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7680" y="267336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51680" y="27273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745960" y="267336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84352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39072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526440" y="27273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76880" y="2681280"/>
              <a:ext cx="6458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0760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393760" y="267336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107680" y="3075120"/>
              <a:ext cx="6537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3008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745960" y="3075120"/>
              <a:ext cx="66132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8160" y="31082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9072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569640" y="297180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26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070400" y="3070080"/>
              <a:ext cx="645840" cy="44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207200" y="31082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0760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393760" y="3075120"/>
              <a:ext cx="67680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07680" y="3475080"/>
              <a:ext cx="6537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704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745960" y="3475080"/>
              <a:ext cx="66132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4316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390720" y="34416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93680" y="3398760"/>
              <a:ext cx="4352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53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076880" y="3475080"/>
              <a:ext cx="6458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07200" y="356544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70760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43320" y="35654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393760" y="3475080"/>
              <a:ext cx="67680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81240" y="1066680"/>
              <a:ext cx="2415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81240" y="1467000"/>
              <a:ext cx="24156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81240" y="186840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240" y="227016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81240" y="267336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881240" y="3075120"/>
              <a:ext cx="24156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881240" y="3475080"/>
              <a:ext cx="24156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19508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277160" y="18874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252320" y="1595520"/>
              <a:ext cx="893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95080" y="186840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252320" y="202572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95080" y="227016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17840" y="238140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95080" y="267336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42680" y="281160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95080" y="3075120"/>
              <a:ext cx="701640" cy="442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62040" y="317988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5080" y="3475080"/>
              <a:ext cx="701640" cy="4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47000" y="354816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07680" y="1066680"/>
              <a:ext cx="65376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72240" y="1066680"/>
              <a:ext cx="66132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39072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076880" y="1066680"/>
              <a:ext cx="6458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707600" y="1066680"/>
              <a:ext cx="70164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93760" y="1066680"/>
              <a:ext cx="676800" cy="44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1240" y="1868400"/>
              <a:ext cx="41738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81240" y="227016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81240" y="2673360"/>
              <a:ext cx="41738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81240" y="307512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81240" y="3475080"/>
              <a:ext cx="417384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95080" y="1868400"/>
              <a:ext cx="48600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95080" y="227016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195080" y="2673360"/>
              <a:ext cx="48600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195080" y="307512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5080" y="3475080"/>
              <a:ext cx="48600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59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9072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076880" y="1066680"/>
              <a:ext cx="108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70760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393760" y="1066680"/>
              <a:ext cx="0" cy="28101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114800" y="387684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9055440" y="3855960"/>
              <a:ext cx="8820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9136080" y="1044720"/>
              <a:ext cx="7560" cy="306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195080" y="1023840"/>
              <a:ext cx="4948560" cy="6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5440" y="304920"/>
              <a:ext cx="88200" cy="78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055440" y="304920"/>
              <a:ext cx="882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114800" y="3876840"/>
              <a:ext cx="502128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2640" y="1087560"/>
              <a:ext cx="108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9047520" y="1087560"/>
              <a:ext cx="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202640" y="1087560"/>
              <a:ext cx="4844520" cy="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202640" y="3855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202640" y="1488960"/>
              <a:ext cx="484452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115240" y="1087560"/>
              <a:ext cx="1440" cy="27684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114800" y="304920"/>
              <a:ext cx="5021280" cy="21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14800" y="304920"/>
              <a:ext cx="8028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9078480" y="304920"/>
              <a:ext cx="57600" cy="37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14800" y="3941640"/>
              <a:ext cx="50212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97440" y="122724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10520" y="122724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62560" y="1227240"/>
              <a:ext cx="588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844400" y="1212840"/>
              <a:ext cx="52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434800" y="1227240"/>
              <a:ext cx="613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115240" y="1212840"/>
              <a:ext cx="61956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1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3" name=""/>
          <p:cNvGraphicFramePr/>
          <p:nvPr/>
        </p:nvGraphicFramePr>
        <p:xfrm>
          <a:off x="3419640" y="4724280"/>
          <a:ext cx="5690880" cy="1960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9640" y="4724280"/>
                    <a:ext cx="5690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B79-232E-46F7-B122-8C58DAED09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tretch/>
        </p:blipFill>
        <p:spPr>
          <a:xfrm>
            <a:off x="304920" y="96840"/>
            <a:ext cx="8610480" cy="64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327-1868-4887-AE4A-3E5C210DB0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0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909" name=""/>
          <p:cNvGraphicFramePr/>
          <p:nvPr/>
        </p:nvGraphicFramePr>
        <p:xfrm>
          <a:off x="41400" y="1246320"/>
          <a:ext cx="9063000" cy="43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0" y="1246320"/>
                    <a:ext cx="9063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37E6-F223-4639-9C47-9D6D826F07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2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4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83B0-3628-4FAB-B117-731F9CBF67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916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pic>
        <p:nvPicPr>
          <p:cNvPr id="918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7646760" cy="573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1CF-3680-4B6E-9D33-5F687A76D0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228600" y="138240"/>
            <a:ext cx="8686800" cy="64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C6E-AD47-4E71-AEE7-DE24805C24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0" name=""/>
          <p:cNvGraphicFramePr/>
          <p:nvPr/>
        </p:nvGraphicFramePr>
        <p:xfrm>
          <a:off x="973080" y="1773360"/>
          <a:ext cx="7559640" cy="3259080"/>
        </p:xfrm>
        <a:graphic>
          <a:graphicData uri="http://schemas.openxmlformats.org/drawingml/2006/table">
            <a:tbl>
              <a:tblPr/>
              <a:tblGrid>
                <a:gridCol w="2016000"/>
                <a:gridCol w="1001520"/>
                <a:gridCol w="1230480"/>
                <a:gridCol w="1041480"/>
                <a:gridCol w="1135080"/>
                <a:gridCol w="1135080"/>
              </a:tblGrid>
              <a:tr h="9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39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42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39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52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815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865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298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418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334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46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1" name=""/>
          <p:cNvSpPr/>
          <p:nvPr/>
        </p:nvSpPr>
        <p:spPr>
          <a:xfrm>
            <a:off x="2988720" y="59040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Matriz de correlacione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0D2-70FF-443B-8750-22A228617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"/>
          <p:cNvGraphicFramePr/>
          <p:nvPr/>
        </p:nvGraphicFramePr>
        <p:xfrm>
          <a:off x="1279440" y="1628640"/>
          <a:ext cx="6964560" cy="3338640"/>
        </p:xfrm>
        <a:graphic>
          <a:graphicData uri="http://schemas.openxmlformats.org/drawingml/2006/table">
            <a:tbl>
              <a:tblPr/>
              <a:tblGrid>
                <a:gridCol w="1706760"/>
                <a:gridCol w="1022400"/>
                <a:gridCol w="1184040"/>
                <a:gridCol w="1017720"/>
                <a:gridCol w="1015920"/>
                <a:gridCol w="10177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14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74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6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19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506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65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79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55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29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6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20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8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78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490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584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7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7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3" name=""/>
          <p:cNvSpPr/>
          <p:nvPr/>
        </p:nvSpPr>
        <p:spPr>
          <a:xfrm>
            <a:off x="2342160" y="606600"/>
            <a:ext cx="49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Valores y vectores propios de 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270-4553-425E-B8DC-F4F556A211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4" name=""/>
          <p:cNvGraphicFramePr/>
          <p:nvPr/>
        </p:nvGraphicFramePr>
        <p:xfrm>
          <a:off x="1136520" y="2251080"/>
          <a:ext cx="6870600" cy="2355840"/>
        </p:xfrm>
        <a:graphic>
          <a:graphicData uri="http://schemas.openxmlformats.org/drawingml/2006/table">
            <a:tbl>
              <a:tblPr/>
              <a:tblGrid>
                <a:gridCol w="1689120"/>
                <a:gridCol w="1003320"/>
                <a:gridCol w="1168200"/>
                <a:gridCol w="1003320"/>
                <a:gridCol w="1003320"/>
                <a:gridCol w="10033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 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Factor 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Valor propio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29.9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990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701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231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 Narrow"/>
                        </a:rPr>
                        <a:t>0.081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Dens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986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969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134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51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05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Alfabetizacion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875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9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22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84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078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 infantil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622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40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1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584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2170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Na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901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5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317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236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1665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'Mortalidad'</a:t>
                      </a:r>
                      <a:endParaRPr b="0" lang="en-US" sz="1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6713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96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7301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-0.0277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0.0789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5" name=""/>
          <p:cNvSpPr/>
          <p:nvPr/>
        </p:nvSpPr>
        <p:spPr>
          <a:xfrm>
            <a:off x="1764000" y="404640"/>
            <a:ext cx="637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rrelaciones entre variables antiguas 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ff"/>
                </a:solidFill>
                <a:latin typeface="Times New Roman"/>
              </a:rPr>
              <a:t>componentes principales (factores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CC8-2234-48E4-995E-458452DE3F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69560" y="19080"/>
            <a:ext cx="8974440" cy="6838920"/>
            <a:chOff x="169560" y="19080"/>
            <a:chExt cx="8974440" cy="683892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1981080" y="5105520"/>
              <a:ext cx="685800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3398760" y="228600"/>
              <a:ext cx="3251160" cy="704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Garamond"/>
                </a:rPr>
                <a:t>EJEMPLO</a:t>
              </a:r>
              <a:endParaRPr b="1" i="1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  <a:ea typeface="Garamond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760" y="2743200"/>
              <a:ext cx="663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PNUD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33"/>
                  </a:solidFill>
                  <a:latin typeface="Times New Roman"/>
                </a:rPr>
                <a:t>1992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692360" y="1143000"/>
              <a:ext cx="7451640" cy="406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61F4-7C6E-42CC-A1EF-D3D33055C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5A7-CD4B-44C8-B0F1-C109060086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D23C-9C47-4E34-81D9-1CB84B22F2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136520" y="754200"/>
            <a:ext cx="6861240" cy="5494320"/>
            <a:chOff x="1136520" y="754200"/>
            <a:chExt cx="6861240" cy="5494320"/>
          </a:xfrm>
        </p:grpSpPr>
        <p:sp>
          <p:nvSpPr>
            <p:cNvPr id="97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4322" y="3461"/>
                  </a:moveTo>
                  <a:lnTo>
                    <a:pt x="0" y="0"/>
                  </a:lnTo>
                  <a:lnTo>
                    <a:pt x="0" y="3461"/>
                  </a:lnTo>
                  <a:lnTo>
                    <a:pt x="4322" y="34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36520" y="754200"/>
              <a:ext cx="6861240" cy="5494320"/>
            </a:xfrm>
            <a:custGeom>
              <a:avLst/>
              <a:gdLst/>
              <a:ahLst/>
              <a:rect l="l" t="t" r="r" b="b"/>
              <a:pathLst>
                <a:path w="4322" h="3461">
                  <a:moveTo>
                    <a:pt x="0" y="0"/>
                  </a:moveTo>
                  <a:lnTo>
                    <a:pt x="4322" y="0"/>
                  </a:lnTo>
                  <a:lnTo>
                    <a:pt x="4322" y="34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5880" y="5884920"/>
              <a:ext cx="2099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336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7080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0708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4520" y="5396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77360" y="4087800"/>
              <a:ext cx="225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TASA DE MORTAL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6680" y="9223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76680" y="178272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69920" y="26449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69920" y="3505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69920" y="4367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69920" y="51436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07240" y="534996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5468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9096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8400" y="534996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9960" y="1015920"/>
              <a:ext cx="47520" cy="1908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09960" y="1878120"/>
              <a:ext cx="47520" cy="2700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09960" y="27385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9960" y="359892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09960" y="4460760"/>
              <a:ext cx="47520" cy="2880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9960" y="5330880"/>
              <a:ext cx="47520" cy="284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3514" y="2718"/>
                  </a:moveTo>
                  <a:lnTo>
                    <a:pt x="0" y="0"/>
                  </a:lnTo>
                  <a:lnTo>
                    <a:pt x="0" y="2718"/>
                  </a:lnTo>
                  <a:lnTo>
                    <a:pt x="3514" y="2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47760" y="1025640"/>
              <a:ext cx="5578560" cy="4314600"/>
            </a:xfrm>
            <a:custGeom>
              <a:avLst/>
              <a:gdLst/>
              <a:ahLst/>
              <a:rect l="l" t="t" r="r" b="b"/>
              <a:pathLst>
                <a:path w="3514" h="2718">
                  <a:moveTo>
                    <a:pt x="0" y="0"/>
                  </a:moveTo>
                  <a:lnTo>
                    <a:pt x="3514" y="0"/>
                  </a:lnTo>
                  <a:lnTo>
                    <a:pt x="3514" y="27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7760" y="1025640"/>
              <a:ext cx="5578560" cy="431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3560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6720" y="172728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27560" y="349740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2897280"/>
              <a:ext cx="572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2080" y="341316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84880" y="39276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71880" y="319716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80160" y="38433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9520" y="3065400"/>
              <a:ext cx="572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76640" y="104472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0160" y="2897280"/>
              <a:ext cx="55440" cy="56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7360" y="3112920"/>
              <a:ext cx="5580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95800" y="3197160"/>
              <a:ext cx="57240" cy="5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72200" y="3413160"/>
              <a:ext cx="572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6840" y="328140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53240" y="458316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11680" y="3627360"/>
              <a:ext cx="5580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21280" y="2935440"/>
              <a:ext cx="5544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157480"/>
              <a:ext cx="55440" cy="57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22800" y="2467080"/>
              <a:ext cx="55800" cy="55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7760" y="5340240"/>
              <a:ext cx="5578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147760" y="1025280"/>
              <a:ext cx="1800" cy="43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3560" y="360828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35840" y="1494000"/>
              <a:ext cx="266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78360" y="33084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1120" y="285120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29360" y="31258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2840" y="36925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315612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4480" y="361332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640" y="28321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78760" y="2654280"/>
              <a:ext cx="31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0034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9720" y="295272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8880" y="3168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15440" y="304632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1480" y="4338720"/>
              <a:ext cx="29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8720" y="3384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08600" y="26686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59120" y="192420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19840" y="2224080"/>
              <a:ext cx="256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34080" y="1090440"/>
              <a:ext cx="427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333333"/>
                  </a:solidFill>
                  <a:latin typeface="Arial"/>
                </a:rPr>
                <a:t>Hai</a:t>
              </a:r>
              <a:endParaRPr b="0" lang="en-US" sz="1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243400" y="574344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B3EA-81BE-4480-9DD8-B41157E71B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4747" y="3761"/>
                </a:moveTo>
                <a:lnTo>
                  <a:pt x="0" y="0"/>
                </a:lnTo>
                <a:lnTo>
                  <a:pt x="0" y="3761"/>
                </a:lnTo>
                <a:lnTo>
                  <a:pt x="4747" y="37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685800"/>
            <a:ext cx="7535880" cy="5970600"/>
          </a:xfrm>
          <a:custGeom>
            <a:avLst/>
            <a:gdLst/>
            <a:ahLst/>
            <a:rect l="l" t="t" r="r" b="b"/>
            <a:pathLst>
              <a:path w="4747" h="3761">
                <a:moveTo>
                  <a:pt x="0" y="0"/>
                </a:moveTo>
                <a:lnTo>
                  <a:pt x="4747" y="0"/>
                </a:lnTo>
                <a:lnTo>
                  <a:pt x="4747" y="376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29560" y="6248520"/>
            <a:ext cx="111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_VIDA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22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168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3360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33440" y="57294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1034280" y="4943520"/>
            <a:ext cx="109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_URB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48680" y="866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0920" y="1455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50920" y="2043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624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0920" y="3211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3800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0920" y="437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4968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5460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036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89560" y="5678640"/>
            <a:ext cx="17640" cy="33120"/>
          </a:xfrm>
          <a:custGeom>
            <a:avLst/>
            <a:gdLst/>
            <a:ahLst/>
            <a:rect l="l" t="t" r="r" b="b"/>
            <a:pathLst>
              <a:path w="11" h="21">
                <a:moveTo>
                  <a:pt x="0" y="21"/>
                </a:moveTo>
                <a:lnTo>
                  <a:pt x="11" y="21"/>
                </a:lnTo>
                <a:lnTo>
                  <a:pt x="11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80040" y="5678640"/>
            <a:ext cx="34920" cy="33120"/>
          </a:xfrm>
          <a:custGeom>
            <a:avLst/>
            <a:gdLst/>
            <a:ahLst/>
            <a:rect l="l" t="t" r="r" b="b"/>
            <a:pathLst>
              <a:path w="22" h="21">
                <a:moveTo>
                  <a:pt x="0" y="21"/>
                </a:moveTo>
                <a:lnTo>
                  <a:pt x="22" y="21"/>
                </a:lnTo>
                <a:lnTo>
                  <a:pt x="22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0"/>
                </a:lnTo>
                <a:lnTo>
                  <a:pt x="0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9240" y="5678640"/>
            <a:ext cx="27000" cy="33120"/>
          </a:xfrm>
          <a:custGeom>
            <a:avLst/>
            <a:gdLst/>
            <a:ahLst/>
            <a:rect l="l" t="t" r="r" b="b"/>
            <a:pathLst>
              <a:path w="17" h="21">
                <a:moveTo>
                  <a:pt x="0" y="21"/>
                </a:moveTo>
                <a:lnTo>
                  <a:pt x="17" y="21"/>
                </a:lnTo>
                <a:lnTo>
                  <a:pt x="1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39" y="11"/>
                </a:moveTo>
                <a:lnTo>
                  <a:pt x="0" y="0"/>
                </a:lnTo>
                <a:lnTo>
                  <a:pt x="0" y="11"/>
                </a:lnTo>
                <a:lnTo>
                  <a:pt x="39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54320" y="979560"/>
            <a:ext cx="61920" cy="17280"/>
          </a:xfrm>
          <a:custGeom>
            <a:avLst/>
            <a:gdLst/>
            <a:ahLst/>
            <a:rect l="l" t="t" r="r" b="b"/>
            <a:pathLst>
              <a:path w="39" h="11">
                <a:moveTo>
                  <a:pt x="0" y="0"/>
                </a:moveTo>
                <a:lnTo>
                  <a:pt x="39" y="0"/>
                </a:lnTo>
                <a:lnTo>
                  <a:pt x="3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54320" y="155880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54320" y="214776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54320" y="272736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4320" y="3316320"/>
            <a:ext cx="61920" cy="2520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54320" y="3903840"/>
            <a:ext cx="61920" cy="2664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54320" y="448452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39" y="17"/>
                </a:moveTo>
                <a:lnTo>
                  <a:pt x="0" y="0"/>
                </a:lnTo>
                <a:lnTo>
                  <a:pt x="0" y="17"/>
                </a:lnTo>
                <a:lnTo>
                  <a:pt x="3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54320" y="5072040"/>
            <a:ext cx="61920" cy="27000"/>
          </a:xfrm>
          <a:custGeom>
            <a:avLst/>
            <a:gdLst/>
            <a:ahLst/>
            <a:rect l="l" t="t" r="r" b="b"/>
            <a:pathLst>
              <a:path w="39" h="17">
                <a:moveTo>
                  <a:pt x="0" y="0"/>
                </a:moveTo>
                <a:lnTo>
                  <a:pt x="39" y="0"/>
                </a:lnTo>
                <a:lnTo>
                  <a:pt x="39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39" y="16"/>
                </a:moveTo>
                <a:lnTo>
                  <a:pt x="0" y="0"/>
                </a:lnTo>
                <a:lnTo>
                  <a:pt x="0" y="16"/>
                </a:lnTo>
                <a:lnTo>
                  <a:pt x="39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4320" y="5661000"/>
            <a:ext cx="61920" cy="25560"/>
          </a:xfrm>
          <a:custGeom>
            <a:avLst/>
            <a:gdLst/>
            <a:ahLst/>
            <a:rect l="l" t="t" r="r" b="b"/>
            <a:pathLst>
              <a:path w="39" h="16">
                <a:moveTo>
                  <a:pt x="0" y="0"/>
                </a:moveTo>
                <a:lnTo>
                  <a:pt x="39" y="0"/>
                </a:lnTo>
                <a:lnTo>
                  <a:pt x="3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3779" y="2948"/>
                </a:moveTo>
                <a:lnTo>
                  <a:pt x="0" y="0"/>
                </a:lnTo>
                <a:lnTo>
                  <a:pt x="0" y="2948"/>
                </a:lnTo>
                <a:lnTo>
                  <a:pt x="3779" y="29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98600" y="988920"/>
            <a:ext cx="5999400" cy="4680000"/>
          </a:xfrm>
          <a:custGeom>
            <a:avLst/>
            <a:gdLst/>
            <a:ahLst/>
            <a:rect l="l" t="t" r="r" b="b"/>
            <a:pathLst>
              <a:path w="3779" h="2948">
                <a:moveTo>
                  <a:pt x="0" y="0"/>
                </a:moveTo>
                <a:lnTo>
                  <a:pt x="3779" y="0"/>
                </a:lnTo>
                <a:lnTo>
                  <a:pt x="3779" y="29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98600" y="988920"/>
            <a:ext cx="59994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72280" y="15159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8600" y="1811160"/>
            <a:ext cx="52560" cy="51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8800" y="328140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5120" y="270972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95920" y="4033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51800" y="361008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3163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10360" y="256392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916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6400" y="503712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435456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54480" y="42163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68760" y="347976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18018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54800" y="243360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250040" y="367992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5760" y="270180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89560" y="231300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71960" y="380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72080" y="176688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98600" y="5668920"/>
            <a:ext cx="5999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298600" y="988920"/>
            <a:ext cx="180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6480" y="12574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360" y="1752480"/>
            <a:ext cx="38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7960" y="30481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13480" y="24415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0360" y="377352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85040" y="334980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840" y="3124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54400" y="230364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800" y="411480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79240" y="47782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320" y="441972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120" y="403848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720" y="342900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3560" y="1539720"/>
            <a:ext cx="30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194960" y="217332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7280" y="37339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3040" y="2590920"/>
            <a:ext cx="65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64200" y="205272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19240" y="354960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43600" y="16765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43400" y="601020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59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9CF-2EED-4DDB-B709-92F0BA8EEA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900000" y="982800"/>
            <a:ext cx="7992720" cy="5541480"/>
            <a:chOff x="900000" y="982800"/>
            <a:chExt cx="7992720" cy="5541480"/>
          </a:xfrm>
        </p:grpSpPr>
        <p:sp>
          <p:nvSpPr>
            <p:cNvPr id="277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3897" y="3119"/>
                  </a:moveTo>
                  <a:lnTo>
                    <a:pt x="0" y="0"/>
                  </a:lnTo>
                  <a:lnTo>
                    <a:pt x="0" y="3119"/>
                  </a:lnTo>
                  <a:lnTo>
                    <a:pt x="3897" y="31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00000" y="982800"/>
              <a:ext cx="7992720" cy="5541480"/>
            </a:xfrm>
            <a:custGeom>
              <a:avLst/>
              <a:gdLst/>
              <a:ahLst/>
              <a:rect l="l" t="t" r="r" b="b"/>
              <a:pathLst>
                <a:path w="3897" h="3119">
                  <a:moveTo>
                    <a:pt x="0" y="0"/>
                  </a:moveTo>
                  <a:lnTo>
                    <a:pt x="3897" y="0"/>
                  </a:lnTo>
                  <a:lnTo>
                    <a:pt x="3897" y="3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87640" y="6156720"/>
              <a:ext cx="196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ESPERANZA DE VIDA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560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9244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3892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74960" y="5676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6200000">
              <a:off x="457560" y="4514040"/>
              <a:ext cx="193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500" spc="-1" strike="noStrike">
                  <a:solidFill>
                    <a:srgbClr val="000000"/>
                  </a:solidFill>
                  <a:latin typeface="Arial"/>
                </a:rPr>
                <a:t>TASA DE NATALIDAD</a:t>
              </a:r>
              <a:endParaRPr b="0" lang="en-US" sz="15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0200" y="1160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0200" y="2251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0200" y="3329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0200" y="4418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0200" y="5424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41720" y="5612760"/>
              <a:ext cx="48960" cy="320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0" y="18"/>
                  </a:moveTo>
                  <a:lnTo>
                    <a:pt x="24" y="18"/>
                  </a:lnTo>
                  <a:lnTo>
                    <a:pt x="24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90360" y="5612760"/>
              <a:ext cx="34560" cy="32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18"/>
                  </a:moveTo>
                  <a:lnTo>
                    <a:pt x="17" y="18"/>
                  </a:lnTo>
                  <a:lnTo>
                    <a:pt x="17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6480" y="5612760"/>
              <a:ext cx="37080" cy="32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8"/>
                  </a:moveTo>
                  <a:lnTo>
                    <a:pt x="18" y="18"/>
                  </a:lnTo>
                  <a:lnTo>
                    <a:pt x="18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85480" y="5612760"/>
              <a:ext cx="2448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18"/>
                  </a:moveTo>
                  <a:lnTo>
                    <a:pt x="12" y="18"/>
                  </a:lnTo>
                  <a:lnTo>
                    <a:pt x="12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30" y="12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48040" y="1254240"/>
              <a:ext cx="61560" cy="21240"/>
            </a:xfrm>
            <a:custGeom>
              <a:avLst/>
              <a:gdLst/>
              <a:ahLst/>
              <a:rect l="l" t="t" r="r" b="b"/>
              <a:pathLst>
                <a:path w="30" h="12">
                  <a:moveTo>
                    <a:pt x="0" y="0"/>
                  </a:moveTo>
                  <a:lnTo>
                    <a:pt x="30" y="0"/>
                  </a:lnTo>
                  <a:lnTo>
                    <a:pt x="3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30" y="17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48040" y="2334600"/>
              <a:ext cx="61560" cy="2988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0"/>
                  </a:lnTo>
                  <a:lnTo>
                    <a:pt x="3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0"/>
                  </a:lnTo>
                  <a:lnTo>
                    <a:pt x="0" y="24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48040" y="3413160"/>
              <a:ext cx="61560" cy="4248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0" y="0"/>
                  </a:moveTo>
                  <a:lnTo>
                    <a:pt x="30" y="0"/>
                  </a:lnTo>
                  <a:lnTo>
                    <a:pt x="3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48040" y="4502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30" y="18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48040" y="5591160"/>
              <a:ext cx="61560" cy="3204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0" y="0"/>
                  </a:moveTo>
                  <a:lnTo>
                    <a:pt x="30" y="0"/>
                  </a:lnTo>
                  <a:lnTo>
                    <a:pt x="3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3154" y="2441"/>
                  </a:moveTo>
                  <a:lnTo>
                    <a:pt x="0" y="0"/>
                  </a:lnTo>
                  <a:lnTo>
                    <a:pt x="0" y="2441"/>
                  </a:lnTo>
                  <a:lnTo>
                    <a:pt x="3154" y="24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97360" y="1265040"/>
              <a:ext cx="6468480" cy="4336920"/>
            </a:xfrm>
            <a:custGeom>
              <a:avLst/>
              <a:gdLst/>
              <a:ahLst/>
              <a:rect l="l" t="t" r="r" b="b"/>
              <a:pathLst>
                <a:path w="3154" h="2441">
                  <a:moveTo>
                    <a:pt x="0" y="0"/>
                  </a:moveTo>
                  <a:lnTo>
                    <a:pt x="3154" y="0"/>
                  </a:lnTo>
                  <a:lnTo>
                    <a:pt x="3154" y="24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97360" y="1265040"/>
              <a:ext cx="6468480" cy="433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0360" y="3601440"/>
              <a:ext cx="468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61960" y="481680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76480" y="3601440"/>
              <a:ext cx="4716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78720" y="351792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308772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96880" y="396756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227088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316560" y="364392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9120" y="2649240"/>
              <a:ext cx="486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05520" y="283716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962960" y="2469960"/>
              <a:ext cx="48600" cy="4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0400" y="3036240"/>
              <a:ext cx="4896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8800" y="3318840"/>
              <a:ext cx="486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5920" y="4230720"/>
              <a:ext cx="489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51360" y="4773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42640" y="3810960"/>
              <a:ext cx="4680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23600" y="3862800"/>
              <a:ext cx="48960" cy="42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34560" y="3832560"/>
              <a:ext cx="4680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41280" y="2931480"/>
              <a:ext cx="46800" cy="41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07800" y="4461480"/>
              <a:ext cx="47160" cy="406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7360" y="5601960"/>
              <a:ext cx="6468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097360" y="1264680"/>
              <a:ext cx="2160" cy="43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8920" y="329436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Ve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27680" y="457668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Ur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17720" y="336132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Do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45520" y="327636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e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26080" y="28483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750720" y="37278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a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2960" y="20307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Nic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3480" y="3430800"/>
              <a:ext cx="28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Mex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31800" y="240732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on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71240" y="25959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03480" y="2229840"/>
              <a:ext cx="29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Gu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58360" y="27950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Sa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371920" y="307728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Ecu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642000" y="398880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hi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2240" y="454500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ub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83880" y="357156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s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01920" y="363348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C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01360" y="359064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ra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1440" y="28339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Bol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474240" y="423072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Arg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564160" y="5791320"/>
            <a:ext cx="16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</a:t>
            </a:r>
            <a:r>
              <a:rPr b="1" lang="es-CL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 0.7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B6D-95D0-4A6B-A8FF-F243BBB08E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4884" y="3793"/>
                </a:moveTo>
                <a:lnTo>
                  <a:pt x="0" y="0"/>
                </a:lnTo>
                <a:lnTo>
                  <a:pt x="0" y="3793"/>
                </a:lnTo>
                <a:lnTo>
                  <a:pt x="4884" y="37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52360" y="685800"/>
            <a:ext cx="7753680" cy="6021360"/>
          </a:xfrm>
          <a:custGeom>
            <a:avLst/>
            <a:gdLst/>
            <a:ahLst/>
            <a:rect l="l" t="t" r="r" b="b"/>
            <a:pathLst>
              <a:path w="4884" h="3793">
                <a:moveTo>
                  <a:pt x="0" y="0"/>
                </a:moveTo>
                <a:lnTo>
                  <a:pt x="4884" y="0"/>
                </a:lnTo>
                <a:lnTo>
                  <a:pt x="4884" y="379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10200" y="6294600"/>
            <a:ext cx="1181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NAT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5327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5952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424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289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55760" y="5770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1065600" y="483516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_MOR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60280" y="874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060280" y="1819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163960" y="2763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63960" y="3708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63960" y="4653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63960" y="55040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578800" y="5718240"/>
            <a:ext cx="36720" cy="34920"/>
          </a:xfrm>
          <a:custGeom>
            <a:avLst/>
            <a:gdLst/>
            <a:ahLst/>
            <a:rect l="l" t="t" r="r" b="b"/>
            <a:pathLst>
              <a:path w="23" h="22">
                <a:moveTo>
                  <a:pt x="0" y="22"/>
                </a:moveTo>
                <a:lnTo>
                  <a:pt x="23" y="22"/>
                </a:lnTo>
                <a:lnTo>
                  <a:pt x="23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5320" y="5718240"/>
            <a:ext cx="25200" cy="34920"/>
          </a:xfrm>
          <a:custGeom>
            <a:avLst/>
            <a:gdLst/>
            <a:ahLst/>
            <a:rect l="l" t="t" r="r" b="b"/>
            <a:pathLst>
              <a:path w="16" h="22">
                <a:moveTo>
                  <a:pt x="0" y="22"/>
                </a:moveTo>
                <a:lnTo>
                  <a:pt x="16" y="22"/>
                </a:lnTo>
                <a:lnTo>
                  <a:pt x="16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50040" y="5718240"/>
            <a:ext cx="17280" cy="34920"/>
          </a:xfrm>
          <a:custGeom>
            <a:avLst/>
            <a:gdLst/>
            <a:ahLst/>
            <a:rect l="l" t="t" r="r" b="b"/>
            <a:pathLst>
              <a:path w="11" h="22">
                <a:moveTo>
                  <a:pt x="0" y="22"/>
                </a:moveTo>
                <a:lnTo>
                  <a:pt x="11" y="22"/>
                </a:lnTo>
                <a:lnTo>
                  <a:pt x="11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750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0"/>
                </a:lnTo>
                <a:lnTo>
                  <a:pt x="0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01840" y="5718240"/>
            <a:ext cx="27000" cy="3492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22"/>
                </a:moveTo>
                <a:lnTo>
                  <a:pt x="17" y="22"/>
                </a:lnTo>
                <a:lnTo>
                  <a:pt x="17" y="0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66920" y="97776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66920" y="1922400"/>
            <a:ext cx="69840" cy="1764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44" y="16"/>
                </a:moveTo>
                <a:lnTo>
                  <a:pt x="0" y="0"/>
                </a:lnTo>
                <a:lnTo>
                  <a:pt x="0" y="16"/>
                </a:lnTo>
                <a:lnTo>
                  <a:pt x="44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66920" y="2867040"/>
            <a:ext cx="69840" cy="25560"/>
          </a:xfrm>
          <a:custGeom>
            <a:avLst/>
            <a:gdLst/>
            <a:ahLst/>
            <a:rect l="l" t="t" r="r" b="b"/>
            <a:pathLst>
              <a:path w="44" h="16">
                <a:moveTo>
                  <a:pt x="0" y="0"/>
                </a:moveTo>
                <a:lnTo>
                  <a:pt x="44" y="0"/>
                </a:lnTo>
                <a:lnTo>
                  <a:pt x="44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44" y="11"/>
                </a:moveTo>
                <a:lnTo>
                  <a:pt x="0" y="0"/>
                </a:lnTo>
                <a:lnTo>
                  <a:pt x="0" y="11"/>
                </a:lnTo>
                <a:lnTo>
                  <a:pt x="44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66920" y="3811680"/>
            <a:ext cx="69840" cy="17280"/>
          </a:xfrm>
          <a:custGeom>
            <a:avLst/>
            <a:gdLst/>
            <a:ahLst/>
            <a:rect l="l" t="t" r="r" b="b"/>
            <a:pathLst>
              <a:path w="44" h="11">
                <a:moveTo>
                  <a:pt x="0" y="0"/>
                </a:moveTo>
                <a:lnTo>
                  <a:pt x="44" y="0"/>
                </a:lnTo>
                <a:lnTo>
                  <a:pt x="4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17"/>
                </a:moveTo>
                <a:lnTo>
                  <a:pt x="0" y="0"/>
                </a:lnTo>
                <a:lnTo>
                  <a:pt x="0" y="17"/>
                </a:lnTo>
                <a:lnTo>
                  <a:pt x="44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266920" y="4756320"/>
            <a:ext cx="69840" cy="26640"/>
          </a:xfrm>
          <a:custGeom>
            <a:avLst/>
            <a:gdLst/>
            <a:ahLst/>
            <a:rect l="l" t="t" r="r" b="b"/>
            <a:pathLst>
              <a:path w="44" h="17">
                <a:moveTo>
                  <a:pt x="0" y="0"/>
                </a:moveTo>
                <a:lnTo>
                  <a:pt x="44" y="0"/>
                </a:lnTo>
                <a:lnTo>
                  <a:pt x="44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44" y="10"/>
                </a:moveTo>
                <a:lnTo>
                  <a:pt x="0" y="0"/>
                </a:lnTo>
                <a:lnTo>
                  <a:pt x="0" y="10"/>
                </a:lnTo>
                <a:lnTo>
                  <a:pt x="44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66920" y="5702400"/>
            <a:ext cx="69840" cy="15840"/>
          </a:xfrm>
          <a:custGeom>
            <a:avLst/>
            <a:gdLst/>
            <a:ahLst/>
            <a:rect l="l" t="t" r="r" b="b"/>
            <a:pathLst>
              <a:path w="44" h="10">
                <a:moveTo>
                  <a:pt x="0" y="0"/>
                </a:moveTo>
                <a:lnTo>
                  <a:pt x="44" y="0"/>
                </a:lnTo>
                <a:lnTo>
                  <a:pt x="44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3954" y="2976"/>
                </a:moveTo>
                <a:lnTo>
                  <a:pt x="0" y="0"/>
                </a:lnTo>
                <a:lnTo>
                  <a:pt x="0" y="2976"/>
                </a:lnTo>
                <a:lnTo>
                  <a:pt x="3954" y="29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19480" y="985680"/>
            <a:ext cx="6276960" cy="4724640"/>
          </a:xfrm>
          <a:custGeom>
            <a:avLst/>
            <a:gdLst/>
            <a:ahLst/>
            <a:rect l="l" t="t" r="r" b="b"/>
            <a:pathLst>
              <a:path w="3954" h="2976">
                <a:moveTo>
                  <a:pt x="0" y="0"/>
                </a:moveTo>
                <a:lnTo>
                  <a:pt x="3954" y="0"/>
                </a:lnTo>
                <a:lnTo>
                  <a:pt x="3954" y="29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19480" y="985680"/>
            <a:ext cx="627696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6744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06680" y="175896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167440" y="37004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7220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00760" y="3605040"/>
            <a:ext cx="522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27440" y="4173480"/>
            <a:ext cx="5256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7724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05520" y="4078440"/>
            <a:ext cx="522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545160" y="322740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62560" y="1003320"/>
            <a:ext cx="5400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92840" y="303840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79960" y="32702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573880" y="336564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55920" y="3605040"/>
            <a:ext cx="5256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51320" y="34686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48120" y="4876920"/>
            <a:ext cx="52560" cy="52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68920" y="383868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21120" y="3081240"/>
            <a:ext cx="54000" cy="52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21440" y="223200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11760" y="2567160"/>
            <a:ext cx="52200" cy="50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319480" y="5710320"/>
            <a:ext cx="62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2319480" y="985680"/>
            <a:ext cx="144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57800" y="397836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EZUE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76560" y="1501920"/>
            <a:ext cx="889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RUGUY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80760" y="3733920"/>
            <a:ext cx="59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.D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14520" y="278136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U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640" y="3657600"/>
            <a:ext cx="9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403848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0" y="342900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57080" y="420696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30120" y="3139920"/>
            <a:ext cx="101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81320" y="2743200"/>
            <a:ext cx="10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75960" y="3013200"/>
            <a:ext cx="123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91400" y="335268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CU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77720" y="33480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01560" y="3201840"/>
            <a:ext cx="494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8640" y="46195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A RIC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08720" y="3733920"/>
            <a:ext cx="9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0400" y="28954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RASIL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71240" y="1973160"/>
            <a:ext cx="69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IVI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16120" y="2308320"/>
            <a:ext cx="1038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64160" y="6097680"/>
            <a:ext cx="14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r = 0.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80760" y="10666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333333"/>
                </a:solidFill>
                <a:latin typeface="Arial"/>
              </a:rPr>
              <a:t>HAITI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5A29-A0DC-4866-BF5F-F4F0A2B8D4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69560" y="19080"/>
            <a:ext cx="8636400" cy="5848200"/>
            <a:chOff x="169560" y="19080"/>
            <a:chExt cx="8636400" cy="5848200"/>
          </a:xfrm>
        </p:grpSpPr>
        <p:sp>
          <p:nvSpPr>
            <p:cNvPr id="448" name=""/>
            <p:cNvSpPr/>
            <p:nvPr/>
          </p:nvSpPr>
          <p:spPr>
            <a:xfrm>
              <a:off x="6524640" y="4516560"/>
              <a:ext cx="1095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67640" y="498780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3280" y="1235160"/>
              <a:ext cx="8180280" cy="75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00400" y="126540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700" spc="-1" strike="noStrike">
                  <a:solidFill>
                    <a:srgbClr val="000000"/>
                  </a:solidFill>
                  <a:latin typeface="Arial"/>
                </a:rPr>
                <a:t>Correlaciones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04920" y="2479680"/>
              <a:ext cx="1095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112920" y="247968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94000" y="247968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3480" y="247968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9360" y="247968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548480" y="247968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4800" y="299556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89880" y="300672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12920" y="299556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9400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43480" y="299556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99360" y="299556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8480" y="299556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44800" y="351000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08960" y="34797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17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12920" y="351000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351960" y="355752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10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400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43480" y="351000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99360" y="351000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8480" y="351000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44800" y="4025880"/>
              <a:ext cx="1095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5280" y="40305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88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12920" y="4025880"/>
              <a:ext cx="1108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76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2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400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419000" y="40305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6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3480" y="4025880"/>
              <a:ext cx="10828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99360" y="4025880"/>
              <a:ext cx="117612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548480" y="4025880"/>
              <a:ext cx="11350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44800" y="4540320"/>
              <a:ext cx="1095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20896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35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112920" y="4540320"/>
              <a:ext cx="1108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51960" y="44546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97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19400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94960" y="453384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26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34120" y="4533840"/>
              <a:ext cx="10825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62000" y="45338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76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399360" y="4540320"/>
              <a:ext cx="117612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48480" y="4540320"/>
              <a:ext cx="11350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44800" y="5052960"/>
              <a:ext cx="1095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208960" y="508464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53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12920" y="5052960"/>
              <a:ext cx="1108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76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682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9400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00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533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43480" y="5052960"/>
              <a:ext cx="10828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000" y="5052960"/>
              <a:ext cx="782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-,951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9360" y="5052960"/>
              <a:ext cx="117612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628680" y="5052960"/>
              <a:ext cx="6681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700" spc="-1" strike="noStrike">
                  <a:solidFill>
                    <a:srgbClr val="000000"/>
                  </a:solidFill>
                  <a:latin typeface="Arial"/>
                </a:rPr>
                <a:t>,709</a:t>
              </a:r>
              <a:endParaRPr b="0" lang="en-US" sz="27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548480" y="5052960"/>
              <a:ext cx="11350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333333"/>
                  </a:solidFill>
                  <a:latin typeface="Arial"/>
                </a:rPr>
                <a:t>1,0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65360" y="1967040"/>
              <a:ext cx="40644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65360" y="247968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65360" y="299556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665360" y="351000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665360" y="4025880"/>
              <a:ext cx="40644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665360" y="4540320"/>
              <a:ext cx="40644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65360" y="5052960"/>
              <a:ext cx="40644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588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52320" y="301932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760" y="2644920"/>
              <a:ext cx="143028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_URBAN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5880" y="299556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9120" y="3195720"/>
              <a:ext cx="129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ASA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880" y="351000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3960" y="365112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5880" y="4025880"/>
              <a:ext cx="1176480" cy="56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1040" y="42022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880" y="4540320"/>
              <a:ext cx="1176480" cy="56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800" y="4675320"/>
              <a:ext cx="1340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IDA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5880" y="5052960"/>
              <a:ext cx="1176480" cy="56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71480" y="51465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44800" y="1967040"/>
              <a:ext cx="1095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59000" y="1967040"/>
              <a:ext cx="1108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94000" y="1967040"/>
              <a:ext cx="11764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43480" y="1967040"/>
              <a:ext cx="10828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99360" y="1967040"/>
              <a:ext cx="117612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48480" y="1967040"/>
              <a:ext cx="1135080" cy="56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65360" y="2995560"/>
              <a:ext cx="6991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65360" y="351000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65360" y="402588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665360" y="4540320"/>
              <a:ext cx="6991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65360" y="5052960"/>
              <a:ext cx="699120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5880" y="2995560"/>
              <a:ext cx="81406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5880" y="351000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5880" y="402588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5880" y="4540320"/>
              <a:ext cx="814068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5880" y="5052960"/>
              <a:ext cx="81406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1292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9400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43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9360" y="1967040"/>
              <a:ext cx="144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48480" y="1967040"/>
              <a:ext cx="1800" cy="360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0880" y="5568840"/>
              <a:ext cx="8412120" cy="27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656560" y="5541840"/>
              <a:ext cx="149400" cy="8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93000" y="1938240"/>
              <a:ext cx="12960" cy="3929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5880" y="1913040"/>
              <a:ext cx="8290080" cy="7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656560" y="990720"/>
              <a:ext cx="149400" cy="10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656560" y="990720"/>
              <a:ext cx="1494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5568840"/>
              <a:ext cx="8412120" cy="29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028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64396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0280" y="19922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0280" y="554184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30280" y="2508120"/>
              <a:ext cx="811368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57400" y="1992240"/>
              <a:ext cx="1440" cy="35496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0880" y="990720"/>
              <a:ext cx="841212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0880" y="990720"/>
              <a:ext cx="13500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697960" y="990720"/>
              <a:ext cx="95040" cy="484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0880" y="5651640"/>
              <a:ext cx="8412120" cy="18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200760" y="2171880"/>
              <a:ext cx="92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T. NA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229280" y="2171880"/>
              <a:ext cx="1102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333333"/>
                  </a:solidFill>
                  <a:latin typeface="Arial"/>
                </a:rPr>
                <a:t>T. MORTA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5320" y="2171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ESP VID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628680" y="2155680"/>
              <a:ext cx="844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FECUND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1560" y="217188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MORT INF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57760" y="2155680"/>
              <a:ext cx="9914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POB  URB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57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DFB-C992-4787-9263-CDBFEBB404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181480" cy="2365560"/>
          </a:xfrm>
          <a:prstGeom prst="rect">
            <a:avLst/>
          </a:prstGeom>
          <a:ln w="0">
            <a:noFill/>
          </a:ln>
        </p:spPr>
      </p:pic>
      <p:grpSp>
        <p:nvGrpSpPr>
          <p:cNvPr id="573" name=""/>
          <p:cNvGrpSpPr/>
          <p:nvPr/>
        </p:nvGrpSpPr>
        <p:grpSpPr>
          <a:xfrm>
            <a:off x="169560" y="19080"/>
            <a:ext cx="590760" cy="1047600"/>
            <a:chOff x="169560" y="19080"/>
            <a:chExt cx="590760" cy="1047600"/>
          </a:xfrm>
        </p:grpSpPr>
        <p:pic>
          <p:nvPicPr>
            <p:cNvPr id="574" name="" descr=""/>
            <p:cNvPicPr/>
            <p:nvPr/>
          </p:nvPicPr>
          <p:blipFill>
            <a:blip r:embed="rId2"/>
            <a:stretch/>
          </p:blipFill>
          <p:spPr>
            <a:xfrm>
              <a:off x="228600" y="247680"/>
              <a:ext cx="45072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169560" y="19080"/>
              <a:ext cx="59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333333"/>
                  </a:solidFill>
                  <a:latin typeface="Times New Roman"/>
                </a:rPr>
                <a:t>MA44E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576" name=""/>
          <p:cNvGraphicFramePr/>
          <p:nvPr/>
        </p:nvGraphicFramePr>
        <p:xfrm>
          <a:off x="990720" y="3352680"/>
          <a:ext cx="7543800" cy="2598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352680"/>
                    <a:ext cx="7543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C39-2B73-4D2C-8128-34934BC704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169560" y="19080"/>
            <a:ext cx="8707680" cy="6602400"/>
            <a:chOff x="169560" y="19080"/>
            <a:chExt cx="8707680" cy="6602400"/>
          </a:xfrm>
        </p:grpSpPr>
        <p:grpSp>
          <p:nvGrpSpPr>
            <p:cNvPr id="579" name=""/>
            <p:cNvGrpSpPr/>
            <p:nvPr/>
          </p:nvGrpSpPr>
          <p:grpSpPr>
            <a:xfrm>
              <a:off x="762120" y="762120"/>
              <a:ext cx="8115120" cy="5859360"/>
              <a:chOff x="762120" y="762120"/>
              <a:chExt cx="8115120" cy="5859360"/>
            </a:xfrm>
          </p:grpSpPr>
          <p:sp>
            <p:nvSpPr>
              <p:cNvPr id="580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5112" y="3691"/>
                    </a:moveTo>
                    <a:lnTo>
                      <a:pt x="0" y="0"/>
                    </a:lnTo>
                    <a:lnTo>
                      <a:pt x="0" y="3691"/>
                    </a:lnTo>
                    <a:lnTo>
                      <a:pt x="5112" y="36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62120" y="762120"/>
                <a:ext cx="8115120" cy="5859360"/>
              </a:xfrm>
              <a:custGeom>
                <a:avLst/>
                <a:gdLst/>
                <a:ahLst/>
                <a:rect l="l" t="t" r="r" b="b"/>
                <a:pathLst>
                  <a:path w="5112" h="3691">
                    <a:moveTo>
                      <a:pt x="0" y="0"/>
                    </a:moveTo>
                    <a:lnTo>
                      <a:pt x="5112" y="0"/>
                    </a:lnTo>
                    <a:lnTo>
                      <a:pt x="5112" y="369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28120" y="6229440"/>
                <a:ext cx="1788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1   (6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4844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16688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39920" y="5715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7732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15180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32760" y="571500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16200000">
                <a:off x="293040" y="2214720"/>
                <a:ext cx="185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333333"/>
                    </a:solidFill>
                    <a:latin typeface="Times New Roman"/>
                  </a:rPr>
                  <a:t>Factor 2    (19%)</a:t>
                </a:r>
                <a:endParaRPr b="0" lang="en-US" sz="2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721880" y="9540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721880" y="1866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21880" y="27892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721880" y="37101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54920" y="463248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54920" y="5460840"/>
                <a:ext cx="15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35960" y="5661000"/>
                <a:ext cx="34920" cy="39600"/>
              </a:xfrm>
              <a:custGeom>
                <a:avLst/>
                <a:gdLst/>
                <a:ahLst/>
                <a:rect l="l" t="t" r="r" b="b"/>
                <a:pathLst>
                  <a:path w="22" h="25">
                    <a:moveTo>
                      <a:pt x="0" y="25"/>
                    </a:moveTo>
                    <a:lnTo>
                      <a:pt x="22" y="25"/>
                    </a:lnTo>
                    <a:lnTo>
                      <a:pt x="22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2183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9104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6408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236760" y="56610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5"/>
                    </a:moveTo>
                    <a:lnTo>
                      <a:pt x="16" y="25"/>
                    </a:lnTo>
                    <a:lnTo>
                      <a:pt x="16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919160" y="5661000"/>
                <a:ext cx="15840" cy="39600"/>
              </a:xfrm>
              <a:custGeom>
                <a:avLst/>
                <a:gdLst/>
                <a:ahLst/>
                <a:rect l="l" t="t" r="r" b="b"/>
                <a:pathLst>
                  <a:path w="10" h="25">
                    <a:moveTo>
                      <a:pt x="0" y="25"/>
                    </a:moveTo>
                    <a:lnTo>
                      <a:pt x="10" y="25"/>
                    </a:lnTo>
                    <a:lnTo>
                      <a:pt x="10" y="0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20"/>
                    </a:moveTo>
                    <a:lnTo>
                      <a:pt x="0" y="0"/>
                    </a:lnTo>
                    <a:lnTo>
                      <a:pt x="0" y="2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76320" y="1038240"/>
                <a:ext cx="68400" cy="3168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0" y="0"/>
                    </a:moveTo>
                    <a:lnTo>
                      <a:pt x="43" y="0"/>
                    </a:lnTo>
                    <a:lnTo>
                      <a:pt x="4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76320" y="196056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876320" y="288144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76320" y="3803760"/>
                <a:ext cx="68400" cy="2196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43" y="15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876320" y="4724280"/>
                <a:ext cx="68400" cy="23760"/>
              </a:xfrm>
              <a:custGeom>
                <a:avLst/>
                <a:gdLst/>
                <a:ahLst/>
                <a:rect l="l" t="t" r="r" b="b"/>
                <a:pathLst>
                  <a:path w="43" h="15">
                    <a:moveTo>
                      <a:pt x="0" y="0"/>
                    </a:moveTo>
                    <a:lnTo>
                      <a:pt x="43" y="0"/>
                    </a:lnTo>
                    <a:lnTo>
                      <a:pt x="43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3" y="1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6320" y="563868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0" y="0"/>
                    </a:moveTo>
                    <a:lnTo>
                      <a:pt x="43" y="0"/>
                    </a:lnTo>
                    <a:lnTo>
                      <a:pt x="43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33720" y="1066680"/>
                <a:ext cx="6626160" cy="460080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4174" y="2898"/>
                    </a:moveTo>
                    <a:lnTo>
                      <a:pt x="0" y="0"/>
                    </a:lnTo>
                    <a:lnTo>
                      <a:pt x="0" y="2898"/>
                    </a:lnTo>
                    <a:lnTo>
                      <a:pt x="4174" y="28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927080" y="1054080"/>
                <a:ext cx="6626520" cy="4600440"/>
              </a:xfrm>
              <a:custGeom>
                <a:avLst/>
                <a:gdLst/>
                <a:ahLst/>
                <a:rect l="l" t="t" r="r" b="b"/>
                <a:pathLst>
                  <a:path w="4174" h="2898">
                    <a:moveTo>
                      <a:pt x="0" y="0"/>
                    </a:moveTo>
                    <a:lnTo>
                      <a:pt x="4174" y="0"/>
                    </a:lnTo>
                    <a:lnTo>
                      <a:pt x="4174" y="289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27080" y="1054080"/>
                <a:ext cx="6626520" cy="4600440"/>
              </a:xfrm>
              <a:prstGeom prst="rect">
                <a:avLst/>
              </a:prstGeom>
              <a:noFill/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7640" y="410220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421400" y="1874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57920" y="391788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313240" y="3051000"/>
                <a:ext cx="6696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288040" y="4602240"/>
                <a:ext cx="666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886440" y="465624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691160" y="4602240"/>
                <a:ext cx="6804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58008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30600" y="451008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219480" y="23749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317840" y="46324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26040" y="427212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397480" y="3949560"/>
                <a:ext cx="68400" cy="6048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413480" y="35956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924680" y="3403440"/>
                <a:ext cx="6696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9200" y="5470560"/>
                <a:ext cx="68400" cy="601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613560" y="391788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053040" y="30272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89360" y="28274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07120" y="2597040"/>
                <a:ext cx="68400" cy="61920"/>
              </a:xfrm>
              <a:prstGeom prst="rect">
                <a:avLst/>
              </a:prstGeom>
              <a:noFill/>
              <a:ln w="7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27080" y="5654520"/>
                <a:ext cx="6626520" cy="1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1927080" y="1053720"/>
                <a:ext cx="1800" cy="4600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010640" y="4038480"/>
                <a:ext cx="10584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VENEZUE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963480" y="162864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URUGUY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78480" y="3672000"/>
                <a:ext cx="1000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R. DOMINIC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065920" y="280512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ERU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257800" y="4648320"/>
                <a:ext cx="623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RAG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86600" y="4572000"/>
                <a:ext cx="75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PANAM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72000" y="4648320"/>
                <a:ext cx="554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NICA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80960" y="4267080"/>
                <a:ext cx="703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58320" y="4267080"/>
                <a:ext cx="1017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ONDURAS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7720" y="2128680"/>
                <a:ext cx="45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HAITI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169800" y="4724280"/>
                <a:ext cx="109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GUATEMAL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028480" y="4267080"/>
                <a:ext cx="1238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L SALV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496400" y="3886200"/>
                <a:ext cx="889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ECUADOR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149600" y="3349800"/>
                <a:ext cx="524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HIL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87080" y="3157560"/>
                <a:ext cx="494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UB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536520" y="5222880"/>
                <a:ext cx="1089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STA RIC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04280" y="3733920"/>
                <a:ext cx="941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COLOMB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736600" y="278136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440160" y="258120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BOLIVI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562800" y="2343240"/>
                <a:ext cx="1038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Arial"/>
                  </a:rPr>
                  <a:t>ARGENTINA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169560" y="19080"/>
              <a:ext cx="590760" cy="1047600"/>
              <a:chOff x="169560" y="19080"/>
              <a:chExt cx="590760" cy="104760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247680"/>
                <a:ext cx="45072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9560" y="19080"/>
                <a:ext cx="59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333333"/>
                    </a:solidFill>
                    <a:latin typeface="Times New Roman"/>
                  </a:rPr>
                  <a:t>MA44E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8CC-62E0-4F3B-AF19-070786DA8B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8T15:55:10Z</dcterms:created>
  <dc:creator>Juan Muñoz</dc:creator>
  <dc:description/>
  <dc:language>en-US</dc:language>
  <cp:lastModifiedBy>nancy Lacourly</cp:lastModifiedBy>
  <dcterms:modified xsi:type="dcterms:W3CDTF">2004-06-23T20:55:39Z</dcterms:modified>
  <cp:revision>114</cp:revision>
  <dc:subject/>
  <dc:title>Sin título de diapositiva</dc:title>
</cp:coreProperties>
</file>