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3.wmf" ContentType="image/x-wmf"/>
  <Override PartName="/ppt/media/image10.png" ContentType="image/pn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A41C-7C04-44F6-9C0A-A5C83DF1C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6440-FBD8-4704-AA6C-BAF1F0A9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CA19-E62D-4836-BE59-8E83CB874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FDE5-D717-41A5-9997-A5FBBB525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780A8-B742-43FE-8B0B-9992A6B76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C5022-DD67-4DDB-AB49-69DFB8121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9AEF4-E67B-47F2-822B-B80073A0D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43EFD-DBDD-4099-BFF7-9FCF5AD5F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CF267-CA3F-4450-A9A3-7D51E3DF2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29377-2C32-40E1-9FB9-581B4A017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25C6E-FDA5-4771-97E3-C38B9B7C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F7B2-1E20-4E10-8892-695097DDF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C983C-70EB-43EF-9E1D-EA21DBA9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09833-9973-4C2F-82D6-36345DD2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84F42-AD12-4B48-A419-3986D65E9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77E02-91A6-455D-BB63-73C2E094E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EFBC2-E1AF-40D7-AFF0-BC1AABF4E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3896-7EC0-4F98-9BA8-A8354DBAA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B37B-9826-4E83-ACF3-384531586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71A3-6524-4750-9996-7C6F4AD74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2E6D-C818-43FC-9E34-E78F4A6EA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7C50-8C4B-4CFC-B8AD-7CB4CBBC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73C1-4F74-4058-B2B1-D9719419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8E6B-0968-4115-A00D-03CE7D60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86F79-9B2C-49A5-90A8-3AF05C0AA9D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00FFB-C298-460D-A539-90EABF14B42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181400" y="28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19520" y="457200"/>
            <a:ext cx="464796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acultad de Ciencias Físicas y Matemátic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partamento de Ingeniería Eléctrica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47920" y="2590920"/>
            <a:ext cx="571500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Informe final de Seminario de Diseño: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“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LÜFKE: La joyita renovad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43400" y="3962520"/>
            <a:ext cx="3352680" cy="25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Integrantes: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 J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orge Lemus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Javier Moya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Sebastián Oliva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ablo Sa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Profesor: Rodrigo Pal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Fecha : 3 de octubre de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81400" y="28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logo-ing" descr=""/>
          <p:cNvPicPr/>
          <p:nvPr/>
        </p:nvPicPr>
        <p:blipFill>
          <a:blip r:embed="rId1"/>
          <a:stretch/>
        </p:blipFill>
        <p:spPr>
          <a:xfrm>
            <a:off x="1752480" y="-228600"/>
            <a:ext cx="1239840" cy="1905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914400" y="388620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533520" y="2438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28400" y="2209680"/>
            <a:ext cx="357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Alarmas de emerg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371600" y="2743200"/>
            <a:ext cx="6095880" cy="37720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962520" y="4495680"/>
            <a:ext cx="609480" cy="533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4267080"/>
            <a:ext cx="609840" cy="533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3657600"/>
            <a:ext cx="609480" cy="533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4984920"/>
            <a:ext cx="1066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0000"/>
                </a:solidFill>
                <a:latin typeface="Tahoma"/>
              </a:rPr>
              <a:t>Alarma de Temperatu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34120" y="457200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77120" y="4419720"/>
            <a:ext cx="1066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0000"/>
                </a:solidFill>
                <a:latin typeface="Tahoma"/>
              </a:rPr>
              <a:t>Alarma de Volta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4495320" y="3276720"/>
            <a:ext cx="2286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05320" y="28954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0000"/>
                </a:solidFill>
                <a:latin typeface="Tahoma"/>
              </a:rPr>
              <a:t>Alarma SobreAmpera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523880" y="990720"/>
            <a:ext cx="54104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f01"/>
                </a:solidFill>
                <a:latin typeface="Arial Black"/>
              </a:rPr>
              <a:t>Soluciones fina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f01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09480" y="2438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21720" y="2133720"/>
            <a:ext cx="26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Arial"/>
              </a:rPr>
              <a:t>Registro de 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523880" y="990720"/>
            <a:ext cx="54104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f01"/>
                </a:solidFill>
                <a:latin typeface="Arial Black"/>
              </a:rPr>
              <a:t>Soluciones fina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f01"/>
              </a:solidFill>
              <a:latin typeface="Arial Black"/>
              <a:ea typeface="Arial Black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38080" y="2743200"/>
            <a:ext cx="990720" cy="8762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806480" y="2971800"/>
            <a:ext cx="31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Mediante archivos de W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1066680" y="3962520"/>
            <a:ext cx="74185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18" presetSubtype="1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1523880" y="990720"/>
            <a:ext cx="54104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f01"/>
                </a:solidFill>
                <a:latin typeface="Arial Black"/>
              </a:rPr>
              <a:t>Soluciones fina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f01"/>
              </a:solidFill>
              <a:latin typeface="Arial Black"/>
              <a:ea typeface="Arial Black"/>
            </a:endParaRPr>
          </a:p>
        </p:txBody>
      </p:sp>
      <p:sp>
        <p:nvSpPr>
          <p:cNvPr id="192" name=""/>
          <p:cNvSpPr/>
          <p:nvPr/>
        </p:nvSpPr>
        <p:spPr>
          <a:xfrm>
            <a:off x="533520" y="2438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465200" y="213372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Arial"/>
              </a:rPr>
              <a:t>Venti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3276720" y="2376360"/>
          <a:ext cx="5310000" cy="431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376360"/>
                    <a:ext cx="5310000" cy="43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2819520" y="3657600"/>
            <a:ext cx="2743200" cy="2057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94080" y="449568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Disipador de c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1523880" y="990720"/>
            <a:ext cx="54104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f01"/>
                </a:solidFill>
                <a:latin typeface="Arial Black"/>
              </a:rPr>
              <a:t>Soluciones fina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f01"/>
              </a:solidFill>
              <a:latin typeface="Arial Black"/>
              <a:ea typeface="Arial Black"/>
            </a:endParaRPr>
          </a:p>
        </p:txBody>
      </p:sp>
      <p:pic>
        <p:nvPicPr>
          <p:cNvPr id="199" name="excel" descr=""/>
          <p:cNvPicPr/>
          <p:nvPr/>
        </p:nvPicPr>
        <p:blipFill>
          <a:blip r:embed="rId1"/>
          <a:stretch/>
        </p:blipFill>
        <p:spPr>
          <a:xfrm>
            <a:off x="1219320" y="2590920"/>
            <a:ext cx="6562440" cy="41241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533520" y="2438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443240" y="2133720"/>
            <a:ext cx="307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álculo de Efic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1523880" y="990720"/>
            <a:ext cx="4191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f01"/>
                </a:solidFill>
                <a:latin typeface="Arial Black"/>
              </a:rPr>
              <a:t>Dificultad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f01"/>
              </a:solidFill>
              <a:latin typeface="Arial Black"/>
              <a:ea typeface="Arial Black"/>
            </a:endParaRPr>
          </a:p>
        </p:txBody>
      </p:sp>
      <p:sp>
        <p:nvSpPr>
          <p:cNvPr id="203" name=""/>
          <p:cNvSpPr/>
          <p:nvPr/>
        </p:nvSpPr>
        <p:spPr>
          <a:xfrm>
            <a:off x="762120" y="30481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018880" y="2743200"/>
            <a:ext cx="12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2120" y="3886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892520" y="3581280"/>
            <a:ext cx="55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spacio en el laboratorio de mecá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2120" y="47242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858680" y="4452840"/>
            <a:ext cx="495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onocimientos sobre electr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62120" y="55627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927440" y="5257800"/>
            <a:ext cx="34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Disponibilidad del a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867280" y="1905120"/>
            <a:ext cx="2819520" cy="15984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762120" y="6324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881000" y="6019920"/>
            <a:ext cx="465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Problemas de último mo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1523880" y="990720"/>
            <a:ext cx="4191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f01"/>
                </a:solidFill>
                <a:latin typeface="Arial Black"/>
              </a:rPr>
              <a:t>Conclusion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f01"/>
              </a:solidFill>
              <a:latin typeface="Arial Black"/>
              <a:ea typeface="Arial Black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2743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76800" y="2471760"/>
            <a:ext cx="461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Problemas durante el proy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4800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541520" y="4572000"/>
            <a:ext cx="610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omparación auto eléctrico-conve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720" y="55627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39080" y="5334120"/>
            <a:ext cx="406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ficiencia del auto eléct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90720" y="32767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362320" y="289548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438280" y="30481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Se lograron objetivos pro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3962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8800" y="373392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onclusión sobre algunos 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523880" y="914400"/>
            <a:ext cx="44197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f01"/>
                </a:solidFill>
                <a:latin typeface="Arial Black"/>
              </a:rPr>
              <a:t>Motivació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f01"/>
              </a:solidFill>
              <a:latin typeface="Arial Black"/>
              <a:ea typeface="Arial Black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800600" y="4191120"/>
            <a:ext cx="3581280" cy="2506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14400" y="2057400"/>
            <a:ext cx="2057400" cy="18511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343400" y="1905120"/>
            <a:ext cx="42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Explosión demográfica e incremento de la adquisición de automóvi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480060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Más gases tóxicos en el amb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46320" y="2895480"/>
            <a:ext cx="358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Más ruido en la ciu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3200400" y="3124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5268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523880" y="914400"/>
            <a:ext cx="4876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f01"/>
                </a:solidFill>
                <a:latin typeface="Arial Black"/>
              </a:rPr>
              <a:t>Reseña históric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f01"/>
              </a:solidFill>
              <a:latin typeface="Arial Black"/>
              <a:ea typeface="Arial Black"/>
            </a:endParaRPr>
          </a:p>
        </p:txBody>
      </p:sp>
      <p:sp>
        <p:nvSpPr>
          <p:cNvPr id="114" name=""/>
          <p:cNvSpPr/>
          <p:nvPr/>
        </p:nvSpPr>
        <p:spPr>
          <a:xfrm>
            <a:off x="1948680" y="2666880"/>
            <a:ext cx="199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scocia 18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28954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3657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93240" y="3429000"/>
            <a:ext cx="451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arreras de autos 1889 y 18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44197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829880" y="4191120"/>
            <a:ext cx="495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Desarrollo en los últimos 20 a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1523880" y="990720"/>
            <a:ext cx="40388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f01"/>
                </a:solidFill>
                <a:latin typeface="Arial Black"/>
              </a:rPr>
              <a:t>Objetivo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f01"/>
              </a:solidFill>
              <a:latin typeface="Arial Black"/>
              <a:ea typeface="Arial Black"/>
            </a:endParaRPr>
          </a:p>
        </p:txBody>
      </p:sp>
      <p:sp>
        <p:nvSpPr>
          <p:cNvPr id="121" name=""/>
          <p:cNvSpPr/>
          <p:nvPr/>
        </p:nvSpPr>
        <p:spPr>
          <a:xfrm>
            <a:off x="1143000" y="396252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Dispone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de un sistema de monitoreo eficiente para el auto eléctr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2971800"/>
            <a:ext cx="31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ahoma"/>
              </a:rPr>
              <a:t>OBJETIVO GENERAL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523880" y="990720"/>
            <a:ext cx="40388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f01"/>
                </a:solidFill>
                <a:latin typeface="Arial Black"/>
              </a:rPr>
              <a:t>Objetivo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f01"/>
              </a:solidFill>
              <a:latin typeface="Arial Black"/>
              <a:ea typeface="Arial Black"/>
            </a:endParaRPr>
          </a:p>
        </p:txBody>
      </p:sp>
      <p:sp>
        <p:nvSpPr>
          <p:cNvPr id="124" name=""/>
          <p:cNvSpPr/>
          <p:nvPr/>
        </p:nvSpPr>
        <p:spPr>
          <a:xfrm>
            <a:off x="400320" y="2209680"/>
            <a:ext cx="38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ahoma"/>
              </a:rPr>
              <a:t>OBJETIVOS ESPECÍFICO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2743200"/>
            <a:ext cx="7848720" cy="32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Mejorar las falencias que tiene el conversor digital y el amplificador operacional 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ncorporar al auto eléctrico los elementos de monitoreo que aún no se han instalado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Encontrar la posición adecuada del Laptop dentro del auto eléctrico 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Añadir o quitar elementos de la interfaz de monitore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Implementar un sistema de registro de las mediciones tomadas en cada viaje. 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Buscar la mejor manera de advertir al usuario los problem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Solucionar el problema de la ventilación del controlador del auto.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Documentar detalladamente todo el desarrollo, es decir, disponer de un manual de usuari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3276720"/>
            <a:ext cx="244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523880" y="990720"/>
            <a:ext cx="44960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f01"/>
                </a:solidFill>
                <a:latin typeface="Arial Black"/>
              </a:rPr>
              <a:t>Materia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f01"/>
              </a:solidFill>
              <a:latin typeface="Arial Black"/>
              <a:ea typeface="Arial Black"/>
            </a:endParaRPr>
          </a:p>
        </p:txBody>
      </p:sp>
      <p:sp>
        <p:nvSpPr>
          <p:cNvPr id="128" name=""/>
          <p:cNvSpPr/>
          <p:nvPr/>
        </p:nvSpPr>
        <p:spPr>
          <a:xfrm>
            <a:off x="990720" y="2895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13040" y="259092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Auto eléct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3505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41120" y="32004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Lap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90720" y="4038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39960" y="3733920"/>
            <a:ext cx="387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onversor análogo dig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90720" y="4648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29160" y="4343400"/>
            <a:ext cx="377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Amplificador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oper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54080" y="4952880"/>
            <a:ext cx="14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Labvie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90720" y="5791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64800" y="5486400"/>
            <a:ext cx="35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ensor de temper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1523880" y="990720"/>
            <a:ext cx="54104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f01"/>
                </a:solidFill>
                <a:latin typeface="Arial Black"/>
              </a:rPr>
              <a:t>Soluciones propuesta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f01"/>
              </a:solidFill>
              <a:latin typeface="Arial Black"/>
              <a:ea typeface="Arial Black"/>
            </a:endParaRPr>
          </a:p>
        </p:txBody>
      </p:sp>
      <p:sp>
        <p:nvSpPr>
          <p:cNvPr id="141" name=""/>
          <p:cNvSpPr/>
          <p:nvPr/>
        </p:nvSpPr>
        <p:spPr>
          <a:xfrm>
            <a:off x="990720" y="2895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97200" y="259092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Ruidos en las señ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90720" y="3505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861200" y="3200400"/>
            <a:ext cx="40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Instalación de la tecn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90720" y="4191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61560" y="3886200"/>
            <a:ext cx="357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Alarmas de emerg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4876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02600" y="4572000"/>
            <a:ext cx="26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Arial"/>
              </a:rPr>
              <a:t>Registro de 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5638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22400" y="533412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Arial"/>
              </a:rPr>
              <a:t>Venti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90720" y="6248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32480" y="5672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891440" y="6019920"/>
            <a:ext cx="340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Arial"/>
              </a:rPr>
              <a:t>Cálculo de la efic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523880" y="990720"/>
            <a:ext cx="54104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f01"/>
                </a:solidFill>
                <a:latin typeface="Arial Black"/>
              </a:rPr>
              <a:t>Soluciones fina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f01"/>
              </a:solidFill>
              <a:latin typeface="Arial Black"/>
              <a:ea typeface="Arial Black"/>
            </a:endParaRPr>
          </a:p>
        </p:txBody>
      </p:sp>
      <p:sp>
        <p:nvSpPr>
          <p:cNvPr id="155" name=""/>
          <p:cNvSpPr/>
          <p:nvPr/>
        </p:nvSpPr>
        <p:spPr>
          <a:xfrm>
            <a:off x="990720" y="2895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97200" y="259092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Ruidos en las señ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90720" y="3505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61200" y="3200400"/>
            <a:ext cx="40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Instalación de la tecn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90720" y="4191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61560" y="3886200"/>
            <a:ext cx="357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Alarmas de emerg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4876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02600" y="4572000"/>
            <a:ext cx="26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Arial"/>
              </a:rPr>
              <a:t>Registro de 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5638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22400" y="533412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Arial"/>
              </a:rPr>
              <a:t>Venti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6248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91440" y="6019920"/>
            <a:ext cx="340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Arial"/>
              </a:rPr>
              <a:t>Cálculo de la efic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914400" y="2438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785240" y="2133720"/>
            <a:ext cx="40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Instalación de la tecn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600200" y="2666880"/>
            <a:ext cx="5181480" cy="38862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1600200" y="2666880"/>
            <a:ext cx="5181480" cy="38862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1600200" y="266688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1523880" y="990720"/>
            <a:ext cx="54104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f01"/>
                </a:solidFill>
                <a:latin typeface="Arial Black"/>
              </a:rPr>
              <a:t>Soluciones fina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f01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500"/>
                            </p:stCondLst>
                            <p:childTnLst>
                              <p:par>
                                <p:cTn id="213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5T15:43:27Z</dcterms:created>
  <dc:creator>auto</dc:creator>
  <dc:description/>
  <dc:language>en-US</dc:language>
  <cp:lastModifiedBy>auto</cp:lastModifiedBy>
  <dcterms:modified xsi:type="dcterms:W3CDTF">2003-12-01T13:26:52Z</dcterms:modified>
  <cp:revision>12</cp:revision>
  <dc:subject/>
  <dc:title>Presentación de PowerPoint</dc:title>
</cp:coreProperties>
</file>