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3CAF-3BCA-46B3-9A60-FC0BF085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0FC-74B7-43C3-8AF7-0D03EF94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DBD-1A95-4908-931B-6E0C763A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692-25FD-485F-89E4-DB91FE9B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5F6F-0A9C-41BA-B4AC-79C21926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B8C0-DC6F-4250-988D-883D5275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DF7-19D3-4EE3-8BD9-7DAEC2C6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D35-8F18-4FA0-A8C9-40381FC3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209-4D03-4986-8197-958DE712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C04-9050-4ED5-ABA8-79CC0609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BA5-094A-4E4E-ABEE-C577D49C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1B4-AC55-41E1-88F4-0227B84D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FD95-EC1E-4C92-BFEF-F76FA82EC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92C-B080-4C7A-9068-D85FB8608C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5208-C7DC-46DB-B8C8-07AA44228D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756F-8243-4713-9279-5E0CABBF0B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5CA-4601-43E5-B2E0-03B16A9896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BAB-F822-4C4A-BE7F-A141BC2D36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A6A-3722-4E76-9382-62D2F83E4D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0258-9E44-4F29-8A62-B62F05360E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AB3-557E-4FFD-8489-EEB5D4DCBC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0AB3-9976-49A7-B50B-57BBADA6AD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577-3849-4F48-B8D8-04CBB7C52C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CE3-AA74-4DAB-B7C2-9C4FF37DA7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B93F-58BD-4803-ADD2-CBB75D7F3C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04:14:51Z</dcterms:created>
  <dc:creator>Hercules</dc:creator>
  <dc:description/>
  <dc:language>en-US</dc:language>
  <cp:lastModifiedBy>Hercules</cp:lastModifiedBy>
  <dcterms:modified xsi:type="dcterms:W3CDTF">2003-07-04T10:40:36Z</dcterms:modified>
  <cp:revision>3</cp:revision>
  <dc:subject/>
  <dc:title>Diapositiva 1</dc:title>
</cp:coreProperties>
</file>