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B78-32BB-40DC-9E2A-3338DC0A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B3B-2240-4AE6-9EE2-A3C869E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374-77EA-47D3-BEF6-99E74780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F28-2748-4FAD-91F7-7CDFA3B4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0E6-1858-4CF1-9441-4F52F751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F5E-C1C4-44CC-856B-4F0764C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857-9AD0-4333-AF77-F770F09B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B01-0CE5-4E5D-9448-BEF12A1A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A1C-94E6-47E4-B936-1FEF455E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1F5-EF32-4893-A4CC-AFFB5A99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07B-B9DF-4D24-9EF8-9579BC43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965-7108-447E-A393-C678C80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3C3-8E46-49B1-9C9F-A4E27E6B6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60720" y="1125360"/>
            <a:ext cx="3095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14680" y="1471680"/>
            <a:ext cx="5715000" cy="39146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2486160"/>
            <a:ext cx="3809880" cy="1885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79960" y="2060640"/>
            <a:ext cx="1905120" cy="2400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878040" y="4699080"/>
            <a:ext cx="425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exocitosis regulada es una respuesta localizada de la membr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lasmática y del citoplasma subya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20560" y="4699080"/>
            <a:ext cx="26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ando estimulador fijado artificial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una superficie sól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36640" y="1700280"/>
            <a:ext cx="5715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476280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381024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98640" y="917640"/>
            <a:ext cx="5410080" cy="402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35840" cy="351324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62440" cy="3619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0124"/>
          <a:stretch/>
        </p:blipFill>
        <p:spPr>
          <a:xfrm>
            <a:off x="1714680" y="1220760"/>
            <a:ext cx="5715000" cy="43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0600" y="1114560"/>
            <a:ext cx="4762800" cy="462888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1514520"/>
            <a:ext cx="3810240" cy="382896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21:19:21Z</dcterms:created>
  <dc:creator>mfernadez</dc:creator>
  <dc:description/>
  <dc:language>en-US</dc:language>
  <cp:lastModifiedBy>mfernadez</cp:lastModifiedBy>
  <dcterms:modified xsi:type="dcterms:W3CDTF">2004-08-23T21:20:36Z</dcterms:modified>
  <cp:revision>1</cp:revision>
  <dc:subject/>
  <dc:title>Diapositiva 1</dc:title>
</cp:coreProperties>
</file>