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56BF-12D9-4645-99B7-B79B84FBA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CD5D-565A-4337-B9AE-DF6969CA3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294C-7478-4547-8BFF-12233CF3D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AF84-70D2-4767-B430-E6A10267E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E054-FA21-40C0-A83B-F196A0FA7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4B13-053D-4B1F-A9AE-84C657F1C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9023-D90B-4510-ADBD-0FF85F75B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E78B-4CDD-4BD8-A1C9-823EAFCE4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81CA-AF2B-428B-BB46-2341FE0A9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2386-0B65-4241-99B1-FE40E95D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1772-8E3A-4C33-BBFA-CDCE2B9D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38F9-D1B9-41ED-9E29-EF816E9F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C49D6-6724-4E2B-A991-60A2911E060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26920" y="692280"/>
            <a:ext cx="1943280" cy="2438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032280" y="3429000"/>
            <a:ext cx="261936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411960" y="404640"/>
            <a:ext cx="1905120" cy="390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190600" y="1828800"/>
            <a:ext cx="476280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14680" y="2004840"/>
            <a:ext cx="5715000" cy="2848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62320" y="1100160"/>
            <a:ext cx="2619360" cy="4657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835280" y="3716280"/>
            <a:ext cx="5715000" cy="1914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257560" y="608040"/>
            <a:ext cx="4762440" cy="202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835280" y="1197000"/>
            <a:ext cx="5715000" cy="382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435640" y="1773360"/>
            <a:ext cx="3333600" cy="329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403280" y="1844640"/>
            <a:ext cx="2619360" cy="323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62320" y="1743120"/>
            <a:ext cx="2619360" cy="3371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190600" y="1700280"/>
            <a:ext cx="4762800" cy="345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7T20:08:44Z</dcterms:created>
  <dc:creator>mfernadez</dc:creator>
  <dc:description/>
  <dc:language>en-US</dc:language>
  <cp:lastModifiedBy>mfernadez</cp:lastModifiedBy>
  <dcterms:modified xsi:type="dcterms:W3CDTF">2004-08-23T21:23:50Z</dcterms:modified>
  <cp:revision>3</cp:revision>
  <dc:subject/>
  <dc:title>Diapositiva 1</dc:title>
</cp:coreProperties>
</file>