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17E0-C2DA-47AE-A0A1-B3DD6851E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1156-1F42-44FB-9C9C-359717E9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19B3-9079-4BDA-89D0-9C1567DB5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A1A3-8383-4A42-9776-18C59906B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C970-1851-4558-8CEA-629CB81C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70D2-4B26-4C34-AA97-F3A7F490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ABE5-B504-4055-AC7D-B1D40B28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1C6C-31B1-4D40-9254-5DA557A7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6A25-2A9F-4C7D-AA3E-377AD1D3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2E28-FFFA-4D77-9432-FBD6EA7B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52E7-92AF-4D88-A6C0-0B742CAC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7BE0-FB54-48BF-9A93-54EBBAFE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9B3E-7B1A-47C6-B557-6219CA958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23194" b="45666"/>
          <a:stretch/>
        </p:blipFill>
        <p:spPr>
          <a:xfrm>
            <a:off x="1676520" y="609480"/>
            <a:ext cx="5715000" cy="572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05080" y="260280"/>
            <a:ext cx="6333840" cy="258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567360" y="3233880"/>
            <a:ext cx="82425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Mecanismo general de la fosforilación oxidativa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: Cuando un electrón de alta energía es transferido a lo largo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cadena de transporte electrónico, parte de la energía liberada se utiliza para impulsar la acción de tres complej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nzimáticos que bombean protones hacia el exterior del espacio de la matriz. Estos protones generan un gradien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ectroquímico de protones a través de la membrana mitocondrial interna que impulsa a los protones a volver ha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matriz a través de la ATP sintetasa, un complejo proteico transmembrana que utiliza la energía del flujo de prot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sintetizar ATP a partir de ADP y Pi en la matriz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628560"/>
            <a:ext cx="2286000" cy="560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0" y="620640"/>
            <a:ext cx="3924360" cy="23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3819960" y="3213000"/>
            <a:ext cx="55868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Los dos componentes del gradiente electroquímico de protones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: La fuerz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otón-motriz total a través de la membrana mitocondrial interna está compuest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or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) una gran fuerza debida al gradiente de voltaje (potencial de membrana) a travé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 la membrana mitocondrial interna, negativo en el interior y positivo en el exterior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que es el resultado neto de la salida de iones positivos 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) una pequeña fuerza debida al gradiente de concentración de proton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mbas fuerzas actúan en el sentido de impulsar protones hacia el espacio de l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atriz mitocondria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0" y="692280"/>
            <a:ext cx="4572000" cy="547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362320" y="685800"/>
            <a:ext cx="4627440" cy="519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132000" y="907920"/>
            <a:ext cx="2973600" cy="4560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858000" cy="260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676520" y="3809880"/>
            <a:ext cx="5715000" cy="256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23880" y="201600"/>
            <a:ext cx="5715000" cy="238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143000" y="3886200"/>
            <a:ext cx="6858000" cy="18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5743440" cy="37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882720" y="4131720"/>
            <a:ext cx="13338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Protein import from the cytosol into the inner mitochondrial membrane or intermembrane space.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(A) A pathway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quires two signal sequences and two translocation events is thought to be used to move some proteins from the cytosol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he inner membrane. The precursor protein is first imported into the matrix space.Cleavage of the signal sequence </a:t>
            </a:r>
            <a:r>
              <a:rPr b="0" i="1" lang="es-ES" sz="1200" spc="-1" strike="noStrike">
                <a:solidFill>
                  <a:srgbClr val="000000"/>
                </a:solidFill>
                <a:latin typeface="Times New Roman"/>
              </a:rPr>
              <a:t>(red)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u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 the initial translocation, however, unmasks an adjacent hydrophobic signal sequence </a:t>
            </a:r>
            <a:r>
              <a:rPr b="0" i="1" lang="es-ES" sz="1200" spc="-1" strike="noStrike">
                <a:solidFill>
                  <a:srgbClr val="000000"/>
                </a:solidFill>
                <a:latin typeface="Times New Roman"/>
              </a:rPr>
              <a:t>(orange)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at the new N termin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his signal then directs the protein into the inner membrane, presumably by the same OXA-dependent pathway that is u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o insert proteins encoded by the mitochondrial genome. (B) In some cases, the hydrophobic sequence that follow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atrix-targeting signal binds to the TIM23 translocator in the inner membrane and stops translocation. The remainder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otein is then pulled into the intermembrane space through the TOM translocator in the outer membrane, and the hydrophob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quence is released into the inner membrane. (C) Some soluble proteins of the intermembrane space may also use the pathwa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hown in (A) and (B) before they are released into the intermembrane space by a second signal peptidase, which has its ac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ite in the intermembrane space and removes the hydrophobic signal sequence. (D) The import pathway used to insert metabol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arrier proteins into the inner mitochondrial membrane utilizes the TIM22 complex, which is specialized for the translocation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ultipass membrane protei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14680" y="617400"/>
            <a:ext cx="5715000" cy="562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64000" y="90360"/>
            <a:ext cx="3168720" cy="672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504720" y="476280"/>
            <a:ext cx="45720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*La Mitocondria presenta una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membrana externa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y una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membrana interna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que definen dos compartimentos: el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espacio intermembranoso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y la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matriz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*Si las Mit purificadas se rompen suavemente y luego se fraccionan sus distintos componentes se puede determinar la composición bioquímica de cada membrana y de los espacios delimitados por ell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53615" r="0" b="0"/>
          <a:stretch/>
        </p:blipFill>
        <p:spPr>
          <a:xfrm>
            <a:off x="762120" y="762120"/>
            <a:ext cx="7440480" cy="488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59280" y="549360"/>
            <a:ext cx="2388960" cy="447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346760" y="5373000"/>
            <a:ext cx="625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nergy from sunlight or the oxidation of foodstuffs is first used to create an electrochemical prot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gradient across a membrane. This gradient serves as a versatile energy store and is used to drive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variety of energy-requiring reactions in mitochondria, chloroplasts, and bacter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09760" y="1484280"/>
            <a:ext cx="4524480" cy="276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49" name=""/>
          <p:cNvGraphicFramePr/>
          <p:nvPr/>
        </p:nvGraphicFramePr>
        <p:xfrm>
          <a:off x="324000" y="4957920"/>
          <a:ext cx="9144000" cy="9190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91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a9194c"/>
                          </a:solidFill>
                          <a:latin typeface="Arial"/>
                        </a:rPr>
                        <a:t>The ATP molecule serves as an energy carrier in cells.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energy-requiring formation of ATP from ADP and inorgani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sphate is coupled to the energy-yielding oxidation of foodstuffs (in animal cells, fungi, and some bacteria) or to the captu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light energy (in plant cells and some bacteria). The hydrolysis of this ATP back to ADP and inorganic phosphate in tur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s the energy to drive many cellular reaction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1800" y="43405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09680" y="685800"/>
            <a:ext cx="4002120" cy="5378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2202120" cy="164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09880" y="1447920"/>
            <a:ext cx="4800600" cy="369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14680" y="1486080"/>
            <a:ext cx="5715000" cy="388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526760" y="5635800"/>
            <a:ext cx="606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lgunos procesos de transporte activo impulsados por el gradiente electroquímico a través de l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Membrana mitocondrial intern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16:06:54Z</dcterms:created>
  <dc:creator>mfernadez</dc:creator>
  <dc:description/>
  <dc:language>en-US</dc:language>
  <cp:lastModifiedBy>mfernadez</cp:lastModifiedBy>
  <dcterms:modified xsi:type="dcterms:W3CDTF">2004-09-09T19:36:56Z</dcterms:modified>
  <cp:revision>9</cp:revision>
  <dc:subject/>
  <dc:title>Diapositiva 1</dc:title>
</cp:coreProperties>
</file>