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59D9-FE64-42D3-B5E3-E2C06531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231E-8ABE-4581-815E-935B8B6D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1EA5-07B1-42DB-A853-C2F6460B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B57E-5C64-433F-9242-F701C982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6699-939B-4F3B-BEDE-E133FE3D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4725-9C55-4E57-9FE9-CE05CFA6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8221-C357-4FB2-A1DF-E323D265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267E-3F2C-4E8F-B19D-4F9E51FC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ABEE-6E8C-46B7-BED8-0E7DA86A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1F07-8582-4C8C-B843-3EC2377D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5937-42A2-4EE2-AE75-D451474C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6038-B14C-4B67-85DA-4531C77C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CD85-9A91-496B-8297-384D6438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82AF-D219-4E8E-AEAD-976117AA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C402-793A-4D6C-8810-890BADA9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810C-05FD-41D7-A532-F93BAF2F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C8EA-32C8-4B9E-BFF5-FEA95379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2E98-B7B7-4C5C-8056-1FCD0869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9CA2-1B96-4DDA-A527-1B16F78A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6ADB-A520-4C52-BFD7-669CBB3B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21E1-5036-4DC3-88F6-32581BED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6682-D845-4136-9B25-09D16C50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2B7E-BB4C-4D8B-88BE-4CB7EA27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FAAB-D2DD-4784-A7FF-A99710C0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B3B3-CB33-4EC5-B0DB-50BDFFB658E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596E-4834-4DAD-A9B4-B1C92BE6D21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Humedad atmosféric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opieda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Maneras de expresar la humedad atmosfér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nstrumentos de medi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Factores que determinan la variabilidad de la humed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14300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ntidad de vapor de agua  que contiene el aire; es la fuente de precipitaciones; influye en los procesos de evapotranspiración y derretimiento de nie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4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sidad de la mezcla de aire seco y vapor de agu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2057400"/>
            <a:ext cx="7848720" cy="312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 =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1-0,378e/P) P/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sión de aire seco(mb)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:presión de vapor(mb)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s: ctte de gases para aire seco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: temperatura en ºK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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aire húmedo es menos denso que el aire seco a igual temperatura y pre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ESPECÍFI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sa de vapor de agua que existe por unidad de masa total de aire húme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: Presión total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300320" y="2573280"/>
                <a:ext cx="616248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ABSOLU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: Humedad absoluta del aire en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(gr/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 : temperatura del aire en º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496960" y="1579680"/>
                <a:ext cx="29322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RELA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lación entre la humedad existente con respecto a la humedad máxima que puede tener una cantidad de volumen de aire a la misma temperatu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actu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de satu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124080" y="3548160"/>
                <a:ext cx="251460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PRESIÓN DE VAP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: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 : Presión de vapor en milibares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 de saturación del aire a 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temperatura 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 total del aire en m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: temperatura registrada con u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termómetro de bulbo se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Temperatura registrada con u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ermómetro de bulbo húme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62120" y="1676520"/>
                <a:ext cx="71625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TEMPERATURA DE PUNTO DE  ROCÍ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emperatura a la cual debe enfriarse una masa de aire húmedo, para que ésta se sature a la misma presión y contenido de agua inicial que tení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838080" y="4343400"/>
            <a:ext cx="4114800" cy="2545920"/>
            <a:chOff x="838080" y="4343400"/>
            <a:chExt cx="4114800" cy="2545920"/>
          </a:xfrm>
        </p:grpSpPr>
        <p:sp>
          <p:nvSpPr>
            <p:cNvPr id="186" name=""/>
            <p:cNvSpPr/>
            <p:nvPr/>
          </p:nvSpPr>
          <p:spPr>
            <a:xfrm>
              <a:off x="1447560" y="4495680"/>
              <a:ext cx="0" cy="19810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7560" y="6476760"/>
              <a:ext cx="289548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47560" y="4876560"/>
              <a:ext cx="2133720" cy="163836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1008"/>
                  </a:moveTo>
                  <a:cubicBezTo>
                    <a:pt x="112" y="1020"/>
                    <a:pt x="224" y="1032"/>
                    <a:pt x="384" y="960"/>
                  </a:cubicBezTo>
                  <a:cubicBezTo>
                    <a:pt x="544" y="888"/>
                    <a:pt x="800" y="736"/>
                    <a:pt x="960" y="576"/>
                  </a:cubicBezTo>
                  <a:cubicBezTo>
                    <a:pt x="1120" y="416"/>
                    <a:pt x="1232" y="208"/>
                    <a:pt x="1344" y="0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38480" y="6553080"/>
              <a:ext cx="914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ffff"/>
                  </a:solidFill>
                  <a:latin typeface="Times New Roman"/>
                </a:rPr>
                <a:t>T, T</a:t>
              </a:r>
              <a:r>
                <a:rPr b="0" lang="es-ES_tradnl" sz="1400" spc="-1" strike="noStrike" baseline="-25000">
                  <a:solidFill>
                    <a:srgbClr val="00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8080" y="434340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ffff"/>
                  </a:solidFill>
                  <a:latin typeface="Times New Roman"/>
                </a:rPr>
                <a:t>e,e</a:t>
              </a:r>
              <a:r>
                <a:rPr b="0" lang="es-ES_tradnl" sz="1400" spc="-1" strike="noStrike" baseline="-25000">
                  <a:solidFill>
                    <a:srgbClr val="00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447560" y="5486400"/>
              <a:ext cx="17524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24080" y="6553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90360" y="54100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2742840" y="601956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00040" y="548640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2742840" y="601956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447560" y="6019560"/>
              <a:ext cx="12952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42640" y="5943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14240" y="65530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638320" y="4419720"/>
            <a:ext cx="1905480" cy="2469600"/>
            <a:chOff x="5638320" y="4419720"/>
            <a:chExt cx="1905480" cy="2469600"/>
          </a:xfrm>
        </p:grpSpPr>
        <p:sp>
          <p:nvSpPr>
            <p:cNvPr id="201" name=""/>
            <p:cNvSpPr/>
            <p:nvPr/>
          </p:nvSpPr>
          <p:spPr>
            <a:xfrm rot="5400000">
              <a:off x="5638320" y="5104800"/>
              <a:ext cx="761760" cy="762120"/>
            </a:xfrm>
            <a:prstGeom prst="rightArrowCallout">
              <a:avLst>
                <a:gd name="adj1" fmla="val 25014"/>
                <a:gd name="adj2" fmla="val 25012"/>
                <a:gd name="adj3" fmla="val 16667"/>
                <a:gd name="adj4" fmla="val 6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5638680" y="4419720"/>
              <a:ext cx="1905120" cy="2469600"/>
              <a:chOff x="5638680" y="4419720"/>
              <a:chExt cx="1905120" cy="2469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9920" y="5867280"/>
                <a:ext cx="1218960" cy="685440"/>
              </a:xfrm>
              <a:prstGeom prst="downArrowCallout">
                <a:avLst>
                  <a:gd name="adj1" fmla="val 44463"/>
                  <a:gd name="adj2" fmla="val 44459"/>
                  <a:gd name="adj3" fmla="val 16667"/>
                  <a:gd name="adj4" fmla="val 66667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6553080" y="4419720"/>
                <a:ext cx="990720" cy="533160"/>
                <a:chOff x="6553080" y="4419720"/>
                <a:chExt cx="990720" cy="533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553080" y="4419720"/>
                  <a:ext cx="990720" cy="533160"/>
                </a:xfrm>
                <a:prstGeom prst="flowChartAlternateProcess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883200" y="4495680"/>
                  <a:ext cx="528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Times New Roman"/>
                    </a:rPr>
                    <a:t>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6934320" y="495288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6781680" y="5257800"/>
                <a:ext cx="685800" cy="609120"/>
                <a:chOff x="6781680" y="5257800"/>
                <a:chExt cx="685800" cy="6091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781680" y="5257800"/>
                  <a:ext cx="685800" cy="609120"/>
                </a:xfrm>
                <a:prstGeom prst="downArrowCallout">
                  <a:avLst>
                    <a:gd name="adj1" fmla="val 28150"/>
                    <a:gd name="adj2" fmla="val 28147"/>
                    <a:gd name="adj3" fmla="val 16667"/>
                    <a:gd name="adj4" fmla="val 6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934320" y="5257800"/>
                  <a:ext cx="380880" cy="3362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r>
                    <a:rPr b="1" lang="es-ES_tradnl" sz="14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5638680" y="51051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H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943600" y="6553080"/>
                <a:ext cx="1295280" cy="33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           </a:t>
                </a:r>
                <a:r>
                  <a:rPr b="1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r>
                  <a:rPr b="1" lang="es-ES_tradnl" sz="1400" spc="-1" strike="noStrike" baseline="-25000">
                    <a:solidFill>
                      <a:srgbClr val="0000ff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3200400" y="6019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800" y="5943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457200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590920" y="4062240"/>
                <a:ext cx="13716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ALTURA DE AGUA CONDENSABLE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O PRECIPITABL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ámina de agua ( uniforme) que se forma 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superficie producto de la condensación del vapor de agua de la columna de aire húme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álculo de masa (dm) de vapor de agua sobre una superficie de 1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dado un incremento dz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330280" y="2666880"/>
                <a:ext cx="4254840" cy="32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tegrando desde la superficie terrestre hasta una altura “h”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924200" y="2313000"/>
                <a:ext cx="453384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6629400" y="2971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[gr/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4724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dos e y T a distintas alturas se integra por ban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143000" y="5361120"/>
                <a:ext cx="251460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Σ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Δ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600200" y="1143000"/>
            <a:ext cx="914400" cy="12193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066680"/>
            <a:ext cx="914400" cy="152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2286000"/>
            <a:ext cx="9144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523880" y="24379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2743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23623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57200" y="9907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43200" y="24382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743200" y="11430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1280" y="2438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28600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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P,q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as For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2971800" y="1523520"/>
            <a:ext cx="533520" cy="83844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99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914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1828800"/>
            <a:ext cx="9144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1752480"/>
            <a:ext cx="914400" cy="152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572000" y="990720"/>
                <a:ext cx="40006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d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AΔ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537000" y="2971800"/>
                <a:ext cx="40780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744560" y="4432320"/>
                <a:ext cx="43135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895480" y="6019920"/>
                <a:ext cx="27432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nary>
                    <m:r>
                      <m:t xml:space="preserve">Δ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685800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m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220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5029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r/k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029200" y="54864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562360" y="61722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ropieda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esión de Vap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Calor de Condensación y de evapor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Densidad del aire seco y aire húme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57120" y="304920"/>
                <a:ext cx="18954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581280" y="533520"/>
                <a:ext cx="30099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m>
                      <m:mr>
                        <m:e/>
                        <m:e/>
                        <m:e/>
                      </m:mr>
                    </m:m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96720" y="1981080"/>
                <a:ext cx="655164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α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838080" y="4038480"/>
                <a:ext cx="297180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α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657600" y="5943600"/>
                <a:ext cx="39625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257800" y="3657600"/>
                <a:ext cx="1905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8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resión de Vap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sión parcial ejercida por las moléculas de vapor de ag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=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–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aire húme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aire se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990720"/>
            <a:ext cx="822960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esión de vapor saturado(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):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 determinado volumen de aire a temperatura T puede absorber una máxima cantidad de vapor de agua (pto. de saturación)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895480" y="3476520"/>
                <a:ext cx="388620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1752480" y="5562720"/>
            <a:ext cx="510552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° en °C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n m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762120" y="457200"/>
            <a:ext cx="7543440" cy="6095520"/>
            <a:chOff x="762120" y="457200"/>
            <a:chExt cx="7543440" cy="6095520"/>
          </a:xfrm>
        </p:grpSpPr>
        <p:grpSp>
          <p:nvGrpSpPr>
            <p:cNvPr id="98" name=""/>
            <p:cNvGrpSpPr/>
            <p:nvPr/>
          </p:nvGrpSpPr>
          <p:grpSpPr>
            <a:xfrm>
              <a:off x="768600" y="463320"/>
              <a:ext cx="7529400" cy="6082200"/>
              <a:chOff x="768600" y="463320"/>
              <a:chExt cx="7529400" cy="608220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768600" y="463320"/>
                <a:ext cx="7529400" cy="1116000"/>
                <a:chOff x="768600" y="463320"/>
                <a:chExt cx="7529400" cy="11160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768600" y="463320"/>
                  <a:ext cx="7529400" cy="11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Humedad de saturación del vapor de agua en el air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68600" y="463320"/>
                  <a:ext cx="7529400" cy="111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768600" y="1579680"/>
                <a:ext cx="3612600" cy="620280"/>
                <a:chOff x="768600" y="1579680"/>
                <a:chExt cx="3612600" cy="6202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768600" y="157968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Temperatura ºC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68600" y="157968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4381560" y="1579680"/>
                <a:ext cx="3916440" cy="620280"/>
                <a:chOff x="4381560" y="1579680"/>
                <a:chExt cx="3916440" cy="6202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4381560" y="157968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Saturación g · m</a:t>
                  </a:r>
                  <a:r>
                    <a:rPr b="0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-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381560" y="157968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768600" y="2200320"/>
                <a:ext cx="3612600" cy="620280"/>
                <a:chOff x="768600" y="2200320"/>
                <a:chExt cx="3612600" cy="6202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768600" y="220032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- 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68600" y="220032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381560" y="2200320"/>
                <a:ext cx="3916440" cy="620280"/>
                <a:chOff x="4381560" y="2200320"/>
                <a:chExt cx="3916440" cy="6202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4381560" y="220032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0.89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381560" y="220032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768600" y="2821320"/>
                <a:ext cx="3612600" cy="620280"/>
                <a:chOff x="768600" y="2821320"/>
                <a:chExt cx="3612600" cy="6202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768600" y="282132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-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68600" y="282132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4381560" y="2821320"/>
                <a:ext cx="3916440" cy="620280"/>
                <a:chOff x="4381560" y="2821320"/>
                <a:chExt cx="3916440" cy="620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4381560" y="282132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2.16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381560" y="282132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768600" y="3441960"/>
                <a:ext cx="3612600" cy="620280"/>
                <a:chOff x="768600" y="3441960"/>
                <a:chExt cx="3612600" cy="6202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768600" y="344196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68600" y="344196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381560" y="3441960"/>
                <a:ext cx="3916440" cy="620280"/>
                <a:chOff x="4381560" y="3441960"/>
                <a:chExt cx="3916440" cy="6202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4381560" y="344196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4.85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381560" y="344196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768600" y="4062600"/>
                <a:ext cx="3612600" cy="620280"/>
                <a:chOff x="768600" y="4062600"/>
                <a:chExt cx="3612600" cy="6202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768600" y="406260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68600" y="406260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381560" y="4062600"/>
                <a:ext cx="3916440" cy="620280"/>
                <a:chOff x="4381560" y="4062600"/>
                <a:chExt cx="3916440" cy="6202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381560" y="406260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9.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381560" y="406260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768600" y="4683600"/>
                <a:ext cx="3612600" cy="620280"/>
                <a:chOff x="768600" y="4683600"/>
                <a:chExt cx="3612600" cy="620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768600" y="468360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68600" y="468360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381560" y="4683600"/>
                <a:ext cx="3916440" cy="620280"/>
                <a:chOff x="4381560" y="4683600"/>
                <a:chExt cx="3916440" cy="620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381560" y="468360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17.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381560" y="468360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68600" y="5304240"/>
                <a:ext cx="3612600" cy="620280"/>
                <a:chOff x="768600" y="5304240"/>
                <a:chExt cx="3612600" cy="6202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68600" y="530424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68600" y="530424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381560" y="5304240"/>
                <a:ext cx="3916440" cy="620280"/>
                <a:chOff x="4381560" y="5304240"/>
                <a:chExt cx="3916440" cy="6202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381560" y="530424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30.3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381560" y="530424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68600" y="5925240"/>
                <a:ext cx="3612600" cy="620280"/>
                <a:chOff x="768600" y="5925240"/>
                <a:chExt cx="3612600" cy="6202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68600" y="592524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68600" y="592524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381560" y="5925240"/>
                <a:ext cx="3916440" cy="620280"/>
                <a:chOff x="4381560" y="5925240"/>
                <a:chExt cx="3916440" cy="6202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381560" y="592524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51.1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381560" y="592524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762120" y="457200"/>
              <a:ext cx="7543440" cy="6095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Calor de Condensación y de Vaporiza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Líquido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 Vap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vapo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00 cal/gr (de agua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vapor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Vapor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Líqu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ondens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00 cal/ gr ( de agua condens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33720" y="281952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3657600"/>
            <a:ext cx="0" cy="76212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274320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553080" y="3580920"/>
            <a:ext cx="0" cy="83844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1981080"/>
            <a:ext cx="3886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2485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-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597-0,57T    para T en º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sidad del Aire Seco y del aire Húmed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nsidad aire se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Constante de los gases para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aire sec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: Temperatura absoluta  º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141720" y="3105000"/>
                <a:ext cx="22525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ara el vapor de agu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676520" y="1295280"/>
                <a:ext cx="41148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357800" y="2819520"/>
                <a:ext cx="385740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685800" y="4572000"/>
            <a:ext cx="7010280" cy="17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Cte. Universal de los gases 1,9857cal/(molºK)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cte de los gases para el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peso molecular del vapor de agu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: peso molecular del aire se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cte. gas aire seco (2,876*10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cm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/(s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º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5257800"/>
            <a:ext cx="1600200" cy="914400"/>
          </a:xfrm>
          <a:prstGeom prst="rightArrow">
            <a:avLst>
              <a:gd name="adj1" fmla="val 50000"/>
              <a:gd name="adj2" fmla="val 437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76640" y="3103560"/>
                <a:ext cx="37414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415880" y="457200"/>
                <a:ext cx="597564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1219320" y="52578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nsidad del vapor o humedad absoluta de la atmósf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362320" y="434304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22:06:38Z</dcterms:created>
  <dc:creator>martinez-pizarro</dc:creator>
  <dc:description/>
  <dc:language>en-US</dc:language>
  <cp:lastModifiedBy>xv</cp:lastModifiedBy>
  <dcterms:modified xsi:type="dcterms:W3CDTF">2004-08-08T20:01:56Z</dcterms:modified>
  <cp:revision>34</cp:revision>
  <dc:subject/>
  <dc:title>Presentación de PowerPoint</dc:title>
</cp:coreProperties>
</file>