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314-918B-44EE-87F0-43A25C13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263-F0C7-47DA-B0A9-21B0544D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E53-FFAE-406C-A309-8941A481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DF5-141C-4E15-B155-0DC4B10F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909-226A-4320-9A72-07A892FA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7CD-3BE9-4907-906A-6EE10C2D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6A0-7268-4E07-828D-34FF6CDD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089-A52D-4963-8F6E-EFBB40EB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80F-0474-4350-A531-2E9BA538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2598-AE42-4C16-A255-D02EDA00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964-B3C5-4EE6-86BB-13318BC2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965-8AC1-4C1C-BD6B-BEA1CAF8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B7C9-060F-40EA-B6D4-2AA06B0A1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8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ndo2%20copia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4876920"/>
            <a:ext cx="34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tegrantes:  Bárbara Astud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uricio C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laudia Mel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odrigo Me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1532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Microscopi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Microscopí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304920"/>
            <a:ext cx="8762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371600"/>
            <a:ext cx="8153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PODER DE RESOLUCIÓN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Distancia mínima entre dos puntos próximos que pueden verse separad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Ojo humano no puede ver separados dos puntos cuando su distancia es menor a una décima de milímetr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óptico, el poder separador máximo es de 0,2 décimas de micr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electrónico, el poder separador llega hasta 10 ángstrom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295280"/>
            <a:ext cx="8359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PODER DE DEFINICIÓN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Se refiere a la nitidez de las imágenes obtenidas, sobre todo respecto a sus contorn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AUMENTO DE MICROSCOPI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Relación entre el diámetro aparente de la imagen y el diámetro o longitud del objet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aumenta 100 diámetros un objeto, la imagen que estamos viendo es 100 veces mayor que el tamaño real del obje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371600"/>
            <a:ext cx="83358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ÓPT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oder de resolución máximo de 0,2 m , con lo que un objeto puede ser ampliado un máximo de 1500 veces, permitiendo así la observación de células viv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ELÉCTR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oder de resolución de 100 Å (1Å = 10−10m), ampliando un objeto hasta 250.000 veces, que mediante tratamiento óptico ó digital puede llegar hasta el millón de aumentos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371600"/>
            <a:ext cx="85122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ELÉCTR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Dentro de los microscopios eléctricos, el que posee mayor poder de ampliar los objetos es el Microscopio Electrónico de Transmisió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ueden aumentar un objeto hasta un millón de ve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l Microscopio Electrónico de Barrido puede ampliar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los objetos 100.000 veces o más , y además puede produci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imágenes tridimensiona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60948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 Características físicas del microscopi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óptic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905120"/>
            <a:ext cx="784836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MECÁN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ermite el movimiento para el enfoqu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ÓPT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ermite el aumento de las imágenes que se   observan a través de ell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DE ILUMINACIÓ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ransmite y regula la cantidad de luz necesaria para efectuar la observación a través del microscop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4240" y="380880"/>
            <a:ext cx="1450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0" y="2514600"/>
            <a:ext cx="1221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BRAZ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1160" y="1447920"/>
            <a:ext cx="1840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REVOLV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1981080"/>
            <a:ext cx="16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3040" y="1295280"/>
            <a:ext cx="10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UB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2200" y="3505320"/>
            <a:ext cx="1849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MACROMÉT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9040" y="4267080"/>
            <a:ext cx="178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MICROMÉT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2360" y="5867280"/>
            <a:ext cx="668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680" y="3429000"/>
            <a:ext cx="1499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LAT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3280" y="4572000"/>
            <a:ext cx="1024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OC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7600" y="4114800"/>
            <a:ext cx="247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172200" y="6248520"/>
            <a:ext cx="2971800" cy="609480"/>
          </a:xfrm>
          <a:custGeom>
            <a:avLst/>
            <a:gdLst>
              <a:gd name="textAreaLeft" fmla="*/ 39240 w 2971800"/>
              <a:gd name="textAreaRight" fmla="*/ 2932560 w 2971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5271" h="21600">
                <a:moveTo>
                  <a:pt x="0" y="0"/>
                </a:moveTo>
                <a:lnTo>
                  <a:pt x="105271" y="0"/>
                </a:lnTo>
                <a:lnTo>
                  <a:pt x="105271" y="21600"/>
                </a:lnTo>
                <a:lnTo>
                  <a:pt x="0" y="21600"/>
                </a:lnTo>
                <a:close/>
              </a:path>
              <a:path fill="lightenLess" w="105271" h="21600">
                <a:moveTo>
                  <a:pt x="0" y="0"/>
                </a:moveTo>
                <a:lnTo>
                  <a:pt x="105271" y="0"/>
                </a:lnTo>
                <a:lnTo>
                  <a:pt x="103871" y="1400"/>
                </a:lnTo>
                <a:lnTo>
                  <a:pt x="1400" y="1400"/>
                </a:lnTo>
                <a:close/>
              </a:path>
              <a:path fill="darken" w="105271" h="21600">
                <a:moveTo>
                  <a:pt x="105271" y="0"/>
                </a:moveTo>
                <a:lnTo>
                  <a:pt x="105271" y="21600"/>
                </a:lnTo>
                <a:lnTo>
                  <a:pt x="103871" y="20200"/>
                </a:lnTo>
                <a:lnTo>
                  <a:pt x="103871" y="1400"/>
                </a:lnTo>
                <a:close/>
              </a:path>
              <a:path fill="darkenLess" w="105271" h="21600">
                <a:moveTo>
                  <a:pt x="105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71" y="20200"/>
                </a:lnTo>
                <a:close/>
              </a:path>
              <a:path fill="lighten" w="105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71" h="21600">
                <a:moveTo>
                  <a:pt x="45629" y="3794"/>
                </a:moveTo>
                <a:lnTo>
                  <a:pt x="59642" y="10800"/>
                </a:lnTo>
                <a:lnTo>
                  <a:pt x="45629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0" y="6248520"/>
            <a:ext cx="3200400" cy="609480"/>
          </a:xfrm>
          <a:custGeom>
            <a:avLst/>
            <a:gdLst>
              <a:gd name="textAreaLeft" fmla="*/ 39240 w 3200400"/>
              <a:gd name="textAreaRight" fmla="*/ 3161160 w 3200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3368" h="21600">
                <a:moveTo>
                  <a:pt x="0" y="0"/>
                </a:moveTo>
                <a:lnTo>
                  <a:pt x="113368" y="0"/>
                </a:lnTo>
                <a:lnTo>
                  <a:pt x="113368" y="21600"/>
                </a:lnTo>
                <a:lnTo>
                  <a:pt x="0" y="21600"/>
                </a:lnTo>
                <a:close/>
              </a:path>
              <a:path fill="lightenLess" w="113368" h="21600">
                <a:moveTo>
                  <a:pt x="0" y="0"/>
                </a:moveTo>
                <a:lnTo>
                  <a:pt x="113368" y="0"/>
                </a:lnTo>
                <a:lnTo>
                  <a:pt x="111968" y="1400"/>
                </a:lnTo>
                <a:lnTo>
                  <a:pt x="1400" y="1400"/>
                </a:lnTo>
                <a:close/>
              </a:path>
              <a:path fill="darken" w="113368" h="21600">
                <a:moveTo>
                  <a:pt x="113368" y="0"/>
                </a:moveTo>
                <a:lnTo>
                  <a:pt x="113368" y="21600"/>
                </a:lnTo>
                <a:lnTo>
                  <a:pt x="111968" y="20200"/>
                </a:lnTo>
                <a:lnTo>
                  <a:pt x="111968" y="1400"/>
                </a:lnTo>
                <a:close/>
              </a:path>
              <a:path fill="darkenLess" w="113368" h="21600">
                <a:moveTo>
                  <a:pt x="1133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68" y="20200"/>
                </a:lnTo>
                <a:close/>
              </a:path>
              <a:path fill="lighten" w="1133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3368" h="21600">
                <a:moveTo>
                  <a:pt x="49678" y="3794"/>
                </a:moveTo>
                <a:lnTo>
                  <a:pt x="63691" y="10800"/>
                </a:lnTo>
                <a:lnTo>
                  <a:pt x="49678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81600" y="5637240"/>
            <a:ext cx="212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REGULADOR DE L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INTENSIDAD DE LU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200400" y="6248520"/>
            <a:ext cx="3048120" cy="609480"/>
          </a:xfrm>
          <a:custGeom>
            <a:avLst/>
            <a:gdLst>
              <a:gd name="textAreaLeft" fmla="*/ 39240 w 3048120"/>
              <a:gd name="textAreaRight" fmla="*/ 3008880 w 3048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7974" h="21600">
                <a:moveTo>
                  <a:pt x="0" y="0"/>
                </a:moveTo>
                <a:lnTo>
                  <a:pt x="107974" y="0"/>
                </a:lnTo>
                <a:lnTo>
                  <a:pt x="107974" y="21600"/>
                </a:lnTo>
                <a:lnTo>
                  <a:pt x="0" y="21600"/>
                </a:lnTo>
                <a:close/>
              </a:path>
              <a:path fill="lightenLess" w="107974" h="21600">
                <a:moveTo>
                  <a:pt x="0" y="0"/>
                </a:moveTo>
                <a:lnTo>
                  <a:pt x="107974" y="0"/>
                </a:lnTo>
                <a:lnTo>
                  <a:pt x="106574" y="1400"/>
                </a:lnTo>
                <a:lnTo>
                  <a:pt x="1400" y="1400"/>
                </a:lnTo>
                <a:close/>
              </a:path>
              <a:path fill="darken" w="107974" h="21600">
                <a:moveTo>
                  <a:pt x="107974" y="0"/>
                </a:moveTo>
                <a:lnTo>
                  <a:pt x="107974" y="21600"/>
                </a:lnTo>
                <a:lnTo>
                  <a:pt x="106574" y="20200"/>
                </a:lnTo>
                <a:lnTo>
                  <a:pt x="106574" y="1400"/>
                </a:lnTo>
                <a:close/>
              </a:path>
              <a:path fill="darkenLess" w="107974" h="21600">
                <a:moveTo>
                  <a:pt x="107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74" y="20200"/>
                </a:lnTo>
                <a:close/>
              </a:path>
              <a:path fill="lighten" w="107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974" h="21600">
                <a:moveTo>
                  <a:pt x="46981" y="3794"/>
                </a:moveTo>
                <a:lnTo>
                  <a:pt x="60994" y="10800"/>
                </a:lnTo>
                <a:lnTo>
                  <a:pt x="46981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2590920"/>
            <a:ext cx="1255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NZ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61640" y="2948040"/>
            <a:ext cx="2553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ORTAOBJET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76920" y="1295280"/>
            <a:ext cx="801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E: Constituye la base sobre la que se apoya el microscopi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9080" y="1905120"/>
            <a:ext cx="6439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UBO: Une el lente ocular con el lente objetivo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" y="2438280"/>
            <a:ext cx="7905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REVOLVER: Es una pieza giratoria provista de orificios 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os cuales  se enroscan los objetivo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560" y="3276720"/>
            <a:ext cx="8117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LATINA: Es una pieza metálica plana en la que se coloca l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 u objeto que se va a observar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360" y="4648320"/>
            <a:ext cx="7475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MACROMÉTRICO: Girando este tornillo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sciende o desciende el tubo del microscopio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6920" y="5562720"/>
            <a:ext cx="8499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MICROMERICO: Permite movimientos finos par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enfoque definitivo de la muestra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1 Sistema Mecán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5638680" y="6272280"/>
            <a:ext cx="3505320" cy="585720"/>
          </a:xfrm>
          <a:custGeom>
            <a:avLst/>
            <a:gdLst>
              <a:gd name="textAreaLeft" fmla="*/ 37800 w 3505320"/>
              <a:gd name="textAreaRight" fmla="*/ 3467520 w 35053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129202" h="21600">
                <a:moveTo>
                  <a:pt x="0" y="0"/>
                </a:moveTo>
                <a:lnTo>
                  <a:pt x="129202" y="0"/>
                </a:lnTo>
                <a:lnTo>
                  <a:pt x="129202" y="21600"/>
                </a:lnTo>
                <a:lnTo>
                  <a:pt x="0" y="21600"/>
                </a:lnTo>
                <a:close/>
              </a:path>
              <a:path fill="lightenLess" w="129202" h="21600">
                <a:moveTo>
                  <a:pt x="0" y="0"/>
                </a:moveTo>
                <a:lnTo>
                  <a:pt x="129202" y="0"/>
                </a:lnTo>
                <a:lnTo>
                  <a:pt x="127802" y="1400"/>
                </a:lnTo>
                <a:lnTo>
                  <a:pt x="1400" y="1400"/>
                </a:lnTo>
                <a:close/>
              </a:path>
              <a:path fill="darken" w="129202" h="21600">
                <a:moveTo>
                  <a:pt x="129202" y="0"/>
                </a:moveTo>
                <a:lnTo>
                  <a:pt x="129202" y="21600"/>
                </a:lnTo>
                <a:lnTo>
                  <a:pt x="127802" y="20200"/>
                </a:lnTo>
                <a:lnTo>
                  <a:pt x="127802" y="1400"/>
                </a:lnTo>
                <a:close/>
              </a:path>
              <a:path fill="darkenLess" w="129202" h="21600">
                <a:moveTo>
                  <a:pt x="129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802" y="20200"/>
                </a:lnTo>
                <a:close/>
              </a:path>
              <a:path fill="lighten" w="129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9202" h="21600">
                <a:moveTo>
                  <a:pt x="57595" y="10800"/>
                </a:moveTo>
                <a:lnTo>
                  <a:pt x="71607" y="3794"/>
                </a:lnTo>
                <a:lnTo>
                  <a:pt x="71607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6200" y="4114800"/>
            <a:ext cx="4511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NZAS: Sujetan el portaobjet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2 Sistema Ópt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1080" y="1295280"/>
            <a:ext cx="7678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CULAR: Permiten aumentar al objeto y van en la par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perior del tub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40" y="2209680"/>
            <a:ext cx="852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en aumento de las imágenes de los objeto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se encuentran cerca de la preparación que se examina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1720" y="3200400"/>
            <a:ext cx="7020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OBJETIVOS UTILIZADOS GENERALMEN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DE DOS TIP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4320" y="4191120"/>
            <a:ext cx="847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objetivos secos se utilizan sin necesidad de colocar sustanc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 entre ellos y la preparación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960" y="5029200"/>
            <a:ext cx="8504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objetivo de inmersión. Para observar a través de este 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necesario colocar una gota de aceite de cedro entre el 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a preparación, de manera que la lente frontal entre 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cto con el aceite de cedro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5791320" y="6242040"/>
            <a:ext cx="3352680" cy="60948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8762" h="21600">
                <a:moveTo>
                  <a:pt x="0" y="0"/>
                </a:moveTo>
                <a:lnTo>
                  <a:pt x="118762" y="0"/>
                </a:lnTo>
                <a:lnTo>
                  <a:pt x="118762" y="21600"/>
                </a:lnTo>
                <a:lnTo>
                  <a:pt x="0" y="21600"/>
                </a:lnTo>
                <a:close/>
              </a:path>
              <a:path fill="lightenLess" w="118762" h="21600">
                <a:moveTo>
                  <a:pt x="0" y="0"/>
                </a:moveTo>
                <a:lnTo>
                  <a:pt x="118762" y="0"/>
                </a:lnTo>
                <a:lnTo>
                  <a:pt x="117362" y="1400"/>
                </a:lnTo>
                <a:lnTo>
                  <a:pt x="1400" y="1400"/>
                </a:lnTo>
                <a:close/>
              </a:path>
              <a:path fill="darken" w="118762" h="21600">
                <a:moveTo>
                  <a:pt x="118762" y="0"/>
                </a:moveTo>
                <a:lnTo>
                  <a:pt x="118762" y="21600"/>
                </a:lnTo>
                <a:lnTo>
                  <a:pt x="117362" y="20200"/>
                </a:lnTo>
                <a:lnTo>
                  <a:pt x="117362" y="1400"/>
                </a:lnTo>
                <a:close/>
              </a:path>
              <a:path fill="darkenLess" w="118762" h="21600">
                <a:moveTo>
                  <a:pt x="11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2" y="20200"/>
                </a:lnTo>
                <a:close/>
              </a:path>
              <a:path fill="lighten" w="11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62" h="21600">
                <a:moveTo>
                  <a:pt x="52374" y="10800"/>
                </a:moveTo>
                <a:lnTo>
                  <a:pt x="66387" y="3794"/>
                </a:lnTo>
                <a:lnTo>
                  <a:pt x="66387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1320" y="1371600"/>
            <a:ext cx="7470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SPEJO: Tiene dos caras: una cóncava y otra plana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amente se prescinde del espejo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a cambio de un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uente de luz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720" y="2819520"/>
            <a:ext cx="78627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: Está formado por un sistema de lentes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uya finalidad es concentrar los rayos luminosos sob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plano de la preparación.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6200" y="4191120"/>
            <a:ext cx="8256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: Generalmente está provisto de u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-iris, que regula su abertura y controla la calidad 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uz que debe pasar a través del condensador.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3 Sistema Iluminació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5791320" y="6248520"/>
            <a:ext cx="3352680" cy="60948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8762" h="21600">
                <a:moveTo>
                  <a:pt x="0" y="0"/>
                </a:moveTo>
                <a:lnTo>
                  <a:pt x="118762" y="0"/>
                </a:lnTo>
                <a:lnTo>
                  <a:pt x="118762" y="21600"/>
                </a:lnTo>
                <a:lnTo>
                  <a:pt x="0" y="21600"/>
                </a:lnTo>
                <a:close/>
              </a:path>
              <a:path fill="lightenLess" w="118762" h="21600">
                <a:moveTo>
                  <a:pt x="0" y="0"/>
                </a:moveTo>
                <a:lnTo>
                  <a:pt x="118762" y="0"/>
                </a:lnTo>
                <a:lnTo>
                  <a:pt x="117362" y="1400"/>
                </a:lnTo>
                <a:lnTo>
                  <a:pt x="1400" y="1400"/>
                </a:lnTo>
                <a:close/>
              </a:path>
              <a:path fill="darken" w="118762" h="21600">
                <a:moveTo>
                  <a:pt x="118762" y="0"/>
                </a:moveTo>
                <a:lnTo>
                  <a:pt x="118762" y="21600"/>
                </a:lnTo>
                <a:lnTo>
                  <a:pt x="117362" y="20200"/>
                </a:lnTo>
                <a:lnTo>
                  <a:pt x="117362" y="1400"/>
                </a:lnTo>
                <a:close/>
              </a:path>
              <a:path fill="darkenLess" w="118762" h="21600">
                <a:moveTo>
                  <a:pt x="11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2" y="20200"/>
                </a:lnTo>
                <a:close/>
              </a:path>
              <a:path fill="lighten" w="11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62" h="21600">
                <a:moveTo>
                  <a:pt x="52374" y="10800"/>
                </a:moveTo>
                <a:lnTo>
                  <a:pt x="66387" y="3794"/>
                </a:lnTo>
                <a:lnTo>
                  <a:pt x="6638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 Funcionamiento del microscopio óptic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6160" y="1600200"/>
            <a:ext cx="8056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AMPLIFICACIÓN DE LA IMA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Sistema Óptico: Lentes Objetivo y Oc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DER DE RESOLU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ermite la “definición” de la ima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ILUMINACIÓ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Sistema de Iluminación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30492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Temas a desarrollar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040" y="1905120"/>
            <a:ext cx="41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Tipos de microscop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000" y="2819520"/>
            <a:ext cx="7151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Limitaciones de los tipos de microscopi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oder de resolució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6600" y="4114800"/>
            <a:ext cx="754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Características físicas del microscopio óp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2640" y="5181480"/>
            <a:ext cx="610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Descripción del funcionamiento d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croscopio óp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Amplificación de la image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2400" y="1523880"/>
            <a:ext cx="185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U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IMAR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00" y="4038480"/>
            <a:ext cx="1553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C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28195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19051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4080" y="1752480"/>
            <a:ext cx="182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3080" y="4038480"/>
            <a:ext cx="183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U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7160" y="28954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luz2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622760" cy="4483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078760" y="213372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MA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54360" y="274320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73080" y="47242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4840" y="548640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ACTE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30492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Poder de Resolu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0320" y="1295280"/>
            <a:ext cx="861300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Capacidad de mostrar de forma distinta y separado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dos puntos muy cercan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oder resolutivo de un microscopio compuesto depen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longitud de onda utilizada y de una propiedad óp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lente conocida como apertura numérica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objetivo está separado del objeto por el aire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apertura numérica nunca será mayor de 1,0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objetivo está separado del objeto por un acei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inmersión, se obtienen aperturas numéricas entre 1,2 y 1,4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 un microscopio tiene un poder de resolución de 0,25 µm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gnifica que las partículas con un tamaño más pequeñ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 0,25 µm no pueden distinguirse unas de otr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Ilumina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3840" y="1371600"/>
            <a:ext cx="4730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a luz que proviene de l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uente luminosa es dirigida hacia 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a preparación por medio del espej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1240" y="2743200"/>
            <a:ext cx="45349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ntes de llegar el haz de luz a l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, este será concentr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condensador.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5760" y="4114800"/>
            <a:ext cx="45669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diafragma permitirá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ar el tamaño del cono de lu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que llegará al objetivo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luz3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3886200" cy="4952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774200" y="472428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2760" y="3429000"/>
            <a:ext cx="137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4000" y="1828800"/>
            <a:ext cx="13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858000" y="5791320"/>
            <a:ext cx="30492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866920" y="5791320"/>
            <a:ext cx="38124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81680" y="4419720"/>
            <a:ext cx="22860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866920" y="4419720"/>
            <a:ext cx="30492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705720" y="3048120"/>
            <a:ext cx="380880" cy="9144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867280" y="3048120"/>
            <a:ext cx="45720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95680" y="37339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1.Tipos de Microscopio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4440" y="1617840"/>
            <a:ext cx="309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590920"/>
            <a:ext cx="5715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imple: Una lente, pequeña, convex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ompuesto: Dos sistemas de lentes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(objetivo y ocula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virtual aument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295280"/>
          <a:ext cx="3370320" cy="495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95280"/>
                    <a:ext cx="337032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23400" y="146520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209680"/>
            <a:ext cx="7238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Luz Ultravioleta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ejora el detalle y se aumenta la resolu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lementos Ópticos de Cuarzo, Fluorita, Espejos Aluminiz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Usado en Investigación Científ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52000" y="144792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2057400"/>
            <a:ext cx="62485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etrográfico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dentificar componentes de rocas ígneas y metamórfic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risma que polariza la lu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etrografico" descr=""/>
          <p:cNvPicPr/>
          <p:nvPr/>
        </p:nvPicPr>
        <p:blipFill>
          <a:blip r:embed="rId2"/>
          <a:stretch/>
        </p:blipFill>
        <p:spPr>
          <a:xfrm>
            <a:off x="-990720" y="3254400"/>
            <a:ext cx="54183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dmls" descr=""/>
          <p:cNvPicPr/>
          <p:nvPr/>
        </p:nvPicPr>
        <p:blipFill>
          <a:blip r:embed="rId2"/>
          <a:stretch/>
        </p:blipFill>
        <p:spPr>
          <a:xfrm>
            <a:off x="6270480" y="1219320"/>
            <a:ext cx="2873520" cy="3504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2520" y="144792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6560" y="2209680"/>
            <a:ext cx="664236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Campo Oscuro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uz intensa, concentr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Objetos analizados aparecen brillant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y el resto como fondo oscu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Fa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imilar al de campo oscuro, menor intens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ermite analizar especies “transparente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Usado en análisis de tejidos viv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5120" y="1219320"/>
            <a:ext cx="372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Electrón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828800"/>
            <a:ext cx="7848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transmisió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Haz de electrones dirigido al objeto, zonas pequeñ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Aumento del objeto hasta 1 millon de ve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lectrónico de Barrid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apaz de analizar una mayor superficie del objeto a la ve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ectura a través de haz de electron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ada punto es un pixel del monit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ágenes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666880" y="2286000"/>
          <a:ext cx="5943600" cy="497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286000"/>
                    <a:ext cx="594360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62120" y="1752480"/>
            <a:ext cx="609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 Electrónico de Barri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280" y="1219320"/>
            <a:ext cx="484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de Sonda de Barri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1960" y="1981080"/>
            <a:ext cx="8353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Efecto Túnel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e recorre superficie mediante sonda, aplicación de voltaj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e genera corriente que permite visualizar ondu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bre materiales conduct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Fuerza Atóm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bre materiales conductores y no conduct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nda, no emplea corriente de efecto tún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Funcionamiento simi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288200" y="4572000"/>
          <a:ext cx="1855800" cy="20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88200" y="4572000"/>
                    <a:ext cx="18558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22:07:50Z</dcterms:created>
  <dc:creator>Mcartes</dc:creator>
  <dc:description/>
  <dc:language>en-US</dc:language>
  <cp:lastModifiedBy>Mcartes</cp:lastModifiedBy>
  <dcterms:modified xsi:type="dcterms:W3CDTF">2004-08-26T07:12:36Z</dcterms:modified>
  <cp:revision>43</cp:revision>
  <dc:subject/>
  <dc:title>Microscopio  y  Microscopía</dc:title>
</cp:coreProperties>
</file>