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EA2-E077-4AC9-B1EF-405CB88C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D3F-0685-4730-A325-E2610C46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468-2A7C-418D-AB06-831859EF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2440-DFB1-4BDE-8510-AF6014E0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2F6F-1C10-41A4-B804-CAD4C0DF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ABD9-6084-4176-A61B-35656674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F33E-6AE6-4245-868B-A72F038E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8FA2-F16E-40EB-ADC0-90C7B30F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A882-05CD-4F01-8326-AAB835F2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550B-EEFA-43DB-A743-F75DEF9D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49CC-00A2-45C1-B9D9-CEB108F6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8B8-BA3F-4C6B-9525-04533423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97E7-0A2A-4839-9ED3-90E391AF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91D4-A2FA-48B6-9131-8580F7AA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AE6A-5367-4CA8-AC47-0BA2EE61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3487-F056-4B64-A16F-A4B4FA63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0CC9-14FA-4300-8BE0-6812A197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F92-66C5-4340-B8F8-A043166D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480-5C6C-42DE-A5EB-DB448DD0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15E-B3E8-45CB-90F1-42889FE4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E4E-8392-4647-9194-A88CC7B3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8A1-A98B-4CBD-BD42-6C9578EC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844-244E-4576-B24A-F96AF48B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C6EF-D0CD-4EAF-AA56-4ADC40FC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C517-E12F-40AE-8F2E-CDD66BCA296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F766-CD3B-4A88-BC1B-33AF1007251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Arial"/>
              </a:rPr>
              <a:t>Biofiltr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istema formado por un tanque circular de 1 a 1.5 m de profundidad y 25m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con  material filtrante (grava, porcelana, carbón, plástico), donde se desarrolla un consorcio de   organismos creciendo en forma adherida, formando un biofil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agua servida predecantada es rociada sobre el lecho por un sistema de carrusel, traspasándo el filtro por gravedad, saliendo por la parte inferior, desde donde pasa a un decantador secund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Microbiología de Lagunas de Estabilización Facult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ercambio de Nutrientes entre microorganismos fotóautótrofos (algas) y heterótrofos (bacteri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quimiorganoheterótrofos mineralizan la materia orgánica, en presencia de 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libre, generando biomasa bacteriana, liberando C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otros compuestos inorgánic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algas incrementan su biomasa por fotosíntesis y la presencia de nutrientes (CO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N, P), liberados por las bacterias en la degradación  de la materia orgán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Narrow"/>
              </a:rPr>
              <a:t>Microbiología de las Lagunas de Estabilización Facultativ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on sistemas aerobios, con una cierta anaerobiosis a nivel de los sedi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la zona fótica, bacterias heterótrofas mineralizan la materia orgánica, transformándola en CO2, H2O y biom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presencia de luz, el CO2 y resto de nutrientes las algas liberan oxígeno lib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los sedimentos hay bacterias anaerobias y fotosintéticas  que mineralizan la materia orgánica insoluble e inorgánica reducida, en ausencia de oxíge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-228600" y="0"/>
          <a:ext cx="9372600" cy="69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0"/>
                    <a:ext cx="9372600" cy="6923160"/>
                  </a:xfrm>
                  <a:prstGeom prst="rect">
                    <a:avLst/>
                  </a:prstGeom>
                  <a:ln w="9360">
                    <a:solidFill>
                      <a:srgbClr val="99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0" y="51814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48006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2468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055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5181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7242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4038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36576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48769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32767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1880" y="48769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1880" y="327672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2590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1880" y="403848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743200"/>
            <a:ext cx="15264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50292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20574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0" cy="22860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8686800" y="3048120"/>
            <a:ext cx="0" cy="22096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762120"/>
            <a:ext cx="106704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848720" y="685440"/>
            <a:ext cx="304560" cy="152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467480" y="304920"/>
            <a:ext cx="228600" cy="3045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1295280"/>
            <a:ext cx="30456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7391160" y="1523520"/>
            <a:ext cx="75960" cy="38124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858000" y="1523520"/>
            <a:ext cx="228600" cy="304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609480"/>
            <a:ext cx="381240" cy="2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24120" y="1295280"/>
            <a:ext cx="381240" cy="763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228600" y="6477120"/>
            <a:ext cx="9163080" cy="476280"/>
          </a:xfrm>
          <a:custGeom>
            <a:avLst/>
            <a:gdLst/>
            <a:ahLst/>
            <a:rect l="l" t="t" r="r" b="b"/>
            <a:pathLst>
              <a:path w="5772" h="300">
                <a:moveTo>
                  <a:pt x="0" y="300"/>
                </a:moveTo>
                <a:cubicBezTo>
                  <a:pt x="45" y="283"/>
                  <a:pt x="71" y="274"/>
                  <a:pt x="111" y="244"/>
                </a:cubicBezTo>
                <a:cubicBezTo>
                  <a:pt x="131" y="184"/>
                  <a:pt x="109" y="235"/>
                  <a:pt x="144" y="188"/>
                </a:cubicBezTo>
                <a:cubicBezTo>
                  <a:pt x="182" y="137"/>
                  <a:pt x="194" y="99"/>
                  <a:pt x="244" y="66"/>
                </a:cubicBezTo>
                <a:cubicBezTo>
                  <a:pt x="248" y="55"/>
                  <a:pt x="244" y="36"/>
                  <a:pt x="255" y="33"/>
                </a:cubicBezTo>
                <a:cubicBezTo>
                  <a:pt x="286" y="25"/>
                  <a:pt x="304" y="91"/>
                  <a:pt x="311" y="100"/>
                </a:cubicBezTo>
                <a:cubicBezTo>
                  <a:pt x="320" y="113"/>
                  <a:pt x="334" y="121"/>
                  <a:pt x="344" y="133"/>
                </a:cubicBezTo>
                <a:cubicBezTo>
                  <a:pt x="414" y="223"/>
                  <a:pt x="358" y="179"/>
                  <a:pt x="422" y="222"/>
                </a:cubicBezTo>
                <a:cubicBezTo>
                  <a:pt x="448" y="215"/>
                  <a:pt x="477" y="214"/>
                  <a:pt x="500" y="200"/>
                </a:cubicBezTo>
                <a:cubicBezTo>
                  <a:pt x="542" y="175"/>
                  <a:pt x="526" y="155"/>
                  <a:pt x="544" y="122"/>
                </a:cubicBezTo>
                <a:cubicBezTo>
                  <a:pt x="582" y="53"/>
                  <a:pt x="573" y="65"/>
                  <a:pt x="622" y="33"/>
                </a:cubicBezTo>
                <a:cubicBezTo>
                  <a:pt x="637" y="48"/>
                  <a:pt x="654" y="60"/>
                  <a:pt x="667" y="77"/>
                </a:cubicBezTo>
                <a:cubicBezTo>
                  <a:pt x="736" y="168"/>
                  <a:pt x="648" y="81"/>
                  <a:pt x="711" y="155"/>
                </a:cubicBezTo>
                <a:cubicBezTo>
                  <a:pt x="792" y="249"/>
                  <a:pt x="728" y="158"/>
                  <a:pt x="778" y="233"/>
                </a:cubicBezTo>
                <a:cubicBezTo>
                  <a:pt x="866" y="204"/>
                  <a:pt x="854" y="112"/>
                  <a:pt x="922" y="77"/>
                </a:cubicBezTo>
                <a:cubicBezTo>
                  <a:pt x="943" y="66"/>
                  <a:pt x="967" y="62"/>
                  <a:pt x="989" y="55"/>
                </a:cubicBezTo>
                <a:cubicBezTo>
                  <a:pt x="1000" y="51"/>
                  <a:pt x="1022" y="44"/>
                  <a:pt x="1022" y="44"/>
                </a:cubicBezTo>
                <a:cubicBezTo>
                  <a:pt x="1051" y="72"/>
                  <a:pt x="1068" y="85"/>
                  <a:pt x="1089" y="122"/>
                </a:cubicBezTo>
                <a:cubicBezTo>
                  <a:pt x="1121" y="179"/>
                  <a:pt x="1071" y="136"/>
                  <a:pt x="1133" y="177"/>
                </a:cubicBezTo>
                <a:cubicBezTo>
                  <a:pt x="1183" y="130"/>
                  <a:pt x="1217" y="69"/>
                  <a:pt x="1267" y="22"/>
                </a:cubicBezTo>
                <a:cubicBezTo>
                  <a:pt x="1282" y="37"/>
                  <a:pt x="1299" y="49"/>
                  <a:pt x="1311" y="66"/>
                </a:cubicBezTo>
                <a:cubicBezTo>
                  <a:pt x="1318" y="76"/>
                  <a:pt x="1315" y="91"/>
                  <a:pt x="1322" y="100"/>
                </a:cubicBezTo>
                <a:cubicBezTo>
                  <a:pt x="1341" y="125"/>
                  <a:pt x="1372" y="140"/>
                  <a:pt x="1389" y="166"/>
                </a:cubicBezTo>
                <a:cubicBezTo>
                  <a:pt x="1396" y="177"/>
                  <a:pt x="1404" y="189"/>
                  <a:pt x="1411" y="200"/>
                </a:cubicBezTo>
                <a:cubicBezTo>
                  <a:pt x="1422" y="192"/>
                  <a:pt x="1436" y="188"/>
                  <a:pt x="1445" y="177"/>
                </a:cubicBezTo>
                <a:cubicBezTo>
                  <a:pt x="1452" y="168"/>
                  <a:pt x="1450" y="154"/>
                  <a:pt x="1456" y="144"/>
                </a:cubicBezTo>
                <a:cubicBezTo>
                  <a:pt x="1480" y="102"/>
                  <a:pt x="1501" y="80"/>
                  <a:pt x="1545" y="66"/>
                </a:cubicBezTo>
                <a:cubicBezTo>
                  <a:pt x="1576" y="109"/>
                  <a:pt x="1594" y="139"/>
                  <a:pt x="1645" y="155"/>
                </a:cubicBezTo>
                <a:cubicBezTo>
                  <a:pt x="1671" y="103"/>
                  <a:pt x="1691" y="75"/>
                  <a:pt x="1733" y="33"/>
                </a:cubicBezTo>
                <a:cubicBezTo>
                  <a:pt x="1803" y="56"/>
                  <a:pt x="1807" y="122"/>
                  <a:pt x="1845" y="177"/>
                </a:cubicBezTo>
                <a:cubicBezTo>
                  <a:pt x="1849" y="188"/>
                  <a:pt x="1845" y="205"/>
                  <a:pt x="1856" y="211"/>
                </a:cubicBezTo>
                <a:cubicBezTo>
                  <a:pt x="1893" y="230"/>
                  <a:pt x="1893" y="176"/>
                  <a:pt x="1900" y="166"/>
                </a:cubicBezTo>
                <a:cubicBezTo>
                  <a:pt x="1919" y="137"/>
                  <a:pt x="1946" y="115"/>
                  <a:pt x="1967" y="88"/>
                </a:cubicBezTo>
                <a:cubicBezTo>
                  <a:pt x="1978" y="92"/>
                  <a:pt x="1992" y="92"/>
                  <a:pt x="2000" y="100"/>
                </a:cubicBezTo>
                <a:cubicBezTo>
                  <a:pt x="2008" y="108"/>
                  <a:pt x="2006" y="123"/>
                  <a:pt x="2011" y="133"/>
                </a:cubicBezTo>
                <a:cubicBezTo>
                  <a:pt x="2057" y="225"/>
                  <a:pt x="2013" y="109"/>
                  <a:pt x="2045" y="200"/>
                </a:cubicBezTo>
                <a:cubicBezTo>
                  <a:pt x="2060" y="189"/>
                  <a:pt x="2077" y="180"/>
                  <a:pt x="2089" y="166"/>
                </a:cubicBezTo>
                <a:cubicBezTo>
                  <a:pt x="2098" y="155"/>
                  <a:pt x="2106" y="96"/>
                  <a:pt x="2111" y="88"/>
                </a:cubicBezTo>
                <a:cubicBezTo>
                  <a:pt x="2122" y="70"/>
                  <a:pt x="2141" y="59"/>
                  <a:pt x="2156" y="44"/>
                </a:cubicBezTo>
                <a:cubicBezTo>
                  <a:pt x="2217" y="85"/>
                  <a:pt x="2182" y="54"/>
                  <a:pt x="2233" y="155"/>
                </a:cubicBezTo>
                <a:cubicBezTo>
                  <a:pt x="2241" y="170"/>
                  <a:pt x="2256" y="200"/>
                  <a:pt x="2256" y="200"/>
                </a:cubicBezTo>
                <a:cubicBezTo>
                  <a:pt x="2274" y="192"/>
                  <a:pt x="2294" y="187"/>
                  <a:pt x="2311" y="177"/>
                </a:cubicBezTo>
                <a:cubicBezTo>
                  <a:pt x="2376" y="139"/>
                  <a:pt x="2294" y="173"/>
                  <a:pt x="2345" y="122"/>
                </a:cubicBezTo>
                <a:cubicBezTo>
                  <a:pt x="2353" y="114"/>
                  <a:pt x="2367" y="115"/>
                  <a:pt x="2378" y="111"/>
                </a:cubicBezTo>
                <a:cubicBezTo>
                  <a:pt x="2426" y="232"/>
                  <a:pt x="2393" y="194"/>
                  <a:pt x="2445" y="244"/>
                </a:cubicBezTo>
                <a:cubicBezTo>
                  <a:pt x="2457" y="219"/>
                  <a:pt x="2479" y="137"/>
                  <a:pt x="2489" y="122"/>
                </a:cubicBezTo>
                <a:cubicBezTo>
                  <a:pt x="2500" y="104"/>
                  <a:pt x="2519" y="92"/>
                  <a:pt x="2534" y="77"/>
                </a:cubicBezTo>
                <a:cubicBezTo>
                  <a:pt x="2613" y="103"/>
                  <a:pt x="2568" y="102"/>
                  <a:pt x="2600" y="166"/>
                </a:cubicBezTo>
                <a:cubicBezTo>
                  <a:pt x="2607" y="180"/>
                  <a:pt x="2623" y="189"/>
                  <a:pt x="2634" y="200"/>
                </a:cubicBezTo>
                <a:cubicBezTo>
                  <a:pt x="2652" y="192"/>
                  <a:pt x="2676" y="192"/>
                  <a:pt x="2689" y="177"/>
                </a:cubicBezTo>
                <a:cubicBezTo>
                  <a:pt x="2701" y="163"/>
                  <a:pt x="2691" y="138"/>
                  <a:pt x="2700" y="122"/>
                </a:cubicBezTo>
                <a:cubicBezTo>
                  <a:pt x="2710" y="103"/>
                  <a:pt x="2731" y="93"/>
                  <a:pt x="2745" y="77"/>
                </a:cubicBezTo>
                <a:cubicBezTo>
                  <a:pt x="2754" y="67"/>
                  <a:pt x="2757" y="53"/>
                  <a:pt x="2767" y="44"/>
                </a:cubicBezTo>
                <a:cubicBezTo>
                  <a:pt x="2787" y="27"/>
                  <a:pt x="2834" y="0"/>
                  <a:pt x="2834" y="0"/>
                </a:cubicBezTo>
                <a:cubicBezTo>
                  <a:pt x="2849" y="11"/>
                  <a:pt x="2868" y="17"/>
                  <a:pt x="2878" y="33"/>
                </a:cubicBezTo>
                <a:cubicBezTo>
                  <a:pt x="2894" y="59"/>
                  <a:pt x="2886" y="95"/>
                  <a:pt x="2900" y="122"/>
                </a:cubicBezTo>
                <a:cubicBezTo>
                  <a:pt x="2932" y="187"/>
                  <a:pt x="2916" y="123"/>
                  <a:pt x="2967" y="200"/>
                </a:cubicBezTo>
                <a:cubicBezTo>
                  <a:pt x="2974" y="211"/>
                  <a:pt x="2979" y="225"/>
                  <a:pt x="2989" y="233"/>
                </a:cubicBezTo>
                <a:cubicBezTo>
                  <a:pt x="2998" y="240"/>
                  <a:pt x="3011" y="240"/>
                  <a:pt x="3022" y="244"/>
                </a:cubicBezTo>
                <a:cubicBezTo>
                  <a:pt x="3039" y="182"/>
                  <a:pt x="3025" y="143"/>
                  <a:pt x="3089" y="122"/>
                </a:cubicBezTo>
                <a:cubicBezTo>
                  <a:pt x="3128" y="173"/>
                  <a:pt x="3157" y="219"/>
                  <a:pt x="3211" y="255"/>
                </a:cubicBezTo>
                <a:cubicBezTo>
                  <a:pt x="3228" y="230"/>
                  <a:pt x="3239" y="202"/>
                  <a:pt x="3256" y="177"/>
                </a:cubicBezTo>
                <a:cubicBezTo>
                  <a:pt x="3265" y="164"/>
                  <a:pt x="3280" y="157"/>
                  <a:pt x="3289" y="144"/>
                </a:cubicBezTo>
                <a:cubicBezTo>
                  <a:pt x="3299" y="131"/>
                  <a:pt x="3299" y="112"/>
                  <a:pt x="3311" y="100"/>
                </a:cubicBezTo>
                <a:cubicBezTo>
                  <a:pt x="3319" y="92"/>
                  <a:pt x="3334" y="92"/>
                  <a:pt x="3345" y="88"/>
                </a:cubicBezTo>
                <a:cubicBezTo>
                  <a:pt x="3390" y="134"/>
                  <a:pt x="3415" y="198"/>
                  <a:pt x="3467" y="233"/>
                </a:cubicBezTo>
                <a:cubicBezTo>
                  <a:pt x="3482" y="203"/>
                  <a:pt x="3502" y="176"/>
                  <a:pt x="3511" y="144"/>
                </a:cubicBezTo>
                <a:cubicBezTo>
                  <a:pt x="3523" y="101"/>
                  <a:pt x="3531" y="70"/>
                  <a:pt x="3556" y="33"/>
                </a:cubicBezTo>
                <a:cubicBezTo>
                  <a:pt x="3605" y="70"/>
                  <a:pt x="3624" y="112"/>
                  <a:pt x="3667" y="155"/>
                </a:cubicBezTo>
                <a:cubicBezTo>
                  <a:pt x="3682" y="151"/>
                  <a:pt x="3700" y="155"/>
                  <a:pt x="3711" y="144"/>
                </a:cubicBezTo>
                <a:cubicBezTo>
                  <a:pt x="3731" y="124"/>
                  <a:pt x="3753" y="39"/>
                  <a:pt x="3767" y="11"/>
                </a:cubicBezTo>
                <a:cubicBezTo>
                  <a:pt x="3803" y="35"/>
                  <a:pt x="3801" y="28"/>
                  <a:pt x="3823" y="66"/>
                </a:cubicBezTo>
                <a:cubicBezTo>
                  <a:pt x="3852" y="116"/>
                  <a:pt x="3834" y="137"/>
                  <a:pt x="3889" y="155"/>
                </a:cubicBezTo>
                <a:cubicBezTo>
                  <a:pt x="3908" y="148"/>
                  <a:pt x="3927" y="142"/>
                  <a:pt x="3945" y="133"/>
                </a:cubicBezTo>
                <a:cubicBezTo>
                  <a:pt x="3957" y="127"/>
                  <a:pt x="3965" y="107"/>
                  <a:pt x="3978" y="111"/>
                </a:cubicBezTo>
                <a:cubicBezTo>
                  <a:pt x="3985" y="113"/>
                  <a:pt x="4042" y="197"/>
                  <a:pt x="4056" y="211"/>
                </a:cubicBezTo>
                <a:cubicBezTo>
                  <a:pt x="4129" y="187"/>
                  <a:pt x="4132" y="111"/>
                  <a:pt x="4145" y="44"/>
                </a:cubicBezTo>
                <a:cubicBezTo>
                  <a:pt x="4167" y="48"/>
                  <a:pt x="4193" y="42"/>
                  <a:pt x="4212" y="55"/>
                </a:cubicBezTo>
                <a:cubicBezTo>
                  <a:pt x="4279" y="102"/>
                  <a:pt x="4234" y="141"/>
                  <a:pt x="4312" y="166"/>
                </a:cubicBezTo>
                <a:cubicBezTo>
                  <a:pt x="4322" y="105"/>
                  <a:pt x="4311" y="66"/>
                  <a:pt x="4378" y="88"/>
                </a:cubicBezTo>
                <a:cubicBezTo>
                  <a:pt x="4396" y="144"/>
                  <a:pt x="4435" y="170"/>
                  <a:pt x="4489" y="188"/>
                </a:cubicBezTo>
                <a:cubicBezTo>
                  <a:pt x="4536" y="143"/>
                  <a:pt x="4532" y="89"/>
                  <a:pt x="4600" y="66"/>
                </a:cubicBezTo>
                <a:cubicBezTo>
                  <a:pt x="4645" y="95"/>
                  <a:pt x="4681" y="143"/>
                  <a:pt x="4712" y="188"/>
                </a:cubicBezTo>
                <a:cubicBezTo>
                  <a:pt x="4763" y="137"/>
                  <a:pt x="4774" y="68"/>
                  <a:pt x="4845" y="44"/>
                </a:cubicBezTo>
                <a:cubicBezTo>
                  <a:pt x="4878" y="77"/>
                  <a:pt x="4890" y="107"/>
                  <a:pt x="4934" y="122"/>
                </a:cubicBezTo>
                <a:cubicBezTo>
                  <a:pt x="4941" y="107"/>
                  <a:pt x="4949" y="92"/>
                  <a:pt x="4956" y="77"/>
                </a:cubicBezTo>
                <a:cubicBezTo>
                  <a:pt x="4961" y="66"/>
                  <a:pt x="4956" y="42"/>
                  <a:pt x="4967" y="44"/>
                </a:cubicBezTo>
                <a:cubicBezTo>
                  <a:pt x="4988" y="48"/>
                  <a:pt x="4997" y="73"/>
                  <a:pt x="5012" y="88"/>
                </a:cubicBezTo>
                <a:cubicBezTo>
                  <a:pt x="5019" y="103"/>
                  <a:pt x="5026" y="118"/>
                  <a:pt x="5034" y="133"/>
                </a:cubicBezTo>
                <a:cubicBezTo>
                  <a:pt x="5040" y="145"/>
                  <a:pt x="5043" y="164"/>
                  <a:pt x="5056" y="166"/>
                </a:cubicBezTo>
                <a:cubicBezTo>
                  <a:pt x="5072" y="169"/>
                  <a:pt x="5086" y="151"/>
                  <a:pt x="5101" y="144"/>
                </a:cubicBezTo>
                <a:cubicBezTo>
                  <a:pt x="5117" y="97"/>
                  <a:pt x="5117" y="53"/>
                  <a:pt x="5145" y="11"/>
                </a:cubicBezTo>
                <a:cubicBezTo>
                  <a:pt x="5257" y="90"/>
                  <a:pt x="5196" y="50"/>
                  <a:pt x="5267" y="144"/>
                </a:cubicBezTo>
                <a:cubicBezTo>
                  <a:pt x="5317" y="128"/>
                  <a:pt x="5322" y="101"/>
                  <a:pt x="5345" y="55"/>
                </a:cubicBezTo>
                <a:cubicBezTo>
                  <a:pt x="5402" y="93"/>
                  <a:pt x="5432" y="150"/>
                  <a:pt x="5489" y="188"/>
                </a:cubicBezTo>
                <a:cubicBezTo>
                  <a:pt x="5504" y="133"/>
                  <a:pt x="5505" y="76"/>
                  <a:pt x="5523" y="22"/>
                </a:cubicBezTo>
                <a:cubicBezTo>
                  <a:pt x="5593" y="39"/>
                  <a:pt x="5577" y="58"/>
                  <a:pt x="5623" y="111"/>
                </a:cubicBezTo>
                <a:cubicBezTo>
                  <a:pt x="5650" y="142"/>
                  <a:pt x="5683" y="160"/>
                  <a:pt x="5712" y="188"/>
                </a:cubicBezTo>
                <a:cubicBezTo>
                  <a:pt x="5772" y="148"/>
                  <a:pt x="5756" y="120"/>
                  <a:pt x="5756" y="44"/>
                </a:cubicBezTo>
              </a:path>
            </a:pathLst>
          </a:custGeom>
          <a:solidFill>
            <a:srgbClr val="990000"/>
          </a:solidFill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467480" y="6400800"/>
            <a:ext cx="1106640" cy="500040"/>
          </a:xfrm>
          <a:custGeom>
            <a:avLst/>
            <a:gdLst/>
            <a:ahLst/>
            <a:rect l="l" t="t" r="r" b="b"/>
            <a:pathLst>
              <a:path w="89" h="103">
                <a:moveTo>
                  <a:pt x="89" y="67"/>
                </a:moveTo>
                <a:cubicBezTo>
                  <a:pt x="85" y="78"/>
                  <a:pt x="88" y="103"/>
                  <a:pt x="77" y="100"/>
                </a:cubicBezTo>
                <a:cubicBezTo>
                  <a:pt x="74" y="99"/>
                  <a:pt x="12" y="12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6400800"/>
            <a:ext cx="8821800" cy="565200"/>
          </a:xfrm>
          <a:custGeom>
            <a:avLst/>
            <a:gdLst/>
            <a:ahLst/>
            <a:rect l="l" t="t" r="r" b="b"/>
            <a:pathLst>
              <a:path w="5557" h="356">
                <a:moveTo>
                  <a:pt x="5557" y="0"/>
                </a:moveTo>
                <a:cubicBezTo>
                  <a:pt x="5540" y="50"/>
                  <a:pt x="5499" y="81"/>
                  <a:pt x="5468" y="123"/>
                </a:cubicBezTo>
                <a:cubicBezTo>
                  <a:pt x="5452" y="144"/>
                  <a:pt x="5423" y="189"/>
                  <a:pt x="5423" y="189"/>
                </a:cubicBezTo>
                <a:cubicBezTo>
                  <a:pt x="5416" y="211"/>
                  <a:pt x="5408" y="234"/>
                  <a:pt x="5401" y="256"/>
                </a:cubicBezTo>
                <a:cubicBezTo>
                  <a:pt x="5397" y="267"/>
                  <a:pt x="5390" y="289"/>
                  <a:pt x="5390" y="289"/>
                </a:cubicBezTo>
                <a:cubicBezTo>
                  <a:pt x="5324" y="241"/>
                  <a:pt x="5320" y="206"/>
                  <a:pt x="5279" y="145"/>
                </a:cubicBezTo>
                <a:cubicBezTo>
                  <a:pt x="5267" y="108"/>
                  <a:pt x="5246" y="82"/>
                  <a:pt x="5234" y="45"/>
                </a:cubicBezTo>
                <a:cubicBezTo>
                  <a:pt x="5208" y="52"/>
                  <a:pt x="5181" y="56"/>
                  <a:pt x="5157" y="67"/>
                </a:cubicBezTo>
                <a:cubicBezTo>
                  <a:pt x="5091" y="97"/>
                  <a:pt x="5068" y="203"/>
                  <a:pt x="5045" y="267"/>
                </a:cubicBezTo>
                <a:cubicBezTo>
                  <a:pt x="5027" y="260"/>
                  <a:pt x="5006" y="256"/>
                  <a:pt x="4990" y="245"/>
                </a:cubicBezTo>
                <a:cubicBezTo>
                  <a:pt x="4968" y="230"/>
                  <a:pt x="4934" y="189"/>
                  <a:pt x="4934" y="189"/>
                </a:cubicBezTo>
                <a:cubicBezTo>
                  <a:pt x="4919" y="145"/>
                  <a:pt x="4905" y="100"/>
                  <a:pt x="4890" y="56"/>
                </a:cubicBezTo>
                <a:cubicBezTo>
                  <a:pt x="4886" y="45"/>
                  <a:pt x="4868" y="49"/>
                  <a:pt x="4857" y="45"/>
                </a:cubicBezTo>
                <a:cubicBezTo>
                  <a:pt x="4811" y="1"/>
                  <a:pt x="4795" y="29"/>
                  <a:pt x="4757" y="67"/>
                </a:cubicBezTo>
                <a:cubicBezTo>
                  <a:pt x="4733" y="156"/>
                  <a:pt x="4757" y="61"/>
                  <a:pt x="4734" y="178"/>
                </a:cubicBezTo>
                <a:cubicBezTo>
                  <a:pt x="4731" y="193"/>
                  <a:pt x="4735" y="213"/>
                  <a:pt x="4723" y="223"/>
                </a:cubicBezTo>
                <a:cubicBezTo>
                  <a:pt x="4698" y="245"/>
                  <a:pt x="4634" y="267"/>
                  <a:pt x="4634" y="267"/>
                </a:cubicBezTo>
                <a:cubicBezTo>
                  <a:pt x="4623" y="263"/>
                  <a:pt x="4608" y="265"/>
                  <a:pt x="4601" y="256"/>
                </a:cubicBezTo>
                <a:cubicBezTo>
                  <a:pt x="4587" y="237"/>
                  <a:pt x="4579" y="189"/>
                  <a:pt x="4579" y="189"/>
                </a:cubicBezTo>
                <a:cubicBezTo>
                  <a:pt x="4568" y="96"/>
                  <a:pt x="4577" y="100"/>
                  <a:pt x="4512" y="56"/>
                </a:cubicBezTo>
                <a:cubicBezTo>
                  <a:pt x="4486" y="60"/>
                  <a:pt x="4458" y="55"/>
                  <a:pt x="4434" y="67"/>
                </a:cubicBezTo>
                <a:cubicBezTo>
                  <a:pt x="4424" y="72"/>
                  <a:pt x="4424" y="88"/>
                  <a:pt x="4423" y="100"/>
                </a:cubicBezTo>
                <a:cubicBezTo>
                  <a:pt x="4403" y="264"/>
                  <a:pt x="4455" y="217"/>
                  <a:pt x="4379" y="267"/>
                </a:cubicBezTo>
                <a:cubicBezTo>
                  <a:pt x="4371" y="260"/>
                  <a:pt x="4362" y="253"/>
                  <a:pt x="4356" y="245"/>
                </a:cubicBezTo>
                <a:cubicBezTo>
                  <a:pt x="4340" y="224"/>
                  <a:pt x="4331" y="197"/>
                  <a:pt x="4312" y="178"/>
                </a:cubicBezTo>
                <a:cubicBezTo>
                  <a:pt x="4246" y="114"/>
                  <a:pt x="4270" y="145"/>
                  <a:pt x="4234" y="89"/>
                </a:cubicBezTo>
                <a:cubicBezTo>
                  <a:pt x="4297" y="69"/>
                  <a:pt x="4286" y="102"/>
                  <a:pt x="4345" y="123"/>
                </a:cubicBezTo>
                <a:cubicBezTo>
                  <a:pt x="4349" y="112"/>
                  <a:pt x="4363" y="99"/>
                  <a:pt x="4356" y="89"/>
                </a:cubicBezTo>
                <a:cubicBezTo>
                  <a:pt x="4341" y="67"/>
                  <a:pt x="4290" y="45"/>
                  <a:pt x="4290" y="45"/>
                </a:cubicBezTo>
                <a:cubicBezTo>
                  <a:pt x="4282" y="158"/>
                  <a:pt x="4299" y="231"/>
                  <a:pt x="4190" y="267"/>
                </a:cubicBezTo>
                <a:cubicBezTo>
                  <a:pt x="4175" y="263"/>
                  <a:pt x="4158" y="264"/>
                  <a:pt x="4145" y="256"/>
                </a:cubicBezTo>
                <a:cubicBezTo>
                  <a:pt x="4101" y="227"/>
                  <a:pt x="4105" y="102"/>
                  <a:pt x="4101" y="67"/>
                </a:cubicBezTo>
                <a:cubicBezTo>
                  <a:pt x="4058" y="81"/>
                  <a:pt x="4048" y="90"/>
                  <a:pt x="4034" y="134"/>
                </a:cubicBezTo>
                <a:cubicBezTo>
                  <a:pt x="4030" y="175"/>
                  <a:pt x="4056" y="232"/>
                  <a:pt x="4023" y="256"/>
                </a:cubicBezTo>
                <a:cubicBezTo>
                  <a:pt x="3997" y="275"/>
                  <a:pt x="3945" y="200"/>
                  <a:pt x="3945" y="200"/>
                </a:cubicBezTo>
                <a:cubicBezTo>
                  <a:pt x="3904" y="139"/>
                  <a:pt x="3937" y="112"/>
                  <a:pt x="3868" y="89"/>
                </a:cubicBezTo>
                <a:cubicBezTo>
                  <a:pt x="3853" y="104"/>
                  <a:pt x="3838" y="119"/>
                  <a:pt x="3823" y="134"/>
                </a:cubicBezTo>
                <a:cubicBezTo>
                  <a:pt x="3812" y="145"/>
                  <a:pt x="3790" y="167"/>
                  <a:pt x="3790" y="167"/>
                </a:cubicBezTo>
                <a:cubicBezTo>
                  <a:pt x="3774" y="215"/>
                  <a:pt x="3787" y="197"/>
                  <a:pt x="3734" y="234"/>
                </a:cubicBezTo>
                <a:cubicBezTo>
                  <a:pt x="3712" y="249"/>
                  <a:pt x="3667" y="278"/>
                  <a:pt x="3667" y="278"/>
                </a:cubicBezTo>
                <a:cubicBezTo>
                  <a:pt x="3605" y="185"/>
                  <a:pt x="3717" y="39"/>
                  <a:pt x="3601" y="78"/>
                </a:cubicBezTo>
                <a:cubicBezTo>
                  <a:pt x="3590" y="89"/>
                  <a:pt x="3580" y="102"/>
                  <a:pt x="3567" y="111"/>
                </a:cubicBezTo>
                <a:cubicBezTo>
                  <a:pt x="3557" y="118"/>
                  <a:pt x="3542" y="115"/>
                  <a:pt x="3534" y="123"/>
                </a:cubicBezTo>
                <a:cubicBezTo>
                  <a:pt x="3526" y="131"/>
                  <a:pt x="3530" y="147"/>
                  <a:pt x="3523" y="156"/>
                </a:cubicBezTo>
                <a:cubicBezTo>
                  <a:pt x="3515" y="166"/>
                  <a:pt x="3501" y="171"/>
                  <a:pt x="3490" y="178"/>
                </a:cubicBezTo>
                <a:cubicBezTo>
                  <a:pt x="3477" y="216"/>
                  <a:pt x="3456" y="234"/>
                  <a:pt x="3434" y="267"/>
                </a:cubicBezTo>
                <a:cubicBezTo>
                  <a:pt x="3400" y="166"/>
                  <a:pt x="3449" y="296"/>
                  <a:pt x="3401" y="211"/>
                </a:cubicBezTo>
                <a:cubicBezTo>
                  <a:pt x="3391" y="194"/>
                  <a:pt x="3389" y="173"/>
                  <a:pt x="3379" y="156"/>
                </a:cubicBezTo>
                <a:cubicBezTo>
                  <a:pt x="3363" y="128"/>
                  <a:pt x="3341" y="105"/>
                  <a:pt x="3323" y="78"/>
                </a:cubicBezTo>
                <a:cubicBezTo>
                  <a:pt x="3287" y="132"/>
                  <a:pt x="3279" y="199"/>
                  <a:pt x="3212" y="223"/>
                </a:cubicBezTo>
                <a:cubicBezTo>
                  <a:pt x="3205" y="234"/>
                  <a:pt x="3202" y="251"/>
                  <a:pt x="3190" y="256"/>
                </a:cubicBezTo>
                <a:cubicBezTo>
                  <a:pt x="3160" y="268"/>
                  <a:pt x="3102" y="179"/>
                  <a:pt x="3079" y="156"/>
                </a:cubicBezTo>
                <a:cubicBezTo>
                  <a:pt x="3072" y="136"/>
                  <a:pt x="3066" y="100"/>
                  <a:pt x="3034" y="100"/>
                </a:cubicBezTo>
                <a:cubicBezTo>
                  <a:pt x="3023" y="100"/>
                  <a:pt x="3019" y="115"/>
                  <a:pt x="3012" y="123"/>
                </a:cubicBezTo>
                <a:cubicBezTo>
                  <a:pt x="3008" y="134"/>
                  <a:pt x="3007" y="146"/>
                  <a:pt x="3001" y="156"/>
                </a:cubicBezTo>
                <a:cubicBezTo>
                  <a:pt x="2995" y="165"/>
                  <a:pt x="2983" y="169"/>
                  <a:pt x="2978" y="178"/>
                </a:cubicBezTo>
                <a:cubicBezTo>
                  <a:pt x="2971" y="192"/>
                  <a:pt x="2973" y="209"/>
                  <a:pt x="2967" y="223"/>
                </a:cubicBezTo>
                <a:cubicBezTo>
                  <a:pt x="2962" y="235"/>
                  <a:pt x="2951" y="244"/>
                  <a:pt x="2945" y="256"/>
                </a:cubicBezTo>
                <a:cubicBezTo>
                  <a:pt x="2940" y="266"/>
                  <a:pt x="2938" y="278"/>
                  <a:pt x="2934" y="289"/>
                </a:cubicBezTo>
                <a:cubicBezTo>
                  <a:pt x="2919" y="285"/>
                  <a:pt x="2903" y="286"/>
                  <a:pt x="2890" y="278"/>
                </a:cubicBezTo>
                <a:cubicBezTo>
                  <a:pt x="2864" y="261"/>
                  <a:pt x="2868" y="235"/>
                  <a:pt x="2856" y="211"/>
                </a:cubicBezTo>
                <a:cubicBezTo>
                  <a:pt x="2850" y="199"/>
                  <a:pt x="2839" y="190"/>
                  <a:pt x="2834" y="178"/>
                </a:cubicBezTo>
                <a:cubicBezTo>
                  <a:pt x="2825" y="156"/>
                  <a:pt x="2819" y="133"/>
                  <a:pt x="2812" y="111"/>
                </a:cubicBezTo>
                <a:cubicBezTo>
                  <a:pt x="2807" y="96"/>
                  <a:pt x="2782" y="104"/>
                  <a:pt x="2767" y="100"/>
                </a:cubicBezTo>
                <a:cubicBezTo>
                  <a:pt x="2701" y="122"/>
                  <a:pt x="2678" y="177"/>
                  <a:pt x="2634" y="223"/>
                </a:cubicBezTo>
                <a:cubicBezTo>
                  <a:pt x="2616" y="169"/>
                  <a:pt x="2609" y="107"/>
                  <a:pt x="2567" y="67"/>
                </a:cubicBezTo>
                <a:cubicBezTo>
                  <a:pt x="2541" y="145"/>
                  <a:pt x="2552" y="112"/>
                  <a:pt x="2534" y="167"/>
                </a:cubicBezTo>
                <a:cubicBezTo>
                  <a:pt x="2517" y="218"/>
                  <a:pt x="2450" y="231"/>
                  <a:pt x="2412" y="256"/>
                </a:cubicBezTo>
                <a:cubicBezTo>
                  <a:pt x="2392" y="197"/>
                  <a:pt x="2368" y="129"/>
                  <a:pt x="2334" y="78"/>
                </a:cubicBezTo>
                <a:cubicBezTo>
                  <a:pt x="2262" y="92"/>
                  <a:pt x="2257" y="97"/>
                  <a:pt x="2234" y="167"/>
                </a:cubicBezTo>
                <a:cubicBezTo>
                  <a:pt x="2230" y="193"/>
                  <a:pt x="2237" y="223"/>
                  <a:pt x="2223" y="245"/>
                </a:cubicBezTo>
                <a:cubicBezTo>
                  <a:pt x="2217" y="255"/>
                  <a:pt x="2197" y="243"/>
                  <a:pt x="2190" y="234"/>
                </a:cubicBezTo>
                <a:cubicBezTo>
                  <a:pt x="2106" y="116"/>
                  <a:pt x="2219" y="201"/>
                  <a:pt x="2134" y="145"/>
                </a:cubicBezTo>
                <a:cubicBezTo>
                  <a:pt x="2130" y="134"/>
                  <a:pt x="2134" y="115"/>
                  <a:pt x="2123" y="111"/>
                </a:cubicBezTo>
                <a:cubicBezTo>
                  <a:pt x="2101" y="102"/>
                  <a:pt x="2060" y="135"/>
                  <a:pt x="2045" y="145"/>
                </a:cubicBezTo>
                <a:cubicBezTo>
                  <a:pt x="2032" y="183"/>
                  <a:pt x="2017" y="206"/>
                  <a:pt x="1989" y="234"/>
                </a:cubicBezTo>
                <a:cubicBezTo>
                  <a:pt x="1961" y="190"/>
                  <a:pt x="1958" y="137"/>
                  <a:pt x="1923" y="100"/>
                </a:cubicBezTo>
                <a:cubicBezTo>
                  <a:pt x="1867" y="184"/>
                  <a:pt x="1863" y="206"/>
                  <a:pt x="1778" y="256"/>
                </a:cubicBezTo>
                <a:cubicBezTo>
                  <a:pt x="1763" y="210"/>
                  <a:pt x="1779" y="154"/>
                  <a:pt x="1756" y="111"/>
                </a:cubicBezTo>
                <a:cubicBezTo>
                  <a:pt x="1747" y="95"/>
                  <a:pt x="1719" y="104"/>
                  <a:pt x="1701" y="100"/>
                </a:cubicBezTo>
                <a:cubicBezTo>
                  <a:pt x="1686" y="104"/>
                  <a:pt x="1670" y="104"/>
                  <a:pt x="1656" y="111"/>
                </a:cubicBezTo>
                <a:cubicBezTo>
                  <a:pt x="1621" y="129"/>
                  <a:pt x="1626" y="186"/>
                  <a:pt x="1589" y="223"/>
                </a:cubicBezTo>
                <a:cubicBezTo>
                  <a:pt x="1574" y="215"/>
                  <a:pt x="1555" y="213"/>
                  <a:pt x="1545" y="200"/>
                </a:cubicBezTo>
                <a:cubicBezTo>
                  <a:pt x="1521" y="168"/>
                  <a:pt x="1518" y="125"/>
                  <a:pt x="1501" y="89"/>
                </a:cubicBezTo>
                <a:cubicBezTo>
                  <a:pt x="1490" y="96"/>
                  <a:pt x="1474" y="99"/>
                  <a:pt x="1467" y="111"/>
                </a:cubicBezTo>
                <a:cubicBezTo>
                  <a:pt x="1446" y="147"/>
                  <a:pt x="1465" y="198"/>
                  <a:pt x="1445" y="234"/>
                </a:cubicBezTo>
                <a:cubicBezTo>
                  <a:pt x="1442" y="239"/>
                  <a:pt x="1380" y="253"/>
                  <a:pt x="1367" y="256"/>
                </a:cubicBezTo>
                <a:cubicBezTo>
                  <a:pt x="1321" y="187"/>
                  <a:pt x="1353" y="153"/>
                  <a:pt x="1289" y="89"/>
                </a:cubicBezTo>
                <a:cubicBezTo>
                  <a:pt x="1211" y="115"/>
                  <a:pt x="1308" y="75"/>
                  <a:pt x="1212" y="167"/>
                </a:cubicBezTo>
                <a:cubicBezTo>
                  <a:pt x="1143" y="233"/>
                  <a:pt x="1244" y="139"/>
                  <a:pt x="1156" y="211"/>
                </a:cubicBezTo>
                <a:cubicBezTo>
                  <a:pt x="1129" y="233"/>
                  <a:pt x="1114" y="265"/>
                  <a:pt x="1089" y="289"/>
                </a:cubicBezTo>
                <a:cubicBezTo>
                  <a:pt x="1045" y="224"/>
                  <a:pt x="1056" y="143"/>
                  <a:pt x="1012" y="78"/>
                </a:cubicBezTo>
                <a:cubicBezTo>
                  <a:pt x="935" y="97"/>
                  <a:pt x="974" y="75"/>
                  <a:pt x="923" y="178"/>
                </a:cubicBezTo>
                <a:cubicBezTo>
                  <a:pt x="913" y="199"/>
                  <a:pt x="900" y="245"/>
                  <a:pt x="900" y="245"/>
                </a:cubicBezTo>
                <a:cubicBezTo>
                  <a:pt x="829" y="210"/>
                  <a:pt x="832" y="185"/>
                  <a:pt x="789" y="123"/>
                </a:cubicBezTo>
                <a:cubicBezTo>
                  <a:pt x="782" y="102"/>
                  <a:pt x="775" y="61"/>
                  <a:pt x="745" y="56"/>
                </a:cubicBezTo>
                <a:cubicBezTo>
                  <a:pt x="732" y="54"/>
                  <a:pt x="723" y="71"/>
                  <a:pt x="712" y="78"/>
                </a:cubicBezTo>
                <a:cubicBezTo>
                  <a:pt x="685" y="152"/>
                  <a:pt x="741" y="228"/>
                  <a:pt x="656" y="256"/>
                </a:cubicBezTo>
                <a:cubicBezTo>
                  <a:pt x="635" y="235"/>
                  <a:pt x="612" y="217"/>
                  <a:pt x="600" y="189"/>
                </a:cubicBezTo>
                <a:cubicBezTo>
                  <a:pt x="564" y="108"/>
                  <a:pt x="605" y="133"/>
                  <a:pt x="545" y="111"/>
                </a:cubicBezTo>
                <a:cubicBezTo>
                  <a:pt x="538" y="119"/>
                  <a:pt x="528" y="125"/>
                  <a:pt x="523" y="134"/>
                </a:cubicBezTo>
                <a:cubicBezTo>
                  <a:pt x="512" y="155"/>
                  <a:pt x="516" y="183"/>
                  <a:pt x="500" y="200"/>
                </a:cubicBezTo>
                <a:cubicBezTo>
                  <a:pt x="473" y="229"/>
                  <a:pt x="450" y="243"/>
                  <a:pt x="412" y="256"/>
                </a:cubicBezTo>
                <a:cubicBezTo>
                  <a:pt x="404" y="185"/>
                  <a:pt x="422" y="93"/>
                  <a:pt x="345" y="67"/>
                </a:cubicBezTo>
                <a:cubicBezTo>
                  <a:pt x="312" y="117"/>
                  <a:pt x="327" y="165"/>
                  <a:pt x="300" y="211"/>
                </a:cubicBezTo>
                <a:cubicBezTo>
                  <a:pt x="285" y="237"/>
                  <a:pt x="259" y="243"/>
                  <a:pt x="234" y="256"/>
                </a:cubicBezTo>
                <a:cubicBezTo>
                  <a:pt x="212" y="286"/>
                  <a:pt x="189" y="315"/>
                  <a:pt x="167" y="345"/>
                </a:cubicBezTo>
                <a:cubicBezTo>
                  <a:pt x="159" y="356"/>
                  <a:pt x="150" y="323"/>
                  <a:pt x="145" y="311"/>
                </a:cubicBezTo>
                <a:cubicBezTo>
                  <a:pt x="136" y="290"/>
                  <a:pt x="123" y="245"/>
                  <a:pt x="123" y="245"/>
                </a:cubicBezTo>
                <a:cubicBezTo>
                  <a:pt x="127" y="226"/>
                  <a:pt x="125" y="206"/>
                  <a:pt x="134" y="189"/>
                </a:cubicBezTo>
                <a:cubicBezTo>
                  <a:pt x="140" y="177"/>
                  <a:pt x="159" y="177"/>
                  <a:pt x="167" y="167"/>
                </a:cubicBezTo>
                <a:cubicBezTo>
                  <a:pt x="174" y="158"/>
                  <a:pt x="174" y="145"/>
                  <a:pt x="178" y="134"/>
                </a:cubicBezTo>
                <a:cubicBezTo>
                  <a:pt x="174" y="123"/>
                  <a:pt x="175" y="108"/>
                  <a:pt x="167" y="100"/>
                </a:cubicBezTo>
                <a:cubicBezTo>
                  <a:pt x="148" y="81"/>
                  <a:pt x="100" y="56"/>
                  <a:pt x="100" y="56"/>
                </a:cubicBezTo>
                <a:cubicBezTo>
                  <a:pt x="74" y="63"/>
                  <a:pt x="46" y="64"/>
                  <a:pt x="23" y="78"/>
                </a:cubicBezTo>
                <a:cubicBezTo>
                  <a:pt x="0" y="92"/>
                  <a:pt x="16" y="144"/>
                  <a:pt x="23" y="156"/>
                </a:cubicBezTo>
                <a:cubicBezTo>
                  <a:pt x="52" y="206"/>
                  <a:pt x="89" y="209"/>
                  <a:pt x="89" y="278"/>
                </a:cubicBezTo>
              </a:path>
            </a:pathLst>
          </a:custGeom>
          <a:noFill/>
          <a:ln w="7632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40" y="6477120"/>
            <a:ext cx="11012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N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53352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05160" y="2438280"/>
            <a:ext cx="15238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762120"/>
            <a:ext cx="9245880" cy="1498320"/>
          </a:xfrm>
          <a:custGeom>
            <a:avLst/>
            <a:gdLst/>
            <a:ahLst/>
            <a:rect l="l" t="t" r="r" b="b"/>
            <a:pathLst>
              <a:path w="5824" h="944">
                <a:moveTo>
                  <a:pt x="0" y="768"/>
                </a:moveTo>
                <a:cubicBezTo>
                  <a:pt x="2032" y="856"/>
                  <a:pt x="4064" y="944"/>
                  <a:pt x="4944" y="816"/>
                </a:cubicBezTo>
                <a:cubicBezTo>
                  <a:pt x="5824" y="688"/>
                  <a:pt x="5216" y="136"/>
                  <a:pt x="52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3680" y="1928880"/>
            <a:ext cx="8596440" cy="209520"/>
          </a:xfrm>
          <a:custGeom>
            <a:avLst/>
            <a:gdLst/>
            <a:ahLst/>
            <a:rect l="l" t="t" r="r" b="b"/>
            <a:pathLst>
              <a:path w="5415" h="132">
                <a:moveTo>
                  <a:pt x="0" y="85"/>
                </a:moveTo>
                <a:cubicBezTo>
                  <a:pt x="77" y="33"/>
                  <a:pt x="42" y="31"/>
                  <a:pt x="100" y="52"/>
                </a:cubicBezTo>
                <a:cubicBezTo>
                  <a:pt x="143" y="117"/>
                  <a:pt x="127" y="110"/>
                  <a:pt x="211" y="96"/>
                </a:cubicBezTo>
                <a:cubicBezTo>
                  <a:pt x="220" y="87"/>
                  <a:pt x="254" y="52"/>
                  <a:pt x="267" y="52"/>
                </a:cubicBezTo>
                <a:cubicBezTo>
                  <a:pt x="280" y="52"/>
                  <a:pt x="289" y="67"/>
                  <a:pt x="300" y="74"/>
                </a:cubicBezTo>
                <a:cubicBezTo>
                  <a:pt x="308" y="85"/>
                  <a:pt x="310" y="104"/>
                  <a:pt x="323" y="107"/>
                </a:cubicBezTo>
                <a:cubicBezTo>
                  <a:pt x="410" y="129"/>
                  <a:pt x="372" y="94"/>
                  <a:pt x="411" y="63"/>
                </a:cubicBezTo>
                <a:cubicBezTo>
                  <a:pt x="420" y="56"/>
                  <a:pt x="434" y="56"/>
                  <a:pt x="445" y="52"/>
                </a:cubicBezTo>
                <a:cubicBezTo>
                  <a:pt x="460" y="97"/>
                  <a:pt x="479" y="104"/>
                  <a:pt x="523" y="118"/>
                </a:cubicBezTo>
                <a:cubicBezTo>
                  <a:pt x="534" y="114"/>
                  <a:pt x="548" y="115"/>
                  <a:pt x="556" y="107"/>
                </a:cubicBezTo>
                <a:cubicBezTo>
                  <a:pt x="564" y="99"/>
                  <a:pt x="558" y="81"/>
                  <a:pt x="567" y="74"/>
                </a:cubicBezTo>
                <a:cubicBezTo>
                  <a:pt x="586" y="60"/>
                  <a:pt x="634" y="52"/>
                  <a:pt x="634" y="52"/>
                </a:cubicBezTo>
                <a:cubicBezTo>
                  <a:pt x="649" y="112"/>
                  <a:pt x="651" y="116"/>
                  <a:pt x="711" y="96"/>
                </a:cubicBezTo>
                <a:cubicBezTo>
                  <a:pt x="715" y="85"/>
                  <a:pt x="712" y="68"/>
                  <a:pt x="723" y="63"/>
                </a:cubicBezTo>
                <a:cubicBezTo>
                  <a:pt x="750" y="50"/>
                  <a:pt x="771" y="97"/>
                  <a:pt x="778" y="107"/>
                </a:cubicBezTo>
                <a:cubicBezTo>
                  <a:pt x="797" y="103"/>
                  <a:pt x="818" y="106"/>
                  <a:pt x="834" y="96"/>
                </a:cubicBezTo>
                <a:cubicBezTo>
                  <a:pt x="844" y="90"/>
                  <a:pt x="836" y="70"/>
                  <a:pt x="845" y="63"/>
                </a:cubicBezTo>
                <a:cubicBezTo>
                  <a:pt x="857" y="54"/>
                  <a:pt x="874" y="56"/>
                  <a:pt x="889" y="52"/>
                </a:cubicBezTo>
                <a:cubicBezTo>
                  <a:pt x="929" y="132"/>
                  <a:pt x="914" y="121"/>
                  <a:pt x="1011" y="107"/>
                </a:cubicBezTo>
                <a:cubicBezTo>
                  <a:pt x="1015" y="96"/>
                  <a:pt x="1013" y="81"/>
                  <a:pt x="1023" y="74"/>
                </a:cubicBezTo>
                <a:cubicBezTo>
                  <a:pt x="1042" y="61"/>
                  <a:pt x="1089" y="52"/>
                  <a:pt x="1089" y="52"/>
                </a:cubicBezTo>
                <a:cubicBezTo>
                  <a:pt x="1122" y="102"/>
                  <a:pt x="1127" y="108"/>
                  <a:pt x="1178" y="74"/>
                </a:cubicBezTo>
                <a:cubicBezTo>
                  <a:pt x="1193" y="78"/>
                  <a:pt x="1210" y="77"/>
                  <a:pt x="1223" y="85"/>
                </a:cubicBezTo>
                <a:cubicBezTo>
                  <a:pt x="1234" y="92"/>
                  <a:pt x="1232" y="114"/>
                  <a:pt x="1245" y="118"/>
                </a:cubicBezTo>
                <a:cubicBezTo>
                  <a:pt x="1263" y="123"/>
                  <a:pt x="1282" y="111"/>
                  <a:pt x="1300" y="107"/>
                </a:cubicBezTo>
                <a:cubicBezTo>
                  <a:pt x="1306" y="101"/>
                  <a:pt x="1347" y="60"/>
                  <a:pt x="1356" y="63"/>
                </a:cubicBezTo>
                <a:cubicBezTo>
                  <a:pt x="1381" y="72"/>
                  <a:pt x="1387" y="110"/>
                  <a:pt x="1412" y="118"/>
                </a:cubicBezTo>
                <a:cubicBezTo>
                  <a:pt x="1423" y="122"/>
                  <a:pt x="1434" y="125"/>
                  <a:pt x="1445" y="129"/>
                </a:cubicBezTo>
                <a:cubicBezTo>
                  <a:pt x="1495" y="112"/>
                  <a:pt x="1482" y="95"/>
                  <a:pt x="1512" y="52"/>
                </a:cubicBezTo>
                <a:cubicBezTo>
                  <a:pt x="1523" y="59"/>
                  <a:pt x="1536" y="65"/>
                  <a:pt x="1545" y="74"/>
                </a:cubicBezTo>
                <a:cubicBezTo>
                  <a:pt x="1554" y="83"/>
                  <a:pt x="1554" y="103"/>
                  <a:pt x="1567" y="107"/>
                </a:cubicBezTo>
                <a:cubicBezTo>
                  <a:pt x="1585" y="112"/>
                  <a:pt x="1604" y="100"/>
                  <a:pt x="1623" y="96"/>
                </a:cubicBezTo>
                <a:cubicBezTo>
                  <a:pt x="1625" y="89"/>
                  <a:pt x="1635" y="30"/>
                  <a:pt x="1667" y="52"/>
                </a:cubicBezTo>
                <a:cubicBezTo>
                  <a:pt x="1689" y="67"/>
                  <a:pt x="1712" y="118"/>
                  <a:pt x="1712" y="118"/>
                </a:cubicBezTo>
                <a:cubicBezTo>
                  <a:pt x="1741" y="114"/>
                  <a:pt x="1773" y="119"/>
                  <a:pt x="1800" y="107"/>
                </a:cubicBezTo>
                <a:cubicBezTo>
                  <a:pt x="1811" y="102"/>
                  <a:pt x="1804" y="82"/>
                  <a:pt x="1812" y="74"/>
                </a:cubicBezTo>
                <a:cubicBezTo>
                  <a:pt x="1820" y="66"/>
                  <a:pt x="1834" y="67"/>
                  <a:pt x="1845" y="63"/>
                </a:cubicBezTo>
                <a:cubicBezTo>
                  <a:pt x="1890" y="93"/>
                  <a:pt x="1903" y="98"/>
                  <a:pt x="1956" y="85"/>
                </a:cubicBezTo>
                <a:cubicBezTo>
                  <a:pt x="2015" y="45"/>
                  <a:pt x="2008" y="46"/>
                  <a:pt x="2078" y="74"/>
                </a:cubicBezTo>
                <a:cubicBezTo>
                  <a:pt x="2114" y="125"/>
                  <a:pt x="2127" y="119"/>
                  <a:pt x="2189" y="107"/>
                </a:cubicBezTo>
                <a:cubicBezTo>
                  <a:pt x="2193" y="92"/>
                  <a:pt x="2194" y="77"/>
                  <a:pt x="2201" y="63"/>
                </a:cubicBezTo>
                <a:cubicBezTo>
                  <a:pt x="2206" y="54"/>
                  <a:pt x="2213" y="37"/>
                  <a:pt x="2223" y="40"/>
                </a:cubicBezTo>
                <a:cubicBezTo>
                  <a:pt x="2234" y="44"/>
                  <a:pt x="2226" y="65"/>
                  <a:pt x="2234" y="74"/>
                </a:cubicBezTo>
                <a:cubicBezTo>
                  <a:pt x="2242" y="82"/>
                  <a:pt x="2256" y="80"/>
                  <a:pt x="2267" y="85"/>
                </a:cubicBezTo>
                <a:cubicBezTo>
                  <a:pt x="2282" y="92"/>
                  <a:pt x="2297" y="100"/>
                  <a:pt x="2312" y="107"/>
                </a:cubicBezTo>
                <a:cubicBezTo>
                  <a:pt x="2357" y="96"/>
                  <a:pt x="2379" y="84"/>
                  <a:pt x="2412" y="52"/>
                </a:cubicBezTo>
                <a:cubicBezTo>
                  <a:pt x="2448" y="64"/>
                  <a:pt x="2476" y="84"/>
                  <a:pt x="2512" y="96"/>
                </a:cubicBezTo>
                <a:cubicBezTo>
                  <a:pt x="2554" y="68"/>
                  <a:pt x="2553" y="45"/>
                  <a:pt x="2601" y="29"/>
                </a:cubicBezTo>
                <a:cubicBezTo>
                  <a:pt x="2644" y="73"/>
                  <a:pt x="2649" y="98"/>
                  <a:pt x="2712" y="118"/>
                </a:cubicBezTo>
                <a:cubicBezTo>
                  <a:pt x="2738" y="79"/>
                  <a:pt x="2757" y="66"/>
                  <a:pt x="2801" y="52"/>
                </a:cubicBezTo>
                <a:cubicBezTo>
                  <a:pt x="2827" y="69"/>
                  <a:pt x="2847" y="99"/>
                  <a:pt x="2878" y="107"/>
                </a:cubicBezTo>
                <a:cubicBezTo>
                  <a:pt x="2893" y="111"/>
                  <a:pt x="2908" y="100"/>
                  <a:pt x="2923" y="96"/>
                </a:cubicBezTo>
                <a:cubicBezTo>
                  <a:pt x="2927" y="83"/>
                  <a:pt x="2935" y="44"/>
                  <a:pt x="2956" y="40"/>
                </a:cubicBezTo>
                <a:cubicBezTo>
                  <a:pt x="2993" y="33"/>
                  <a:pt x="3056" y="96"/>
                  <a:pt x="3056" y="96"/>
                </a:cubicBezTo>
                <a:cubicBezTo>
                  <a:pt x="3118" y="86"/>
                  <a:pt x="3137" y="83"/>
                  <a:pt x="3178" y="40"/>
                </a:cubicBezTo>
                <a:cubicBezTo>
                  <a:pt x="3227" y="57"/>
                  <a:pt x="3227" y="80"/>
                  <a:pt x="3278" y="63"/>
                </a:cubicBezTo>
                <a:cubicBezTo>
                  <a:pt x="3286" y="55"/>
                  <a:pt x="3290" y="40"/>
                  <a:pt x="3301" y="40"/>
                </a:cubicBezTo>
                <a:cubicBezTo>
                  <a:pt x="3371" y="40"/>
                  <a:pt x="3447" y="86"/>
                  <a:pt x="3512" y="107"/>
                </a:cubicBezTo>
                <a:cubicBezTo>
                  <a:pt x="3542" y="103"/>
                  <a:pt x="3579" y="116"/>
                  <a:pt x="3601" y="96"/>
                </a:cubicBezTo>
                <a:cubicBezTo>
                  <a:pt x="3678" y="28"/>
                  <a:pt x="3559" y="0"/>
                  <a:pt x="3645" y="29"/>
                </a:cubicBezTo>
                <a:cubicBezTo>
                  <a:pt x="3677" y="62"/>
                  <a:pt x="3677" y="81"/>
                  <a:pt x="3723" y="96"/>
                </a:cubicBezTo>
                <a:cubicBezTo>
                  <a:pt x="3755" y="74"/>
                  <a:pt x="3785" y="68"/>
                  <a:pt x="3812" y="40"/>
                </a:cubicBezTo>
                <a:cubicBezTo>
                  <a:pt x="3860" y="50"/>
                  <a:pt x="3909" y="61"/>
                  <a:pt x="3956" y="74"/>
                </a:cubicBezTo>
                <a:cubicBezTo>
                  <a:pt x="3979" y="80"/>
                  <a:pt x="4023" y="96"/>
                  <a:pt x="4023" y="96"/>
                </a:cubicBezTo>
                <a:cubicBezTo>
                  <a:pt x="4069" y="65"/>
                  <a:pt x="4103" y="25"/>
                  <a:pt x="4156" y="7"/>
                </a:cubicBezTo>
                <a:cubicBezTo>
                  <a:pt x="4167" y="14"/>
                  <a:pt x="4178" y="24"/>
                  <a:pt x="4190" y="29"/>
                </a:cubicBezTo>
                <a:cubicBezTo>
                  <a:pt x="4204" y="35"/>
                  <a:pt x="4221" y="33"/>
                  <a:pt x="4234" y="40"/>
                </a:cubicBezTo>
                <a:cubicBezTo>
                  <a:pt x="4243" y="45"/>
                  <a:pt x="4247" y="57"/>
                  <a:pt x="4256" y="63"/>
                </a:cubicBezTo>
                <a:cubicBezTo>
                  <a:pt x="4266" y="69"/>
                  <a:pt x="4279" y="70"/>
                  <a:pt x="4290" y="74"/>
                </a:cubicBezTo>
                <a:cubicBezTo>
                  <a:pt x="4316" y="70"/>
                  <a:pt x="4342" y="71"/>
                  <a:pt x="4367" y="63"/>
                </a:cubicBezTo>
                <a:cubicBezTo>
                  <a:pt x="4380" y="59"/>
                  <a:pt x="4387" y="40"/>
                  <a:pt x="4401" y="40"/>
                </a:cubicBezTo>
                <a:cubicBezTo>
                  <a:pt x="4421" y="40"/>
                  <a:pt x="4438" y="55"/>
                  <a:pt x="4456" y="63"/>
                </a:cubicBezTo>
                <a:cubicBezTo>
                  <a:pt x="4485" y="51"/>
                  <a:pt x="4513" y="29"/>
                  <a:pt x="4545" y="29"/>
                </a:cubicBezTo>
                <a:cubicBezTo>
                  <a:pt x="4575" y="29"/>
                  <a:pt x="4659" y="58"/>
                  <a:pt x="4690" y="63"/>
                </a:cubicBezTo>
                <a:cubicBezTo>
                  <a:pt x="4712" y="59"/>
                  <a:pt x="4734" y="52"/>
                  <a:pt x="4756" y="52"/>
                </a:cubicBezTo>
                <a:cubicBezTo>
                  <a:pt x="4824" y="52"/>
                  <a:pt x="4756" y="87"/>
                  <a:pt x="4823" y="40"/>
                </a:cubicBezTo>
                <a:cubicBezTo>
                  <a:pt x="4866" y="85"/>
                  <a:pt x="4876" y="72"/>
                  <a:pt x="4934" y="52"/>
                </a:cubicBezTo>
                <a:cubicBezTo>
                  <a:pt x="4960" y="43"/>
                  <a:pt x="4986" y="38"/>
                  <a:pt x="5012" y="29"/>
                </a:cubicBezTo>
                <a:cubicBezTo>
                  <a:pt x="5016" y="44"/>
                  <a:pt x="5011" y="65"/>
                  <a:pt x="5023" y="74"/>
                </a:cubicBezTo>
                <a:cubicBezTo>
                  <a:pt x="5039" y="87"/>
                  <a:pt x="5073" y="46"/>
                  <a:pt x="5079" y="40"/>
                </a:cubicBezTo>
                <a:cubicBezTo>
                  <a:pt x="5090" y="44"/>
                  <a:pt x="5103" y="45"/>
                  <a:pt x="5112" y="52"/>
                </a:cubicBezTo>
                <a:cubicBezTo>
                  <a:pt x="5129" y="64"/>
                  <a:pt x="5136" y="90"/>
                  <a:pt x="5156" y="96"/>
                </a:cubicBezTo>
                <a:cubicBezTo>
                  <a:pt x="5166" y="99"/>
                  <a:pt x="5171" y="81"/>
                  <a:pt x="5179" y="74"/>
                </a:cubicBezTo>
                <a:cubicBezTo>
                  <a:pt x="5189" y="66"/>
                  <a:pt x="5201" y="59"/>
                  <a:pt x="5212" y="52"/>
                </a:cubicBezTo>
                <a:cubicBezTo>
                  <a:pt x="5273" y="98"/>
                  <a:pt x="5266" y="86"/>
                  <a:pt x="5334" y="63"/>
                </a:cubicBezTo>
                <a:cubicBezTo>
                  <a:pt x="5349" y="74"/>
                  <a:pt x="5363" y="87"/>
                  <a:pt x="5379" y="96"/>
                </a:cubicBezTo>
                <a:cubicBezTo>
                  <a:pt x="5389" y="102"/>
                  <a:pt x="5402" y="101"/>
                  <a:pt x="5412" y="107"/>
                </a:cubicBezTo>
                <a:cubicBezTo>
                  <a:pt x="5415" y="109"/>
                  <a:pt x="5412" y="114"/>
                  <a:pt x="5412" y="118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58840" y="6405480"/>
            <a:ext cx="7856640" cy="542880"/>
          </a:xfrm>
          <a:custGeom>
            <a:avLst/>
            <a:gdLst/>
            <a:ahLst/>
            <a:rect l="l" t="t" r="r" b="b"/>
            <a:pathLst>
              <a:path w="4949" h="342">
                <a:moveTo>
                  <a:pt x="4949" y="287"/>
                </a:moveTo>
                <a:cubicBezTo>
                  <a:pt x="4934" y="204"/>
                  <a:pt x="4941" y="213"/>
                  <a:pt x="4882" y="165"/>
                </a:cubicBezTo>
                <a:cubicBezTo>
                  <a:pt x="4874" y="158"/>
                  <a:pt x="4869" y="147"/>
                  <a:pt x="4860" y="142"/>
                </a:cubicBezTo>
                <a:cubicBezTo>
                  <a:pt x="4829" y="126"/>
                  <a:pt x="4793" y="120"/>
                  <a:pt x="4760" y="109"/>
                </a:cubicBezTo>
                <a:cubicBezTo>
                  <a:pt x="4749" y="105"/>
                  <a:pt x="4726" y="98"/>
                  <a:pt x="4726" y="98"/>
                </a:cubicBezTo>
                <a:cubicBezTo>
                  <a:pt x="4653" y="122"/>
                  <a:pt x="4667" y="177"/>
                  <a:pt x="4648" y="242"/>
                </a:cubicBezTo>
                <a:cubicBezTo>
                  <a:pt x="4645" y="253"/>
                  <a:pt x="4647" y="269"/>
                  <a:pt x="4637" y="276"/>
                </a:cubicBezTo>
                <a:cubicBezTo>
                  <a:pt x="4618" y="290"/>
                  <a:pt x="4571" y="298"/>
                  <a:pt x="4571" y="298"/>
                </a:cubicBezTo>
                <a:cubicBezTo>
                  <a:pt x="4538" y="294"/>
                  <a:pt x="4492" y="313"/>
                  <a:pt x="4471" y="287"/>
                </a:cubicBezTo>
                <a:cubicBezTo>
                  <a:pt x="4445" y="256"/>
                  <a:pt x="4469" y="205"/>
                  <a:pt x="4460" y="165"/>
                </a:cubicBezTo>
                <a:cubicBezTo>
                  <a:pt x="4452" y="132"/>
                  <a:pt x="4386" y="129"/>
                  <a:pt x="4360" y="120"/>
                </a:cubicBezTo>
                <a:cubicBezTo>
                  <a:pt x="4279" y="140"/>
                  <a:pt x="4303" y="173"/>
                  <a:pt x="4293" y="265"/>
                </a:cubicBezTo>
                <a:cubicBezTo>
                  <a:pt x="4249" y="261"/>
                  <a:pt x="4201" y="272"/>
                  <a:pt x="4160" y="254"/>
                </a:cubicBezTo>
                <a:cubicBezTo>
                  <a:pt x="4084" y="221"/>
                  <a:pt x="4139" y="166"/>
                  <a:pt x="4093" y="120"/>
                </a:cubicBezTo>
                <a:cubicBezTo>
                  <a:pt x="4052" y="79"/>
                  <a:pt x="4075" y="92"/>
                  <a:pt x="4026" y="76"/>
                </a:cubicBezTo>
                <a:cubicBezTo>
                  <a:pt x="4000" y="80"/>
                  <a:pt x="3969" y="71"/>
                  <a:pt x="3948" y="87"/>
                </a:cubicBezTo>
                <a:cubicBezTo>
                  <a:pt x="3929" y="101"/>
                  <a:pt x="3933" y="132"/>
                  <a:pt x="3926" y="154"/>
                </a:cubicBezTo>
                <a:cubicBezTo>
                  <a:pt x="3922" y="165"/>
                  <a:pt x="3915" y="187"/>
                  <a:pt x="3915" y="187"/>
                </a:cubicBezTo>
                <a:cubicBezTo>
                  <a:pt x="3898" y="326"/>
                  <a:pt x="3904" y="301"/>
                  <a:pt x="3759" y="287"/>
                </a:cubicBezTo>
                <a:cubicBezTo>
                  <a:pt x="3702" y="268"/>
                  <a:pt x="3632" y="226"/>
                  <a:pt x="3593" y="176"/>
                </a:cubicBezTo>
                <a:cubicBezTo>
                  <a:pt x="3576" y="155"/>
                  <a:pt x="3570" y="124"/>
                  <a:pt x="3548" y="109"/>
                </a:cubicBezTo>
                <a:cubicBezTo>
                  <a:pt x="3537" y="102"/>
                  <a:pt x="3515" y="100"/>
                  <a:pt x="3515" y="87"/>
                </a:cubicBezTo>
                <a:cubicBezTo>
                  <a:pt x="3515" y="75"/>
                  <a:pt x="3537" y="93"/>
                  <a:pt x="3548" y="98"/>
                </a:cubicBezTo>
                <a:cubicBezTo>
                  <a:pt x="3644" y="139"/>
                  <a:pt x="3549" y="105"/>
                  <a:pt x="3626" y="131"/>
                </a:cubicBezTo>
                <a:cubicBezTo>
                  <a:pt x="3609" y="63"/>
                  <a:pt x="3605" y="59"/>
                  <a:pt x="3537" y="76"/>
                </a:cubicBezTo>
                <a:cubicBezTo>
                  <a:pt x="3524" y="116"/>
                  <a:pt x="3522" y="173"/>
                  <a:pt x="3504" y="209"/>
                </a:cubicBezTo>
                <a:cubicBezTo>
                  <a:pt x="3497" y="223"/>
                  <a:pt x="3485" y="234"/>
                  <a:pt x="3471" y="242"/>
                </a:cubicBezTo>
                <a:cubicBezTo>
                  <a:pt x="3450" y="254"/>
                  <a:pt x="3404" y="265"/>
                  <a:pt x="3404" y="265"/>
                </a:cubicBezTo>
                <a:cubicBezTo>
                  <a:pt x="3360" y="261"/>
                  <a:pt x="3312" y="271"/>
                  <a:pt x="3271" y="254"/>
                </a:cubicBezTo>
                <a:cubicBezTo>
                  <a:pt x="3258" y="249"/>
                  <a:pt x="3286" y="232"/>
                  <a:pt x="3293" y="220"/>
                </a:cubicBezTo>
                <a:cubicBezTo>
                  <a:pt x="3322" y="169"/>
                  <a:pt x="3332" y="170"/>
                  <a:pt x="3371" y="131"/>
                </a:cubicBezTo>
                <a:cubicBezTo>
                  <a:pt x="3381" y="102"/>
                  <a:pt x="3397" y="73"/>
                  <a:pt x="3371" y="42"/>
                </a:cubicBezTo>
                <a:cubicBezTo>
                  <a:pt x="3361" y="30"/>
                  <a:pt x="3341" y="35"/>
                  <a:pt x="3326" y="31"/>
                </a:cubicBezTo>
                <a:cubicBezTo>
                  <a:pt x="3311" y="24"/>
                  <a:pt x="3298" y="11"/>
                  <a:pt x="3282" y="9"/>
                </a:cubicBezTo>
                <a:cubicBezTo>
                  <a:pt x="3193" y="0"/>
                  <a:pt x="3197" y="65"/>
                  <a:pt x="3159" y="120"/>
                </a:cubicBezTo>
                <a:cubicBezTo>
                  <a:pt x="3151" y="161"/>
                  <a:pt x="3157" y="206"/>
                  <a:pt x="3137" y="242"/>
                </a:cubicBezTo>
                <a:cubicBezTo>
                  <a:pt x="3125" y="265"/>
                  <a:pt x="3100" y="279"/>
                  <a:pt x="3082" y="298"/>
                </a:cubicBezTo>
                <a:cubicBezTo>
                  <a:pt x="3063" y="317"/>
                  <a:pt x="3015" y="342"/>
                  <a:pt x="3015" y="342"/>
                </a:cubicBezTo>
                <a:cubicBezTo>
                  <a:pt x="2945" y="274"/>
                  <a:pt x="2964" y="313"/>
                  <a:pt x="2948" y="231"/>
                </a:cubicBezTo>
                <a:cubicBezTo>
                  <a:pt x="2935" y="79"/>
                  <a:pt x="2967" y="86"/>
                  <a:pt x="2837" y="65"/>
                </a:cubicBezTo>
                <a:cubicBezTo>
                  <a:pt x="2826" y="69"/>
                  <a:pt x="2807" y="65"/>
                  <a:pt x="2804" y="76"/>
                </a:cubicBezTo>
                <a:cubicBezTo>
                  <a:pt x="2798" y="96"/>
                  <a:pt x="2818" y="152"/>
                  <a:pt x="2826" y="176"/>
                </a:cubicBezTo>
                <a:cubicBezTo>
                  <a:pt x="2791" y="229"/>
                  <a:pt x="2817" y="205"/>
                  <a:pt x="2737" y="231"/>
                </a:cubicBezTo>
                <a:cubicBezTo>
                  <a:pt x="2726" y="235"/>
                  <a:pt x="2704" y="242"/>
                  <a:pt x="2704" y="242"/>
                </a:cubicBezTo>
                <a:cubicBezTo>
                  <a:pt x="2667" y="233"/>
                  <a:pt x="2647" y="236"/>
                  <a:pt x="2626" y="198"/>
                </a:cubicBezTo>
                <a:cubicBezTo>
                  <a:pt x="2615" y="177"/>
                  <a:pt x="2624" y="144"/>
                  <a:pt x="2604" y="131"/>
                </a:cubicBezTo>
                <a:cubicBezTo>
                  <a:pt x="2557" y="101"/>
                  <a:pt x="2583" y="112"/>
                  <a:pt x="2526" y="98"/>
                </a:cubicBezTo>
                <a:cubicBezTo>
                  <a:pt x="2502" y="171"/>
                  <a:pt x="2469" y="232"/>
                  <a:pt x="2404" y="276"/>
                </a:cubicBezTo>
                <a:cubicBezTo>
                  <a:pt x="2382" y="272"/>
                  <a:pt x="2354" y="280"/>
                  <a:pt x="2337" y="265"/>
                </a:cubicBezTo>
                <a:cubicBezTo>
                  <a:pt x="2319" y="250"/>
                  <a:pt x="2315" y="198"/>
                  <a:pt x="2315" y="198"/>
                </a:cubicBezTo>
                <a:cubicBezTo>
                  <a:pt x="2311" y="168"/>
                  <a:pt x="2313" y="138"/>
                  <a:pt x="2304" y="109"/>
                </a:cubicBezTo>
                <a:cubicBezTo>
                  <a:pt x="2294" y="76"/>
                  <a:pt x="2231" y="74"/>
                  <a:pt x="2204" y="65"/>
                </a:cubicBezTo>
                <a:cubicBezTo>
                  <a:pt x="2161" y="187"/>
                  <a:pt x="2182" y="108"/>
                  <a:pt x="2170" y="309"/>
                </a:cubicBezTo>
                <a:cubicBezTo>
                  <a:pt x="2103" y="298"/>
                  <a:pt x="2062" y="291"/>
                  <a:pt x="2015" y="242"/>
                </a:cubicBezTo>
                <a:cubicBezTo>
                  <a:pt x="1989" y="163"/>
                  <a:pt x="2029" y="170"/>
                  <a:pt x="2093" y="154"/>
                </a:cubicBezTo>
                <a:cubicBezTo>
                  <a:pt x="2085" y="128"/>
                  <a:pt x="2093" y="90"/>
                  <a:pt x="2070" y="76"/>
                </a:cubicBezTo>
                <a:cubicBezTo>
                  <a:pt x="2022" y="47"/>
                  <a:pt x="1958" y="68"/>
                  <a:pt x="1904" y="54"/>
                </a:cubicBezTo>
                <a:cubicBezTo>
                  <a:pt x="1882" y="58"/>
                  <a:pt x="1857" y="54"/>
                  <a:pt x="1837" y="65"/>
                </a:cubicBezTo>
                <a:cubicBezTo>
                  <a:pt x="1827" y="71"/>
                  <a:pt x="1826" y="86"/>
                  <a:pt x="1826" y="98"/>
                </a:cubicBezTo>
                <a:cubicBezTo>
                  <a:pt x="1826" y="173"/>
                  <a:pt x="1831" y="179"/>
                  <a:pt x="1848" y="231"/>
                </a:cubicBezTo>
                <a:cubicBezTo>
                  <a:pt x="1817" y="263"/>
                  <a:pt x="1791" y="265"/>
                  <a:pt x="1748" y="276"/>
                </a:cubicBezTo>
                <a:cubicBezTo>
                  <a:pt x="1700" y="324"/>
                  <a:pt x="1696" y="321"/>
                  <a:pt x="1659" y="265"/>
                </a:cubicBezTo>
                <a:cubicBezTo>
                  <a:pt x="1620" y="143"/>
                  <a:pt x="1682" y="324"/>
                  <a:pt x="1626" y="198"/>
                </a:cubicBezTo>
                <a:cubicBezTo>
                  <a:pt x="1590" y="116"/>
                  <a:pt x="1632" y="140"/>
                  <a:pt x="1570" y="120"/>
                </a:cubicBezTo>
                <a:cubicBezTo>
                  <a:pt x="1513" y="139"/>
                  <a:pt x="1512" y="174"/>
                  <a:pt x="1493" y="231"/>
                </a:cubicBezTo>
                <a:cubicBezTo>
                  <a:pt x="1484" y="257"/>
                  <a:pt x="1426" y="276"/>
                  <a:pt x="1426" y="276"/>
                </a:cubicBezTo>
                <a:cubicBezTo>
                  <a:pt x="1450" y="240"/>
                  <a:pt x="1478" y="217"/>
                  <a:pt x="1493" y="176"/>
                </a:cubicBezTo>
                <a:cubicBezTo>
                  <a:pt x="1463" y="147"/>
                  <a:pt x="1428" y="143"/>
                  <a:pt x="1392" y="120"/>
                </a:cubicBezTo>
                <a:cubicBezTo>
                  <a:pt x="1385" y="131"/>
                  <a:pt x="1373" y="141"/>
                  <a:pt x="1370" y="154"/>
                </a:cubicBezTo>
                <a:cubicBezTo>
                  <a:pt x="1341" y="271"/>
                  <a:pt x="1397" y="241"/>
                  <a:pt x="1326" y="265"/>
                </a:cubicBezTo>
                <a:cubicBezTo>
                  <a:pt x="1307" y="261"/>
                  <a:pt x="1287" y="262"/>
                  <a:pt x="1270" y="254"/>
                </a:cubicBezTo>
                <a:cubicBezTo>
                  <a:pt x="1231" y="237"/>
                  <a:pt x="1214" y="161"/>
                  <a:pt x="1204" y="131"/>
                </a:cubicBezTo>
                <a:cubicBezTo>
                  <a:pt x="1195" y="103"/>
                  <a:pt x="1087" y="83"/>
                  <a:pt x="1059" y="76"/>
                </a:cubicBezTo>
                <a:cubicBezTo>
                  <a:pt x="1052" y="87"/>
                  <a:pt x="1047" y="101"/>
                  <a:pt x="1037" y="109"/>
                </a:cubicBezTo>
                <a:cubicBezTo>
                  <a:pt x="1028" y="116"/>
                  <a:pt x="1010" y="110"/>
                  <a:pt x="1004" y="120"/>
                </a:cubicBezTo>
                <a:cubicBezTo>
                  <a:pt x="993" y="136"/>
                  <a:pt x="997" y="158"/>
                  <a:pt x="992" y="176"/>
                </a:cubicBezTo>
                <a:cubicBezTo>
                  <a:pt x="974" y="242"/>
                  <a:pt x="951" y="297"/>
                  <a:pt x="881" y="320"/>
                </a:cubicBezTo>
                <a:cubicBezTo>
                  <a:pt x="794" y="291"/>
                  <a:pt x="845" y="147"/>
                  <a:pt x="826" y="76"/>
                </a:cubicBezTo>
                <a:cubicBezTo>
                  <a:pt x="822" y="60"/>
                  <a:pt x="796" y="61"/>
                  <a:pt x="781" y="54"/>
                </a:cubicBezTo>
                <a:cubicBezTo>
                  <a:pt x="709" y="78"/>
                  <a:pt x="740" y="124"/>
                  <a:pt x="748" y="198"/>
                </a:cubicBezTo>
                <a:cubicBezTo>
                  <a:pt x="744" y="220"/>
                  <a:pt x="748" y="245"/>
                  <a:pt x="737" y="265"/>
                </a:cubicBezTo>
                <a:cubicBezTo>
                  <a:pt x="731" y="275"/>
                  <a:pt x="716" y="276"/>
                  <a:pt x="704" y="276"/>
                </a:cubicBezTo>
                <a:cubicBezTo>
                  <a:pt x="652" y="276"/>
                  <a:pt x="600" y="269"/>
                  <a:pt x="548" y="265"/>
                </a:cubicBezTo>
                <a:cubicBezTo>
                  <a:pt x="541" y="254"/>
                  <a:pt x="479" y="144"/>
                  <a:pt x="537" y="231"/>
                </a:cubicBezTo>
                <a:cubicBezTo>
                  <a:pt x="568" y="226"/>
                  <a:pt x="620" y="234"/>
                  <a:pt x="626" y="187"/>
                </a:cubicBezTo>
                <a:cubicBezTo>
                  <a:pt x="629" y="159"/>
                  <a:pt x="620" y="123"/>
                  <a:pt x="592" y="109"/>
                </a:cubicBezTo>
                <a:cubicBezTo>
                  <a:pt x="571" y="99"/>
                  <a:pt x="526" y="87"/>
                  <a:pt x="526" y="87"/>
                </a:cubicBezTo>
                <a:cubicBezTo>
                  <a:pt x="420" y="100"/>
                  <a:pt x="417" y="106"/>
                  <a:pt x="292" y="87"/>
                </a:cubicBezTo>
                <a:cubicBezTo>
                  <a:pt x="247" y="80"/>
                  <a:pt x="204" y="61"/>
                  <a:pt x="159" y="54"/>
                </a:cubicBezTo>
                <a:cubicBezTo>
                  <a:pt x="118" y="58"/>
                  <a:pt x="77" y="57"/>
                  <a:pt x="37" y="65"/>
                </a:cubicBezTo>
                <a:cubicBezTo>
                  <a:pt x="0" y="73"/>
                  <a:pt x="3" y="78"/>
                  <a:pt x="3" y="98"/>
                </a:cubicBezTo>
              </a:path>
            </a:pathLst>
          </a:custGeom>
          <a:solidFill>
            <a:srgbClr val="66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Algas que se establecen en Lagunas de Estabilización Facult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447920" y="1752480"/>
          <a:ext cx="59436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5943600" cy="480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75" name="chlorella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898560" cy="990720"/>
          </a:xfrm>
          <a:prstGeom prst="rect">
            <a:avLst/>
          </a:prstGeom>
          <a:ln w="0">
            <a:noFill/>
          </a:ln>
        </p:spPr>
      </p:pic>
      <p:pic>
        <p:nvPicPr>
          <p:cNvPr id="176" name="anabaena" descr=""/>
          <p:cNvPicPr/>
          <p:nvPr/>
        </p:nvPicPr>
        <p:blipFill>
          <a:blip r:embed="rId4"/>
          <a:stretch/>
        </p:blipFill>
        <p:spPr>
          <a:xfrm>
            <a:off x="7467480" y="4800600"/>
            <a:ext cx="1371600" cy="1046160"/>
          </a:xfrm>
          <a:prstGeom prst="rect">
            <a:avLst/>
          </a:prstGeom>
          <a:ln w="0">
            <a:noFill/>
          </a:ln>
        </p:spPr>
      </p:pic>
      <p:pic>
        <p:nvPicPr>
          <p:cNvPr id="177" name="chlamydomonas" descr=""/>
          <p:cNvPicPr/>
          <p:nvPr/>
        </p:nvPicPr>
        <p:blipFill>
          <a:blip r:embed="rId5"/>
          <a:stretch/>
        </p:blipFill>
        <p:spPr>
          <a:xfrm>
            <a:off x="7543800" y="1752480"/>
            <a:ext cx="1371600" cy="1060560"/>
          </a:xfrm>
          <a:prstGeom prst="rect">
            <a:avLst/>
          </a:prstGeom>
          <a:ln w="0">
            <a:noFill/>
          </a:ln>
        </p:spPr>
      </p:pic>
      <p:pic>
        <p:nvPicPr>
          <p:cNvPr id="178" name="euglena2" descr=""/>
          <p:cNvPicPr/>
          <p:nvPr/>
        </p:nvPicPr>
        <p:blipFill>
          <a:blip r:embed="rId6"/>
          <a:stretch/>
        </p:blipFill>
        <p:spPr>
          <a:xfrm>
            <a:off x="228600" y="3124080"/>
            <a:ext cx="1143000" cy="524160"/>
          </a:xfrm>
          <a:prstGeom prst="rect">
            <a:avLst/>
          </a:prstGeom>
          <a:ln w="0">
            <a:noFill/>
          </a:ln>
        </p:spPr>
      </p:pic>
      <p:pic>
        <p:nvPicPr>
          <p:cNvPr id="179" name="scenedesmus2_small" descr=""/>
          <p:cNvPicPr/>
          <p:nvPr/>
        </p:nvPicPr>
        <p:blipFill>
          <a:blip r:embed="rId7"/>
          <a:stretch/>
        </p:blipFill>
        <p:spPr>
          <a:xfrm>
            <a:off x="7661160" y="3429000"/>
            <a:ext cx="104148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hacus2_small" descr=""/>
          <p:cNvPicPr/>
          <p:nvPr/>
        </p:nvPicPr>
        <p:blipFill>
          <a:blip r:embed="rId8"/>
          <a:stretch/>
        </p:blipFill>
        <p:spPr>
          <a:xfrm>
            <a:off x="228600" y="3886200"/>
            <a:ext cx="988920" cy="1143000"/>
          </a:xfrm>
          <a:prstGeom prst="rect">
            <a:avLst/>
          </a:prstGeom>
          <a:ln w="0">
            <a:noFill/>
          </a:ln>
        </p:spPr>
      </p:pic>
      <p:pic>
        <p:nvPicPr>
          <p:cNvPr id="181" name="chloroccoccus_10" descr=""/>
          <p:cNvPicPr/>
          <p:nvPr/>
        </p:nvPicPr>
        <p:blipFill>
          <a:blip r:embed="rId9"/>
          <a:stretch/>
        </p:blipFill>
        <p:spPr>
          <a:xfrm>
            <a:off x="228600" y="5257800"/>
            <a:ext cx="1143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blem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stemas frágiles afectados por factores (i) 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trolables y (ii)controlab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i) no controlables clima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mperatura, radiación solar, horas de sol, viento, 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(ii) operacional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udal, profundidad, periodo de retención hidráulico, cortocircuitos, puntos muer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ado de “salud” de las alg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Controles biológic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imación de la biomasa de al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terminación de clorofila </a:t>
            </a: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u relación con la feofitina : </a:t>
            </a:r>
            <a:r>
              <a:rPr b="0" lang="es-ES_tradnl" sz="2800" spc="-1" strike="noStrike">
                <a:solidFill>
                  <a:srgbClr val="ffff99"/>
                </a:solidFill>
                <a:latin typeface="Arial"/>
              </a:rPr>
              <a:t>de 1.6 a 1.0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indica inestabilidad de las al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(Feofitina: clorofila que ha perdido actividad fotosintétic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ficienci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ción materia orgánica: Buena, per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ción de Nutrientes : N y P, buena, pero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ción de patógenas buena, siempre y cuando el periodo de retención del agua en el sistema sea de 25 días; se consigue con tres lagunas operando en ser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Factores que influyen en la reducción de los patógen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tiempo de permanencia del agua en el sist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radiación so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sedime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alto pH y variaciones diar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competencia por los nutr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predación por protozoos y microinverteb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toxi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bacteriófa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000000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lagunas%20pH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4390920" cy="6705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14400" y="2971800"/>
            <a:ext cx="2590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fec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l p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remo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bacte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testinales (C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chlorella" descr=""/>
          <p:cNvPicPr/>
          <p:nvPr/>
        </p:nvPicPr>
        <p:blipFill>
          <a:blip r:embed="rId2"/>
          <a:stretch/>
        </p:blipFill>
        <p:spPr>
          <a:xfrm>
            <a:off x="1295280" y="533520"/>
            <a:ext cx="1451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Remoción de patógenos en LEF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ism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ducción (Log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3 celdas en ser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25 días P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 - 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9,99 -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 - 6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9,9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tozo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elmin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205740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5791320"/>
            <a:ext cx="8001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3429000"/>
            <a:ext cx="777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iofiltro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Remoción de patógenos en LEF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ism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ducción (Log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cel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7 días P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 -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0 -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tozo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0.5- 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0 - 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elmin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0 - 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0 - 9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057400"/>
            <a:ext cx="7620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5791320"/>
            <a:ext cx="8001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429000"/>
            <a:ext cx="7772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Laguna%202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laguna%204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41960" cy="2318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71760" y="32907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2743200"/>
            <a:ext cx="28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ie de 3 Lagun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Laguna%205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4443120" cy="3141720"/>
          </a:xfrm>
          <a:prstGeom prst="rect">
            <a:avLst/>
          </a:prstGeom>
          <a:ln w="0">
            <a:noFill/>
          </a:ln>
        </p:spPr>
      </p:pic>
      <p:pic>
        <p:nvPicPr>
          <p:cNvPr id="227" name="laguna-1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36576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Arial"/>
              </a:rPr>
              <a:t>Microbiología de los Biofiltro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Consorcio de organismos que  remueven  materia orgánica y 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Bacterias heterótrofas aerobias en superficie y anóxicas y anaerobias en profundidad forman biofilms sobre el medio filtrante, acompañadas de otros micro y macrofau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El perfil de organismos del film sobre el medio filtrante muestra : (i) en superficie,  micro y macro fauna (macroinvertebrados); (ii) en la zona intermedia, diversoso tipos de algas  y (iii) en la zona profunda bacterias,  protozoos y otros organismos adheridos al material filtrante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Las bacterias y protozoos son los mismos que aparecen en los lodos activado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El film se va auto regenerando periódic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El efluente del filtro pasa a a un decantador secundario donde se separa del sólido. Los lodos generados se tratan en digestor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y también pueden sufrir bul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efefe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876560" cy="6400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895480" y="3429000"/>
            <a:ext cx="3013200" cy="355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Corte vertical de capa de biofil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sobre material filtrante</a:t>
            </a:r>
            <a:r>
              <a:rPr b="1" lang="es-ES_tradnl" sz="1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990720"/>
            <a:ext cx="1828800" cy="185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Corte vertica biofiltr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ficiencia del sistem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remoción de DBO y SS, algo menor que lodos activados (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eliminación de patógenos es baja. Gran parte pasan del agua al l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zona intermedia y profunda del filtro hay cierto grado de nitrificación-denitrificación, de ahí que los efluentes contengan menos N-amoniacal que LA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Trickling-Filter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10" name="cww_trickle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4419720" cy="2968560"/>
          </a:xfrm>
          <a:prstGeom prst="rect">
            <a:avLst/>
          </a:prstGeom>
          <a:ln w="0">
            <a:noFill/>
          </a:ln>
        </p:spPr>
      </p:pic>
      <p:pic>
        <p:nvPicPr>
          <p:cNvPr id="111" name="Plant_filter%20Overview_2_-590" descr=""/>
          <p:cNvPicPr/>
          <p:nvPr/>
        </p:nvPicPr>
        <p:blipFill>
          <a:blip r:embed="rId3"/>
          <a:stretch/>
        </p:blipFill>
        <p:spPr>
          <a:xfrm>
            <a:off x="304920" y="4008600"/>
            <a:ext cx="44956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0000"/>
            </a:gs>
            <a:gs pos="100000">
              <a:srgbClr val="33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Arial"/>
              </a:rPr>
              <a:t>Remoción de Patógenos en Biofiltr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rganism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ducción (Log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ru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 - 1.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0 - 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cteri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 - 1.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0 - 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tozo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0.5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elmi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caris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70 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n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N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0 - 9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000000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Lagunas de Estabilización Facultativa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stema muy antiguo para tratar aguas serv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siste en un estanque construido en la tierra,de 1.5 a 2 m de profundidad, donde se agrega un caudal continuo de aguas servidas, durante tiempo de retención fijado en el diseñ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 más usual es la construcción de tres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que se operan en serie o paralelo, con un periodo de retención hidráulico de a lo menos 25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3" name="laguna%20facultativa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11:14Z</dcterms:created>
  <dc:creator>Gabriela Castillo</dc:creator>
  <dc:description/>
  <dc:language>en-US</dc:language>
  <cp:lastModifiedBy>Gabriela Castillo</cp:lastModifiedBy>
  <dcterms:modified xsi:type="dcterms:W3CDTF">2004-11-09T03:48:45Z</dcterms:modified>
  <cp:revision>78</cp:revision>
  <dc:subject/>
  <dc:title>Sin título de diapositiva</dc:title>
</cp:coreProperties>
</file>