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1E8C-2625-4BC5-9070-14CE41A31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DFD8-47CB-498B-AC52-BD1477FF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3D34-CDAB-4370-9A38-327E9E2E6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985F-AE58-42C6-BC35-F78FD8895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4BB9-3D20-4DBD-859F-D7966CCA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23E5-DA4A-41CB-AE5D-50376586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4A57-DEE5-454A-AAA3-ED77A1DF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4044-DB3B-4885-AF94-565CA855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A0A6-09DE-41BA-9470-A5844AA3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449E-F104-4BC9-80A5-F7D6605C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E562-3697-4001-AB24-25825B63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3007-FD1F-47D2-A086-EA73134A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F986-8C62-4B87-9332-683AA1971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343400" y="685800"/>
          <a:ext cx="4495680" cy="33544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685800"/>
                    <a:ext cx="4495680" cy="33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Tratamiento de Lo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igestión Anaerób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igestión Aerób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32004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Digestor%20anaerobio" descr=""/>
          <p:cNvPicPr/>
          <p:nvPr/>
        </p:nvPicPr>
        <p:blipFill>
          <a:blip r:embed="rId3"/>
          <a:stretch/>
        </p:blipFill>
        <p:spPr>
          <a:xfrm>
            <a:off x="4419720" y="4444920"/>
            <a:ext cx="44193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Desventajas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809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oceso más lento que la digestión aeróbica (30-45 dí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istema de operación compleja por ser muy sensible a los tóx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uesta en marcha requiere un largo período de aclima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Comic Sans MS"/>
              </a:rPr>
              <a:t>Microbiología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stos residuos son fermentados exclusivamente por bacterias, anaerobias facultativas y estrictas, en 3 etap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(i)  Hidró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(ii) Síntesis de ácidos orgánicos de bajo 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(iii) Producción de met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Las dos primeras etapas son conocidas como “no metanogénicas” y la última como “metanogé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Microbiología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sorcio de bacterias anaerobias que inter actúan sinergísticamente en 3 (4) etapas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acterias (1) Hidrolíticas, (2) Fermentativas Acidogénicas, (3) Acetogénicas, (4) Metanóge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oducto fin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ateria orgánica </a:t>
            </a:r>
            <a:r>
              <a:rPr b="0" lang="es-ES_tradn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+ N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2f17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Factores que controlan la Digestión Anaeróbica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iempo de R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mposición Química del agua servi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mpetencia de las bacterias metanógenas con las sulfato reduct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óxicos: O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, amonio, hidrocarburos clorados, ácidos volátiles, metales pesados, cianuros, sulfuros, taninos, salinidad, 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Microbiología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2133720"/>
            <a:ext cx="79246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(i) 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Hidrólisis bacteriana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Materia orgánica comple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(ii) 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Fermentación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Monóm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acetogénica bacteriana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Glucosa, Aminoácidos, Acidos Gra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Bacterias acetogénicas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ffffff"/>
                </a:solidFill>
                <a:latin typeface="Arial"/>
              </a:rPr>
              <a:t>Acidos orgánicos, Alcoholes y Ceto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sz="1400" spc="-1" strike="noStrike">
                <a:solidFill>
                  <a:srgbClr val="ffffff"/>
                </a:solidFill>
                <a:latin typeface="Arial"/>
              </a:rPr>
              <a:t>Acetato y CO2 + H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(iii)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Metanógenos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sz="1800" spc="-1" strike="noStrike">
                <a:solidFill>
                  <a:srgbClr val="ffffff"/>
                </a:solidFill>
                <a:latin typeface="Arial"/>
              </a:rPr>
              <a:t>Metano, CO2, H2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cc66"/>
                </a:solidFill>
                <a:latin typeface="Arial"/>
              </a:rPr>
              <a:t>(i y ii)  Etapas No metanogénica</a:t>
            </a:r>
            <a:r>
              <a:rPr b="1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sz="1800" spc="-1" strike="noStrike">
                <a:solidFill>
                  <a:srgbClr val="ff9900"/>
                </a:solidFill>
                <a:latin typeface="Arial"/>
              </a:rPr>
              <a:t>(iii)    Etapa metanogé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763120" y="2286000"/>
            <a:ext cx="0" cy="266688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4495680"/>
            <a:ext cx="7239240" cy="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066320" y="2209680"/>
            <a:ext cx="7696440" cy="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2209680"/>
            <a:ext cx="0" cy="228600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4495680"/>
            <a:ext cx="0" cy="5335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5029200"/>
            <a:ext cx="72392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Microbiología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c66"/>
                </a:solidFill>
                <a:latin typeface="Comic Sans MS"/>
              </a:rPr>
              <a:t>1. Hidrólisis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. Alta concentración de bacterias anaerobias facultativas “proteolíticas” (10</a:t>
            </a:r>
            <a:r>
              <a:rPr b="0" lang="es-ES_tradnl" sz="2200" spc="-1" strike="noStrike" baseline="30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 - 10</a:t>
            </a:r>
            <a:r>
              <a:rPr b="0" lang="es-ES_tradnl" sz="2200" spc="-1" strike="noStrike" baseline="30000">
                <a:solidFill>
                  <a:srgbClr val="ffffff"/>
                </a:solidFill>
                <a:latin typeface="Comic Sans MS"/>
              </a:rPr>
              <a:t>8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 ml</a:t>
            </a:r>
            <a:r>
              <a:rPr b="0" lang="es-ES_tradnl" sz="22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), de los géneros </a:t>
            </a:r>
            <a:r>
              <a:rPr b="0" i="1" lang="es-ES_tradnl" sz="2200" spc="-1" strike="noStrike">
                <a:solidFill>
                  <a:srgbClr val="ffffff"/>
                </a:solidFill>
                <a:latin typeface="Comic Sans MS"/>
              </a:rPr>
              <a:t>Clostridium, Bacteriodes,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 y algunas formas cocáceas que generan proteasas extracelulares que hidrolizan las proteínas en polipéptidos y aminoácidos, los que posteriormente son asimilados al interior de la célul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Existen también bacterias lipolíticas anaerobias (10</a:t>
            </a:r>
            <a:r>
              <a:rPr b="0" lang="es-ES_tradnl" sz="2200" spc="-1" strike="noStrike" baseline="30000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-10</a:t>
            </a:r>
            <a:r>
              <a:rPr b="0" lang="es-ES_tradnl" sz="2200" spc="-1" strike="noStrike" baseline="30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 ml</a:t>
            </a:r>
            <a:r>
              <a:rPr b="0" lang="es-ES_tradnl" sz="22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) que hidrolizan los lípidos a ácidos grasos orgánicos de cadena cor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Bacterias celulolíticas anaerobias estrictas (10</a:t>
            </a:r>
            <a:r>
              <a:rPr b="0" lang="es-ES_tradnl" sz="2200" spc="-1" strike="noStrike" baseline="30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 ml</a:t>
            </a:r>
            <a:r>
              <a:rPr b="0" lang="es-ES_tradnl" sz="22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) que degradan la celulosas y hemicelulosa a almid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Estas asociaciones bacterianas se conocen por su funcionalidad, ya que son difíciles de aislar y cultivar por métodos convencion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Comic Sans MS"/>
              </a:rPr>
              <a:t>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Microbiología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c66"/>
                </a:solidFill>
                <a:latin typeface="Comic Sans MS"/>
              </a:rPr>
              <a:t>2. Formación de ácidos orgánicos. </a:t>
            </a: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En esta etapa se produce un gran incremento de bacterias anaerobias estrictas no metanogénicas (10</a:t>
            </a:r>
            <a:r>
              <a:rPr b="0" lang="es-ES_tradnl" sz="2200" spc="-1" strike="noStrike" baseline="30000">
                <a:solidFill>
                  <a:srgbClr val="ffffcc"/>
                </a:solidFill>
                <a:latin typeface="Comic Sans MS"/>
              </a:rPr>
              <a:t>8</a:t>
            </a: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-10</a:t>
            </a:r>
            <a:r>
              <a:rPr b="0" lang="es-ES_tradnl" sz="2200" spc="-1" strike="noStrike" baseline="30000">
                <a:solidFill>
                  <a:srgbClr val="ffffcc"/>
                </a:solidFill>
                <a:latin typeface="Comic Sans MS"/>
              </a:rPr>
              <a:t>10</a:t>
            </a: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 ml</a:t>
            </a:r>
            <a:r>
              <a:rPr b="0" lang="es-ES_tradnl" sz="2200" spc="-1" strike="noStrike" baseline="30000">
                <a:solidFill>
                  <a:srgbClr val="ffffcc"/>
                </a:solidFill>
                <a:latin typeface="Comic Sans MS"/>
              </a:rPr>
              <a:t>-1</a:t>
            </a: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De taxonomía compleja y poco conocida (bacilos gram negativos no esporul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Productos de su metabolismo son variados: ácidos orgánicos, CO</a:t>
            </a:r>
            <a:r>
              <a:rPr b="0" lang="es-ES_tradnl" sz="2200" spc="-1" strike="noStrike" baseline="-25000">
                <a:solidFill>
                  <a:srgbClr val="ffffcc"/>
                </a:solidFill>
                <a:latin typeface="Comic Sans MS"/>
              </a:rPr>
              <a:t>2</a:t>
            </a: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, amoníaco, alcoholes, cetonas, H</a:t>
            </a:r>
            <a:r>
              <a:rPr b="0" lang="es-ES_tradnl" sz="2200" spc="-1" strike="noStrike" baseline="-25000">
                <a:solidFill>
                  <a:srgbClr val="ffffcc"/>
                </a:solidFill>
                <a:latin typeface="Comic Sans MS"/>
              </a:rPr>
              <a:t>2</a:t>
            </a: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Compuesto de vida media muy corta ya que son rápidamente recicl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cc"/>
                </a:solidFill>
                <a:latin typeface="Comic Sans MS"/>
              </a:rPr>
              <a:t>También se encuentran bacterias sulfato reductoras, que generan H2S, gas corrosiva, que tiene la ventaja de insolubilizar los met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Microbiología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66"/>
                </a:solidFill>
                <a:latin typeface="Comic Sans MS"/>
              </a:rPr>
              <a:t>3. Generación de Metano.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Gran concentración de bacterias metanogénicas exclusivas (10</a:t>
            </a:r>
            <a:r>
              <a:rPr b="0" lang="es-ES_tradnl" sz="2400" spc="-1" strike="noStrike" baseline="30000">
                <a:solidFill>
                  <a:srgbClr val="ffffcc"/>
                </a:solidFill>
                <a:latin typeface="Comic Sans MS"/>
              </a:rPr>
              <a:t>8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- 10</a:t>
            </a:r>
            <a:r>
              <a:rPr b="0" lang="es-ES_tradnl" sz="2400" spc="-1" strike="noStrike" baseline="30000">
                <a:solidFill>
                  <a:srgbClr val="ffffcc"/>
                </a:solidFill>
                <a:latin typeface="Comic Sans MS"/>
              </a:rPr>
              <a:t>10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ml</a:t>
            </a:r>
            <a:r>
              <a:rPr b="0" lang="es-ES_tradnl" sz="2400" spc="-1" strike="noStrike" baseline="30000">
                <a:solidFill>
                  <a:srgbClr val="ffffcc"/>
                </a:solidFill>
                <a:latin typeface="Comic Sans MS"/>
              </a:rPr>
              <a:t>-1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) anaerobias extrictas, del grupo de las Arqu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Usan como fuente de carbono CO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, CH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OOH, HCO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Son bacterias extremadamente sensibles a trazas de O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Su fisiología poco conocida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Comic Sans MS"/>
              </a:rPr>
              <a:t>,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íficiles de cultivar y ais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Requerimientos ambientales de desarrollo muy estri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Ver Tabla anex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Procesos Metabólicos de generación de Met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839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Fermentación: </a:t>
            </a:r>
            <a:r>
              <a:rPr b="0" lang="es-ES_tradnl" sz="2800" spc="-1" strike="noStrike">
                <a:solidFill>
                  <a:srgbClr val="ffffff"/>
                </a:solidFill>
                <a:latin typeface="Arial Narrow"/>
              </a:rPr>
              <a:t>oxido-reducción de acidos orgán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CH</a:t>
            </a:r>
            <a:r>
              <a:rPr b="0" lang="es-ES_tradnl" sz="2800" spc="-1" strike="noStrike" baseline="-25000">
                <a:solidFill>
                  <a:srgbClr val="ffcc00"/>
                </a:solidFill>
                <a:latin typeface="Arial Narrow"/>
              </a:rPr>
              <a:t>3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-COOH 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          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CH</a:t>
            </a:r>
            <a:r>
              <a:rPr b="0" lang="es-ES_tradnl" sz="2800" spc="-1" strike="noStrike" baseline="-25000">
                <a:solidFill>
                  <a:srgbClr val="ffcc00"/>
                </a:solidFill>
                <a:latin typeface="Arial Narrow"/>
              </a:rPr>
              <a:t>4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 + CO</a:t>
            </a:r>
            <a:r>
              <a:rPr b="0" lang="es-ES_tradnl" sz="2800" spc="-1" strike="noStrike" baseline="-25000">
                <a:solidFill>
                  <a:srgbClr val="ffcc00"/>
                </a:solidFill>
                <a:latin typeface="Arial Narrow"/>
              </a:rPr>
              <a:t>2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1" lang="es-ES_tradnl" sz="2800" spc="-1" strike="noStrike">
                <a:solidFill>
                  <a:srgbClr val="ffcc00"/>
                </a:solidFill>
                <a:latin typeface="Arial Narrow"/>
              </a:rPr>
              <a:t>2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Respiración anaeróbica: </a:t>
            </a:r>
            <a:r>
              <a:rPr b="0" lang="es-ES_tradnl" sz="2800" spc="-1" strike="noStrike">
                <a:solidFill>
                  <a:srgbClr val="ffffff"/>
                </a:solidFill>
                <a:latin typeface="Arial Narrow"/>
              </a:rPr>
              <a:t>de sustratos inorgánicos reduc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es-ES_tradnl" sz="28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es-ES_tradnl" sz="28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CO</a:t>
            </a:r>
            <a:r>
              <a:rPr b="0" lang="es-ES_tradnl" sz="2800" spc="-1" strike="noStrike" baseline="-25000">
                <a:solidFill>
                  <a:srgbClr val="ffcc00"/>
                </a:solidFill>
                <a:latin typeface="Arial Narrow"/>
              </a:rPr>
              <a:t>2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 + 4H</a:t>
            </a:r>
            <a:r>
              <a:rPr b="0" lang="es-ES_tradnl" sz="2800" spc="-1" strike="noStrike" baseline="-25000">
                <a:solidFill>
                  <a:srgbClr val="ffcc00"/>
                </a:solidFill>
                <a:latin typeface="Arial Narrow"/>
              </a:rPr>
              <a:t>2</a:t>
            </a:r>
            <a:r>
              <a:rPr b="0" lang="es-ES_tradnl" sz="2800" spc="-1" strike="noStrike">
                <a:solidFill>
                  <a:srgbClr val="cc3300"/>
                </a:solidFill>
                <a:latin typeface="Arial Narrow"/>
              </a:rPr>
              <a:t>                 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CH</a:t>
            </a:r>
            <a:r>
              <a:rPr b="0" lang="es-ES_tradnl" sz="2800" spc="-1" strike="noStrike" baseline="-25000">
                <a:solidFill>
                  <a:srgbClr val="ffcc00"/>
                </a:solidFill>
                <a:latin typeface="Arial Narrow"/>
              </a:rPr>
              <a:t>4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 + 2 H</a:t>
            </a:r>
            <a:r>
              <a:rPr b="0" lang="es-ES_tradnl" sz="2800" spc="-1" strike="noStrike" baseline="-25000">
                <a:solidFill>
                  <a:srgbClr val="ffcc00"/>
                </a:solidFill>
                <a:latin typeface="Arial Narrow"/>
              </a:rPr>
              <a:t>2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O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0" lang="es-ES_tradnl" sz="28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1" lang="es-ES_tradnl" sz="2800" spc="-1" strike="noStrike">
                <a:solidFill>
                  <a:srgbClr val="ffcc00"/>
                </a:solidFill>
                <a:latin typeface="Arial Narrow"/>
              </a:rPr>
              <a:t>1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3581280"/>
            <a:ext cx="99036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5029200"/>
            <a:ext cx="99072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%5BMethanobacterium%2520thermoautotrophicum%5D%2520%5BTGCTGCTGCTC%5D" descr=""/>
          <p:cNvPicPr/>
          <p:nvPr/>
        </p:nvPicPr>
        <p:blipFill>
          <a:blip r:embed="rId1"/>
          <a:stretch/>
        </p:blipFill>
        <p:spPr>
          <a:xfrm>
            <a:off x="5562720" y="3429000"/>
            <a:ext cx="3276360" cy="32655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Bacterias Productoras de Met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Narrow"/>
              </a:rPr>
              <a:t>Bacterias ancestrales específicas de sustr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Acetato : </a:t>
            </a:r>
            <a:r>
              <a:rPr b="1" lang="es-ES_tradnl" sz="2400" spc="-1" strike="noStrike">
                <a:solidFill>
                  <a:srgbClr val="ffcc00"/>
                </a:solidFill>
                <a:latin typeface="Arial Narrow"/>
              </a:rPr>
              <a:t>se conocen solo 3 especies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 Narrow"/>
              </a:rPr>
              <a:t>M. barkeri, M. mazei,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 Narrow"/>
              </a:rPr>
              <a:t>M. soehngen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CO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/H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 Narrow"/>
              </a:rPr>
              <a:t>2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: 27 espe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Otros sustr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Metanol 13, Metilaminas 3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Monóxido de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Carbono 2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Formato 1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No usan CO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/H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 Narrow"/>
              </a:rPr>
              <a:t>2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3 espec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Comic Sans MS"/>
              </a:rPr>
              <a:t>Introducción al Tratamiento de Lo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8765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Un lodo de aguas servidas es el producto de la decantación de los sólidos y está compuesto de lodos primarios y secund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Contenido de sólidos totales bajo (1-2%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Contenido de material biodegradable muy alto (DBO 10 g/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De ahí que el tratamiento aeróbico sea muy costo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00"/>
            </a:gs>
            <a:gs pos="100000">
              <a:srgbClr val="99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 Narrow"/>
              </a:rPr>
              <a:t>Requisitos ambientales para el desarrollo de las </a:t>
            </a:r>
            <a:br>
              <a:rPr sz="2800"/>
            </a:br>
            <a:r>
              <a:rPr b="1" lang="es-ES_tradnl" sz="2800" spc="-1" strike="noStrike">
                <a:solidFill>
                  <a:srgbClr val="ffffcc"/>
                </a:solidFill>
                <a:latin typeface="Arial Narrow"/>
              </a:rPr>
              <a:t>bacterias del Met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1447920"/>
            <a:ext cx="7543800" cy="84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Oxígeno libre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Aus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pH óptimo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6.8 - 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Relación C:N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20 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Temperatura: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Mesófilos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25-25°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Termófilos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45 - 55°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Alcalinidad (CaCO</a:t>
            </a:r>
            <a:r>
              <a:rPr b="1" lang="es-ES_tradnl" sz="2400" spc="-1" strike="noStrike" baseline="-25000">
                <a:solidFill>
                  <a:srgbClr val="ffcc66"/>
                </a:solidFill>
                <a:latin typeface="Arial Narrow"/>
              </a:rPr>
              <a:t>3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)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1500 - 3000 mg L</a:t>
            </a:r>
            <a:r>
              <a:rPr b="1" lang="es-ES_tradnl" sz="2400" spc="-1" strike="noStrike" baseline="30000">
                <a:solidFill>
                  <a:srgbClr val="ffcc66"/>
                </a:solidFill>
                <a:latin typeface="Arial Narrow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Acidos Volátiles (CH</a:t>
            </a:r>
            <a:r>
              <a:rPr b="1" lang="es-ES_tradnl" sz="2400" spc="-1" strike="noStrike" baseline="-25000">
                <a:solidFill>
                  <a:srgbClr val="ffcc66"/>
                </a:solidFill>
                <a:latin typeface="Arial Narrow"/>
              </a:rPr>
              <a:t>3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COOH)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&lt; 1000 mg L</a:t>
            </a:r>
            <a:r>
              <a:rPr b="1" lang="es-ES_tradnl" sz="2400" spc="-1" strike="noStrike" baseline="30000">
                <a:solidFill>
                  <a:srgbClr val="ffcc66"/>
                </a:solidFill>
                <a:latin typeface="Arial Narrow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Metales pesados: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&lt; 1 mg L</a:t>
            </a:r>
            <a:r>
              <a:rPr b="1" lang="es-ES_tradnl" sz="2400" spc="-1" strike="noStrike" baseline="30000">
                <a:solidFill>
                  <a:srgbClr val="ffcc66"/>
                </a:solidFill>
                <a:latin typeface="Arial Narrow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Cd-Ni-Cu-Pb-Zn-Cr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ffcc66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ARACTERÍSTICAS MICROBIOLÓG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241280" y="1295280"/>
          <a:ext cx="6419880" cy="4799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1280" y="1295280"/>
                    <a:ext cx="641988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ARACTERÍSTICAS MICROBIOLÓG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62120" y="1144440"/>
          <a:ext cx="7226280" cy="5408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44440"/>
                    <a:ext cx="7226280" cy="54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REMOCIÓN DE PATÓGE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acterias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90%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 orden mag. 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Viru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90 - 99%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 - 2   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toozo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50%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0.5  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cc3300"/>
                </a:solidFill>
                <a:latin typeface="Times New Roman"/>
              </a:rPr>
              <a:t>Tratamiento de Aguas Servidas en Chile*</a:t>
            </a:r>
            <a:br>
              <a:rPr sz="2800"/>
            </a:br>
            <a:r>
              <a:rPr b="1" lang="es-ES_tradnl" sz="2800" spc="-1" strike="noStrike">
                <a:solidFill>
                  <a:srgbClr val="cc3300"/>
                </a:solidFill>
                <a:latin typeface="Times New Roman"/>
              </a:rPr>
              <a:t>Cobertura Nacional: 71,67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2285640"/>
            <a:ext cx="4267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Región    Plantas 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Población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Saneada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  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4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91,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I 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98,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II Región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77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V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94,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V 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26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82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VI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79,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266720" y="1752120"/>
            <a:ext cx="4876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65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Región       Plantas   Poblac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            Saneada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             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VII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14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34,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VIII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23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73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X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15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14,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X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18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56,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XI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5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71,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XII Región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1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10,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R. M.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14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   74,6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78487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5638680"/>
            <a:ext cx="77724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6019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30840" y="586728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Times New Roman"/>
              </a:rPr>
              <a:t>*SISS Dic.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0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Composición de un Lodo de aguas serv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H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5.0 -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BO5 mg/L-1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5.000 - 1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T %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 -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umedad %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85 - 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V  % S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60 - 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rasas % S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5 - 3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Comic Sans MS"/>
              </a:rPr>
              <a:t>Composición de un Lodo de aguas servidas </a:t>
            </a:r>
            <a:r>
              <a:rPr b="1" lang="es-ES_tradnl" sz="2800" spc="-1" strike="noStrike">
                <a:solidFill>
                  <a:srgbClr val="ffcc66"/>
                </a:solidFill>
                <a:latin typeface="Comic Sans MS"/>
              </a:rPr>
              <a:t>(peso sec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roteínas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28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Lípidos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19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Polisacáridos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celulosa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14 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hemicelulosas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 3 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ligninas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19 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76201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istema muy utilizado para estabilizar lodos de aguas serv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rresponde a una serie de procesos biológicos que transforman la materia orgánica en metano (C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) y dióxido de carbono (CO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reducen los sólidos volátiles entre 30% -  6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Esquema de un Digestor Anaerób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digestor" descr=""/>
          <p:cNvPicPr/>
          <p:nvPr/>
        </p:nvPicPr>
        <p:blipFill>
          <a:blip r:embed="rId1"/>
          <a:stretch/>
        </p:blipFill>
        <p:spPr>
          <a:xfrm>
            <a:off x="2057400" y="1909800"/>
            <a:ext cx="5029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99"/>
                </a:solidFill>
                <a:latin typeface="Times New Roman"/>
              </a:rPr>
              <a:t>Ventajas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49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4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No se requiere oxígeno libre. Los organismos degradan la materia orgánica en usando el oxígeno combinado en ell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14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Proceso menos costoso, no requiere suministro de O</a:t>
            </a:r>
            <a:r>
              <a:rPr b="1" lang="es-ES_tradnl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14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Significativa disminución del volumen del lodo estabilizado (3-20 veces menos que los procesos aeróbicos). 50% gas en proceso anaeróbic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5% del carbono orgánico es transformado en biomasa, en el aeróbico, el 50% pasa a biomasa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Comic Sans MS"/>
              </a:rPr>
              <a:t>Ventajas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isminuye el volumen del lodo en un 40 - 50% por formación de g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50 - 55% Metano (C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40 - 45% Dióxido de Carbono (CO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Trazas de N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, 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, H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0000"/>
            </a:gs>
            <a:gs pos="100000">
              <a:srgbClr val="66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Times New Roman"/>
              </a:rPr>
              <a:t>Ventajas de la Digestión Anaerób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543800" cy="426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produce un gas de alto poder calorífico METANO ( 9.000 kcal/m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s-ES_tradn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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de la DB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cepta altas cargas de DQO, es apta para R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eserva la actividad microbiana ante operación discontin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uede degradar xenobióticos y orgánicos naturales recalcitr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02:37:46Z</dcterms:created>
  <dc:creator>Gabriela Castillo</dc:creator>
  <dc:description/>
  <dc:language>en-US</dc:language>
  <cp:lastModifiedBy>Gabriela Castillo</cp:lastModifiedBy>
  <dcterms:modified xsi:type="dcterms:W3CDTF">2004-11-09T08:29:36Z</dcterms:modified>
  <cp:revision>8</cp:revision>
  <dc:subject/>
  <dc:title> Tratamiento de Lodos</dc:title>
</cp:coreProperties>
</file>