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5FC-9EBC-4200-A455-B144AC52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65C-F696-47AA-B768-3C03D53D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47D-E9CD-4E75-8A1D-10EAA1F4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585-DB6B-4084-9640-CE368F87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297-4900-4ADC-A008-3017072B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A35-09E1-47F7-8C69-F055C8AA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9F9-C068-4E6F-8013-8D679F27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E51-930B-4F26-AD96-F4092D55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64C-9D9D-4717-B26E-E4A78ABB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F5B-E9B7-4DF2-B0CB-2A717215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722-3981-4790-A6C2-AA87EBBF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90F-6803-4A8A-8BE5-006EC44B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462A-05ED-43A8-AA70-A02EFE4F9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343400" y="685800"/>
          <a:ext cx="4495680" cy="3354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685800"/>
                    <a:ext cx="449568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Tratamiento de L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igestión Anaerób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gestión Aerób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32004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igestor%20anaerobio" descr=""/>
          <p:cNvPicPr/>
          <p:nvPr/>
        </p:nvPicPr>
        <p:blipFill>
          <a:blip r:embed="rId3"/>
          <a:stretch/>
        </p:blipFill>
        <p:spPr>
          <a:xfrm>
            <a:off x="4419720" y="4444920"/>
            <a:ext cx="4419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Des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ceso más lento que la digestión aeróbica (30-45 dí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 de operación compleja por ser muy sensible a los tóx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esta en marcha requiere un largo período de aclima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tos residuos son fermentados exclusivamente por bacterias, anaerobias facultativas y estrictas, en 3 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)  Hidr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i) Síntesis de ácidos orgánicos de bajo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ii) Producción de met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Las dos primeras etapas son conocidas como “no metanogénicas” y la última como “metano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sorcio de bacterias anaerobias que inter actúan sinergísticamente en 3 (4) etapas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acterias (1) Hidrolíticas, (2) Fermentativas Acidogénicas, (3) Acetogénicas, (4) Metanóge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ducto fi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teria orgánica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N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2f17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Factores que controlan la Digestión Anaeróbica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iempo de 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osición Química del agua serv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etencia de las bacterias metanógenas con las sulfato redu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óxicos: 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amonio, hidrocarburos clorados, ácidos volátiles, metales pesados, cianuros, sulfuros, taninos, salinidad,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133720"/>
            <a:ext cx="79246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i)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Hidrólisis bacteriana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ateria orgánica comple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(ii)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Fermentación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onóm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acetogénica bacteriana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Glucosa, Aminoácidos, Acidos Gr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Bacterias acetogénicas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Acidos orgánicos, Alcoholes y Cet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Acetato y CO2 + H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(iii)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Metanógenos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Metano, CO2, H2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cc66"/>
                </a:solidFill>
                <a:latin typeface="Arial"/>
              </a:rPr>
              <a:t>(i y ii)  Etapas No metanogénica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sz="1800" spc="-1" strike="noStrike">
                <a:solidFill>
                  <a:srgbClr val="ff9900"/>
                </a:solidFill>
                <a:latin typeface="Arial"/>
              </a:rPr>
              <a:t>(iii)    Etapa metanogé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763120" y="2286000"/>
            <a:ext cx="0" cy="266688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4495680"/>
            <a:ext cx="72392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066320" y="2209680"/>
            <a:ext cx="76964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09680"/>
            <a:ext cx="0" cy="2286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4956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5029200"/>
            <a:ext cx="72392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c66"/>
                </a:solidFill>
                <a:latin typeface="Comic Sans MS"/>
              </a:rPr>
              <a:t>1. Hidrólisis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. Alta concentración de bacterias anaerobias facultativas “proteolíticas”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- 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, de los géneros </a:t>
            </a:r>
            <a:r>
              <a:rPr b="0" i="1" lang="es-ES_tradnl" sz="2200" spc="-1" strike="noStrike">
                <a:solidFill>
                  <a:srgbClr val="ffffff"/>
                </a:solidFill>
                <a:latin typeface="Comic Sans MS"/>
              </a:rPr>
              <a:t>Clostridium, Bacteriodes,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y algunas formas cocáceas que generan proteasas extracelulares que hidrolizan las proteínas en polipéptidos y aminoácidos, los que posteriormente son asimilados al interior de la célu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Existen también bacterias lipolíticas anaerobias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-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 que hidrolizan los lípidos a ácidos grasos orgánicos de cadena cor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Bacterias celulolíticas anaerobias estrictas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 que degradan la celulosas y hemicelulosa a almid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Estas asociaciones bacterianas se conocen por su funcionalidad, ya que son difíciles de aislar y cultivar por métodos convencion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c66"/>
                </a:solidFill>
                <a:latin typeface="Comic Sans MS"/>
              </a:rPr>
              <a:t>2. Formación de ácidos orgánicos. 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En esta etapa se produce un gran incremento de bacterias anaerobias estrictas no metanogénicas (10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8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-10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10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De taxonomía compleja y poco conocida (bacilos gram negativos no esporu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Productos de su metabolismo son variados: ácidos orgánicos, CO</a:t>
            </a:r>
            <a:r>
              <a:rPr b="0" lang="es-ES_tradnl" sz="22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, amoníaco, alcoholes, cetonas, H</a:t>
            </a:r>
            <a:r>
              <a:rPr b="0" lang="es-ES_tradnl" sz="22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Compuesto de vida media muy corta ya que son rápidamente recic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También se encuentran bacterias sulfato reductoras, que generan H2S, gas corrosiva, que tiene la ventaja de insolubilizar los met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Comic Sans MS"/>
              </a:rPr>
              <a:t>3. Generación de Metano.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Gran concentración de bacterias metanogénicas exclusivas (10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8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- 10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10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ml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-1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) anaerobias extrictas, del grupo de las Arqu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Usan como fuente de carbono CO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, CH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OOH, HCO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Son bacterias extremadamente sensibles a trazas de O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Su fisiología poco conocid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íficiles de cultivar y ais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Requerimientos ambientales de desarrollo muy estri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Ver Tabla ane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Procesos Metabólicos de generación de Met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Fermentación: 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oxido-reducción de acidos orgá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3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-COOH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        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4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CO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ffcc00"/>
                </a:solidFill>
                <a:latin typeface="Arial Narrow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Respiración anaeróbica: 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de sustratos inorgánicos redu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O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4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cc3300"/>
                </a:solidFill>
                <a:latin typeface="Arial Narrow"/>
              </a:rPr>
              <a:t>                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4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2 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O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ffcc00"/>
                </a:solidFill>
                <a:latin typeface="Arial Narrow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58128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502920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%5BMethanobacterium%2520thermoautotrophicum%5D%2520%5BTGCTGCTGCTC%5D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3276360" cy="3265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Bacterias Productoras de Met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Bacterias ancestrales específicas de sus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etato : </a:t>
            </a: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se conocen solo 3 especies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M. barkeri, M. mazei,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M. soehngen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/H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: 27 e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tros sustr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Metanol 13, Metilaminas 3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Monóxido de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Carbono 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ormato 1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No usan 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/H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3 espe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Introducción al Tratamiento de L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876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Un lodo de aguas servidas es el producto de la decantación de los sólidos y está compuesto de lodos primarios y secund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ontenido de sólidos totales bajo (1-2%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ontenido de material biodegradable muy alto (DBO 10 g/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De ahí que el tratamiento aeróbico sea muy cost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 Narrow"/>
              </a:rPr>
              <a:t>Requisitos ambientales para el desarrollo de las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Arial Narrow"/>
              </a:rPr>
              <a:t>bacterias del Met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447920"/>
            <a:ext cx="7543800" cy="84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Oxígeno libre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u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pH óptimo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6.8 - 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Relación C:N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20 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Temperatura: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Mesófilos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25-25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Termófilos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45 - 55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lcalinidad (CaCO</a:t>
            </a:r>
            <a:r>
              <a:rPr b="1" lang="es-ES_tradnl" sz="2400" spc="-1" strike="noStrike" baseline="-25000">
                <a:solidFill>
                  <a:srgbClr val="ffcc66"/>
                </a:solidFill>
                <a:latin typeface="Arial Narrow"/>
              </a:rPr>
              <a:t>3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)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1500 - 3000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cidos Volátiles (CH</a:t>
            </a:r>
            <a:r>
              <a:rPr b="1" lang="es-ES_tradnl" sz="2400" spc="-1" strike="noStrike" baseline="-25000">
                <a:solidFill>
                  <a:srgbClr val="ffcc66"/>
                </a:solidFill>
                <a:latin typeface="Arial Narrow"/>
              </a:rPr>
              <a:t>3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COOH)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&lt; 1000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Metales pesados: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&lt; 1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Cd-Ni-Cu-Pb-Zn-Cr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ARACTERÍSTICAS MICROBI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41280" y="1295280"/>
          <a:ext cx="6419880" cy="4799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1280" y="1295280"/>
                    <a:ext cx="641988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ARACTERÍSTICAS MICROBI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1144440"/>
          <a:ext cx="7226280" cy="5408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4440"/>
                    <a:ext cx="722628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REMOCIÓN DE PATÓ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cterias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0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orden mag.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0 - 99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- 2  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tooz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0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.5 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Tratamiento de Aguas Servidas en Chile*</a:t>
            </a:r>
            <a:br>
              <a:rPr sz="2800"/>
            </a:b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Cobertura Nacional: 71,6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gión    Plantas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oblación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anead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 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1,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I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8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II Región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77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V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6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82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79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66720" y="1752120"/>
            <a:ext cx="4876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gión       Plantas   Poblac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        Sanead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         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3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7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X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4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56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71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1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0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R. M.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4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   74,6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7848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5638680"/>
            <a:ext cx="77724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30840" y="586728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Times New Roman"/>
              </a:rPr>
              <a:t>*SISS Dic.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0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mposición de un Lodo de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 -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BO5 mg/L-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00 - 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T 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-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umedad 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5 -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V  % S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0 - 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sas % S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5 -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Composición de un Lodo de aguas servidas </a:t>
            </a:r>
            <a:r>
              <a:rPr b="1" lang="es-ES_tradnl" sz="2800" spc="-1" strike="noStrike">
                <a:solidFill>
                  <a:srgbClr val="ffcc66"/>
                </a:solidFill>
                <a:latin typeface="Comic Sans MS"/>
              </a:rPr>
              <a:t>(peso se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teín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28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ípido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9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olisacárido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elulosa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4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emicelulos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3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ignin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9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6201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 muy utilizado para estabilizar lodos de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rresponde a una serie de procesos biológicos que transforman la materia orgánica en metano (C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y dióxido de carbono (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reducen los sólidos volátiles entre 30% -  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Esquema de un Digestor Anaerób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digestor" descr=""/>
          <p:cNvPicPr/>
          <p:nvPr/>
        </p:nvPicPr>
        <p:blipFill>
          <a:blip r:embed="rId1"/>
          <a:stretch/>
        </p:blipFill>
        <p:spPr>
          <a:xfrm>
            <a:off x="2057400" y="1909800"/>
            <a:ext cx="5029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99"/>
                </a:solidFill>
                <a:latin typeface="Times New Roman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No se requiere oxígeno libre. Los organismos degradan la materia orgánica en usando el oxígeno combinado en el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Proceso menos costoso, no requiere suministro de O</a:t>
            </a:r>
            <a:r>
              <a:rPr b="1" lang="es-ES_tradnl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Significativa disminución del volumen del lodo estabilizado (3-20 veces menos que los procesos aeróbicos). 50% gas en proceso anaeróbic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5% del carbono orgánico es transformado en biomasa, en el aeróbico, el 50% pasa a biomas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sminuye el volumen del lodo en un 40 - 50% por formación de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50 - 55% Metano (C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40 - 45% Dióxido de Carbono (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razas de N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produce un gas de alto poder calorífico METANO ( 9.000 kcal/m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e la D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epta altas cargas de DQO, es apta para R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eserva la actividad microbiana ante operación dis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ede degradar xenobióticos y orgánicos naturales recalcit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2:37:46Z</dcterms:created>
  <dc:creator>Gabriela Castillo</dc:creator>
  <dc:description/>
  <dc:language>en-US</dc:language>
  <cp:lastModifiedBy>Gabriela Castillo</cp:lastModifiedBy>
  <dcterms:modified xsi:type="dcterms:W3CDTF">2004-11-09T08:29:36Z</dcterms:modified>
  <cp:revision>8</cp:revision>
  <dc:subject/>
  <dc:title> Tratamiento de Lodos</dc:title>
</cp:coreProperties>
</file>