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4A2F-D05E-4661-8AF8-9978DD64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30A-40A1-4BA3-ACAA-7E1C8B55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98C-6D9B-4AC4-9840-742A1CD3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05F-1023-4481-8F3F-8CBE1670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95D-DF37-44C0-9CC0-73356021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A7B0-108B-458E-9E41-5A546972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CCBF-C5BB-4C1A-A7B0-8EAC56D3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658-5E99-485E-A348-5502ED53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FDD-56BD-4E5C-B1BD-1978B0A7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1EE-E4E5-46FE-B6FA-FC30139E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1A9-33F7-4E78-A6E4-CF26D673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728-262D-478B-851C-BC09B38C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120E-73A2-44BB-AC2E-4F6974DEEAA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 de transmis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aliza el transporte de energía y potencia entre puntos de la red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mple estándares de confi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orciona además otros servicios, distintos del transporte, llamados servicios de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F1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4008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F1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4008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F2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628488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1219320"/>
            <a:ext cx="1676160" cy="157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3048120"/>
            <a:ext cx="243828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3200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1219320"/>
            <a:ext cx="2361960" cy="1523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144792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4800600"/>
            <a:ext cx="23623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4800600"/>
            <a:ext cx="23623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49528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terci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190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1219320"/>
            <a:ext cx="1905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cia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3048120"/>
            <a:ext cx="2666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Frecuencia *generación á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Flujos   interárea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48006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cia por despach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971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971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2971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2971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GULACION DE FRECUENCIA  PRIM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ividual por unidad generad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sada en la frecuencia o velocidad y en el reg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 auto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iene error perman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GULACION DE FRECUENCIA SECUND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sistémica:  considera varias unidades, un área o un en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ede ser manual  o automát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más lenta que la primaria(T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10 se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bjetiv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)  recuperar reserva para regulacion primaria (seguimiento de carg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) llevar error permanente a 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g. Secund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oma de carga de algunas unid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requiere corregir la potencia en las unidades regulantes en un mon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=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(Pi-Pi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i0 centro de la banda de regulacion prim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i potencia actual en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sada en restablecer banda de regulación prim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distribuye según factores de particip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= Fj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   tal que  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j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min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max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DE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QUE CADA SUBSISTEMA  CONTROLE SU EQUILIBRIO GENERACION-DEMANDA                        ( REGULACION SECUNDARIA)          EN FORMA INDEPENDINTE DE LOS INTERCAMB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C: CONTROL AUTOMATICO DE GENER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INTERNA PERMITE AGC DE CADA AREA O DE CAD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INTERAREA .EL SERVICIO AGC PUEDE SER INTEGRADO A NIVEL DE AREAS DISTINTAS: CASO DE EMPRESAS CON UNIDADES REPARTI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 enfoques princip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servicios proporcionados por la red de transmi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servicios entregados por los participantes del sistema y administrados por el operador independiente del sistema (IS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IZACION DE 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TENSION A UNIDADES TERMICAS  DESENERGIZADAS, PERMIT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AR LOS SERVICIOS AUX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ARTIDA DE LAS TURB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el principal servicio de la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energía a nudos donde producir es más caro o no es po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intercambio entre gener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intercambio entre áreas o subsis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OYO DE EMER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TRANSFERENCIAS DE ENERGIA EN CASO DE FALLAS DE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 UN AUMENTO SIGNIFICATIVO DE LA CONFI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EMPLAZA LAS REGULACIONES DE TENSION Y FRECUENCIA SI FALLAN LAS UNIDADES A 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OYO DINA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FALLAN UNIDADES O LINEAS, LA FRECUENCIA DISMINU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FLUJOS SE ADAPTAN DE MODO DE CONTROLAR LA FRECUENCIA EN FORMA REMO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CASO DE INESTABILIDAD, LA INERCIA EQUIVALENTE SE VE AUMENTADA POR LA CONEX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IOS DE R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SA PROPIETARIA DE LA RED REALIZA ACTIVIDADES CON VALOR ECONOMICO PARA OTROS PARTICIPANTES D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IOS: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NDARIOS:VARIOS O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IOS DE 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ED PERMITE QUE SE DESARROLLEN LOS SERVICIOS NECESARIOS PARA OPERAR COMO SIST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ONECTA:                                       - CENTRALES-CONSUMOS                       -CENTRAL-CENTRAL                               -CONSUMO-CONSU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IOS PRINCIPALE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SISTEMA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COMUN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PROT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 DE ENER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CION DE T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CION DE FRECU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D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IZACION DE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AMBIOS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YO DINA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S ONDA PORTADORA Y FIBRA O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O INFORM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MEDIDA Y TELE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CCION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ALDO DE PROTECCIONES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DORES Y TRANSFORMADORES DE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QUEO DE PROPAGACION DE FALLAS:  ESTABILIDA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IONES DE DISTANCIA, DE SOBRECARGA, DIFERENCI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ON DE 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ED ENTREGA O ABSORBE POTENCIA REACTIVA DE LAS CENTRALES Y DE LOS CONSUM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INISTRA O ABSORBE POTENCIA REA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E POTENCIA REACTIVA POSITIVA O NEG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ON DE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QUE LA REGULACION SE TRANSMITA DE UN NUDO A OTRO:                                       REDUCE COSTOS DE REGULAR CON UNIDADES PROP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IERE LA CALIDAD DE FRECUENCIA A TODO 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 EVENTUALMENTE PERJUDICAR A UNIDADES NO PERTURB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4:19:43Z</dcterms:created>
  <dc:creator>Depto. Ingeniería Eléctrica</dc:creator>
  <dc:description/>
  <dc:language>en-US</dc:language>
  <cp:lastModifiedBy>omoya</cp:lastModifiedBy>
  <dcterms:modified xsi:type="dcterms:W3CDTF">2003-11-18T13:03:07Z</dcterms:modified>
  <cp:revision>13</cp:revision>
  <dc:subject/>
  <dc:title>SERVICIOS DE RED</dc:title>
</cp:coreProperties>
</file>