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A2F-F675-41A7-9F0D-C25D1F1B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2E5-4D89-493F-BA4F-7668947D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BD4-C869-4F97-8DC3-E73BA9EC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36D-4268-4ED3-9E44-4FAA780A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A32-A805-471C-9B6B-B5963437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8FD-4D80-48BD-90B0-92A6FBF6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BC1-2B56-48D8-A746-853329BA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B1A-4DFF-454A-93C7-A71218E7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7C5-A631-4DD7-AA90-EAA70697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988D-EFDA-4126-A56D-79847929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722-731B-4978-8D9D-3A3093DB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834-94FC-4C95-AECE-C7A5BFA7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5CC5-87DD-420C-84A2-D9327AE62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2760" y="1049040"/>
            <a:ext cx="868464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Para distribuir arealmente las precipitaciones en una cue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a, se utilizan de preferencia el método de los Polígon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Thiessen y el Trazado de Isoy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olígonos de Thie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ubican las estaciones en la cartografía disponible y se tr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la divisoria de aguas de la cuen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trazan rectas que unan las estaciones meteorológicas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hoya hidrográ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levantan las transversales de gravedad de cada rec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intersectan las transversales de manera que se generen p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lígonos que encierren a las distintas estacion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asigna a dichos polígonos la precipitación de la estación re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pec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oligonos_de_Thyessen2" descr=""/>
          <p:cNvPicPr/>
          <p:nvPr/>
        </p:nvPicPr>
        <p:blipFill>
          <a:blip r:embed="rId1"/>
          <a:stretch/>
        </p:blipFill>
        <p:spPr>
          <a:xfrm>
            <a:off x="1143000" y="1355760"/>
            <a:ext cx="7010280" cy="5030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2640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9360" y="9133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Polígonos de Thie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920" y="1628280"/>
            <a:ext cx="849708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razado de Isoy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denomina isoyeta a la línea que une los puntos con ig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precipita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en base a los antecedentes de las estaciones meteorológica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mediante interpolación, se trazan las isoyetas sobre la cuen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asigna al área encerrada por dos isoyetas la media aritmét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ca de é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Este es el método más utilizado y que distribuye de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forma las precipitaciones sobre una cuenca en estu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1840" y="287856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Es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559320" y="304920"/>
          <a:ext cx="474660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9320" y="304920"/>
                    <a:ext cx="47466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2400" y="265032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Trazado de Isoy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09840" y="304920"/>
          <a:ext cx="488016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9840" y="304920"/>
                    <a:ext cx="488016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0:05:17Z</dcterms:created>
  <dc:creator>Carlos Parraguez D</dc:creator>
  <dc:description/>
  <dc:language>en-US</dc:language>
  <cp:lastModifiedBy>Carlos Parraguez D</cp:lastModifiedBy>
  <dcterms:modified xsi:type="dcterms:W3CDTF">2004-08-30T20:05:35Z</dcterms:modified>
  <cp:revision>1</cp:revision>
  <dc:subject/>
  <dc:title>Presentación de PowerPoint</dc:title>
</cp:coreProperties>
</file>